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B5B-A2D5-421E-B403-052B0DD9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029-6400-4BEF-965A-6D1C662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E81-D550-491D-839C-847E5874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41B-3BB9-4E22-A0B1-EE00F10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D7A-6424-4B64-B728-DF22E1E1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2C3-8D8E-4EBB-A115-87CE5697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32C-A77F-4263-BC6C-67ACBD22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21-5F9F-4598-8DD0-8DA1154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E6C-40ED-4492-ACFB-E28A99D0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13D-CF41-47B7-A0D6-B71F941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040-FDB8-4E41-8F5B-77BB42B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131-3929-447F-A674-BB9A6A2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F24-04CD-4DE0-A9D5-C87783064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in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e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24:16Z</dcterms:modified>
  <cp:revision>23</cp:revision>
  <dc:subject/>
  <dc:title>John</dc:title>
</cp:coreProperties>
</file>