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24A-F41B-4FE3-983F-B0990869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AF3-2F47-4773-852C-D7EC5A93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EA0-0576-4E95-B52D-7E21CA86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205-19DC-4913-9002-DADC3A90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6C6-088A-46CE-BFD7-3628612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4F8-A676-466E-A5C0-61E0904C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ED9-9F95-4DDE-8ECE-5B1152C9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8E0-C85A-4593-897B-1867EB0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EAF-072D-4C8A-AB76-EA4A69D0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286-07E1-4EDF-886C-DF0A77F8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D74-1791-4B9D-B56C-44BABB7B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72F-D81B-4666-A0A1-AB341F5A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A985-9E8C-44DA-A023-736897318F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ein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10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eh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2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zwei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3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drei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4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vier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5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fün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6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ech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7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siebe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8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acht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0" y="-27000"/>
            <a:ext cx="91440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500" spc="-1" strike="noStrike">
                <a:solidFill>
                  <a:srgbClr val="660066"/>
                </a:solidFill>
                <a:latin typeface="Comic Sans MS"/>
              </a:rPr>
              <a:t>9</a:t>
            </a:r>
            <a:endParaRPr b="0" lang="en-US" sz="3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5013360"/>
            <a:ext cx="9144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000000"/>
                </a:solidFill>
                <a:latin typeface="Comic Sans MS"/>
              </a:rPr>
              <a:t>ne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9:16:46Z</dcterms:created>
  <dc:creator>Samuel Pickering</dc:creator>
  <dc:description/>
  <dc:language>en-US</dc:language>
  <cp:lastModifiedBy>Clare Seccombe</cp:lastModifiedBy>
  <dcterms:modified xsi:type="dcterms:W3CDTF">2018-12-07T17:24:16Z</dcterms:modified>
  <cp:revision>23</cp:revision>
  <dc:subject/>
  <dc:title>John</dc:title>
</cp:coreProperties>
</file>