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90F-78A9-435A-938D-0E516E09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F21-C71A-419B-97A6-77D7D7DC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152-AC43-4D90-A31C-2EA2C62B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F84-B432-4A68-912A-3CB8B014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DE9-D69C-4C6D-A3FF-00B8578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D2C-8A92-4B4B-9A3F-CAB4BF6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755-F31E-4DBF-A5B3-14511E6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C83-E1CA-4E08-B0D4-6ADAD60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C8B-D652-4404-992A-793FC81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421-04DE-4000-8866-26216DF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996-EE2B-4643-B9E2-5CFFFCC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9CF-5F99-4913-A5B6-0762254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0F2-9834-4389-8F11-75F8C2D5E2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in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ö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anzig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e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31:23Z</dcterms:modified>
  <cp:revision>24</cp:revision>
  <dc:subject/>
  <dc:title>John</dc:title>
</cp:coreProperties>
</file>