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13E-5047-4BB8-9810-000DCE39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EC7-35AD-41E0-A124-D43F8B3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531-6237-474D-A6F4-0323B37D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454-6A16-4C5F-AC93-5F050420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7B7-E90C-4A39-A3B8-7A08E43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396-B833-40C7-91A7-92755E9E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EFD-4F90-4343-822A-D91F7698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3BA-360C-45E9-9DC3-DEAFAC2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1B2-E4BB-4A41-9C26-0EBE4BC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547-A763-4F28-A256-296D079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679-E0BB-42E9-9610-1BAE546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C26-DB17-49C6-AADB-F3E2E51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899-BE14-476D-9D70-9DFF32597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in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ö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anzig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e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31:23Z</dcterms:modified>
  <cp:revision>24</cp:revision>
  <dc:subject/>
  <dc:title>John</dc:title>
</cp:coreProperties>
</file>