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A4B-FC25-4544-8E65-1A7E7308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B90-0162-4106-A567-18968C97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93A-3F2E-4229-B007-257A46B3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3FB-BB1F-412A-BA9C-C667611C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72E-34BE-4B51-9B96-FCB90B95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233-05CF-4240-A4F6-A4A34C07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AA7-AA04-4E51-87A8-F0BDF46E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3C8-5BCA-4FAF-8AC0-C79A1B53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9E0-6CF2-4FFB-9E90-F2937468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527-5052-4A3B-9C64-223A26B6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DBA-CE98-4801-92B8-8D0AB84B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DAAC-1C76-401F-AEB4-7BD170A8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F00F-04EF-4A44-9640-0CA3EC9EAA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ff0000"/>
                </a:solidFill>
                <a:latin typeface="Comic Sans MS"/>
              </a:rPr>
              <a:t>rot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0" y="17733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0000"/>
                </a:solidFill>
                <a:latin typeface="Comic Sans MS"/>
              </a:rPr>
              <a:t>schwarz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993300"/>
                </a:solidFill>
                <a:latin typeface="Comic Sans MS"/>
              </a:rPr>
              <a:t>braun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ff6600"/>
                </a:solidFill>
                <a:latin typeface="Comic Sans MS"/>
              </a:rPr>
              <a:t>orange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4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ff00"/>
                </a:solidFill>
                <a:latin typeface="Comic Sans MS"/>
              </a:rPr>
              <a:t>grün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0070c0"/>
                </a:solidFill>
                <a:latin typeface="Comic Sans MS"/>
              </a:rPr>
              <a:t>blau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7030a0"/>
                </a:solidFill>
                <a:latin typeface="Comic Sans MS"/>
              </a:rPr>
              <a:t>lila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d60093"/>
                </a:solidFill>
                <a:latin typeface="Comic Sans MS"/>
              </a:rPr>
              <a:t>rosa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4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0" y="1773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0" spc="-1" strike="noStrike">
                <a:solidFill>
                  <a:srgbClr val="404040"/>
                </a:solidFill>
                <a:latin typeface="Comic Sans MS"/>
              </a:rPr>
              <a:t>grau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7:53:17Z</dcterms:modified>
  <cp:revision>23</cp:revision>
  <dc:subject/>
  <dc:title>John</dc:title>
</cp:coreProperties>
</file>