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BF05-B67F-43EB-87E8-BA57B2694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09BE-217D-41B2-8F6C-97AB20F47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74D1-C8D7-47A4-96E2-ACAC75CBF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9754-01C7-470C-A263-B9364277B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053B-5432-456D-8392-38081E1FE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7454-A4C0-438F-B14D-D2E1DEEC5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A55E-0728-486D-A8CE-3EB7FFFA5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4371-DBE8-437A-B9FE-D87670D21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8AD8-6954-4A3F-BB40-3CD8A29E0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25F5-AC28-4B1B-88C7-876A651A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759D-BD86-4CFB-96FE-F2CE8651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E570-7B7E-4D5F-87C5-D37671CE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a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E2B8A-A9AE-4F15-AE2D-7EB6BB3886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a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4032360" cy="3025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572000" y="3213000"/>
            <a:ext cx="4230720" cy="31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5:04:17Z</dcterms:created>
  <dc:creator>THarris544</dc:creator>
  <dc:description/>
  <dc:language>en-US</dc:language>
  <cp:lastModifiedBy>THarris544</cp:lastModifiedBy>
  <dcterms:modified xsi:type="dcterms:W3CDTF">2008-10-21T15:04:36Z</dcterms:modified>
  <cp:revision>1</cp:revision>
  <dc:subject/>
  <dc:title>Slide 1</dc:title>
</cp:coreProperties>
</file>