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20B-61D1-4390-A6DE-F3C60128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CD5-570B-47BA-9DF6-59003286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55E-D509-430F-BEB3-60014FCE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305-83C8-4501-BB36-D307F616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FE3-2DAD-4065-96E4-257116F6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49D-F58D-4078-8043-1B9F9ADF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56D-CE8C-44D0-8355-109C403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B8F-3E3D-4E7A-BD29-AA60EF37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245-D87E-4CA0-9488-F40FC32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4E1-B5FB-47C9-B2C3-D66BEB9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BFC-165D-43D4-93FB-0C5508C0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134-D0BE-4AC0-808F-D016DE22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4D1-3E6F-4C4A-AE49-98770C5A1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2307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04:17Z</dcterms:created>
  <dc:creator>THarris544</dc:creator>
  <dc:description/>
  <dc:language>en-US</dc:language>
  <cp:lastModifiedBy>THarris544</cp:lastModifiedBy>
  <dcterms:modified xsi:type="dcterms:W3CDTF">2008-10-21T15:04:36Z</dcterms:modified>
  <cp:revision>1</cp:revision>
  <dc:subject/>
  <dc:title>Slide 1</dc:title>
</cp:coreProperties>
</file>