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D02-F865-4560-AE41-224A3452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9F4-F44B-422E-BF8B-73A16ACC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9FC-744A-4807-85DB-45F5E538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69A-6141-417D-9468-1EA33653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B098-DC4B-46B3-B56C-9B760898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F6A7-9CD8-4986-81EF-0B4297EF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4EF0-5AF2-499C-A780-79A2ED08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58F2-DD81-4BA8-BA1B-31553A4C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A846-30F6-4138-9B83-600B9D11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D4F7-26CD-4A35-9AC2-FBF19C28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C704-7E61-402D-AA74-B5C7D4E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0DB-8EED-4796-9FB3-F3E917B9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0089-D50C-435A-B311-E744863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DC44-EA4D-4372-9F6B-96046426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F07E-EC79-4A52-BC5E-7B0D552D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B2E8-C462-498B-840C-FD60927C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BCFD-BCFF-41E9-93C4-FF9F78FE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58C-175C-4DF6-9807-9D1A4B7F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B53-862D-4A21-8EC6-2FFD42B6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A5F-4FBF-4F10-9DC9-EDF95A0E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AD0-6133-4B01-9448-84F74CB8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A35-BC13-449E-9CE7-DC59587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17B-3567-4EE8-A9AD-EAFCF4BA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72E-4EAC-45F2-B27F-AC592780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D1D3-19C6-4C15-A750-499C885582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A6DE-1207-4AB6-BB25-96ABEA25AB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458640"/>
            <a:ext cx="822960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Wann gibt es Krach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7067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ich zuviel 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fernse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die Musik zu laut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ste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Streit mit meinem Bruder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nd meiner Schwester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ha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zuviel Make-up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t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abends zu s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ä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 nach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use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kom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nicht im Haushalt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hel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schlechte Noten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bekom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-1198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enn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ch mein Zimmer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icht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 aufr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ä</a:t>
            </a: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2708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649116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Rounded MT Bold"/>
              </a:rPr>
              <a:t>©MFL Sunderland 2008 TH </a:t>
            </a:r>
            <a:r>
              <a:rPr b="0" lang="en-US" sz="800" spc="-1" strike="noStrike" u="sng">
                <a:solidFill>
                  <a:srgbClr val="00ccff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Wie ist es bei dir? Wann gibt es Krac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Es gibt Krach, wenn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20:11:40Z</dcterms:created>
  <dc:creator>THarris544</dc:creator>
  <dc:description/>
  <dc:language>en-US</dc:language>
  <cp:lastModifiedBy>Clare</cp:lastModifiedBy>
  <dcterms:modified xsi:type="dcterms:W3CDTF">2008-11-03T11:50:46Z</dcterms:modified>
  <cp:revision>8</cp:revision>
  <dc:subject/>
  <dc:title>Wann gibt es Krach?</dc:title>
</cp:coreProperties>
</file>