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1DC-576B-4E5B-BA16-A072AE68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1D2-CC3E-4B4C-A617-37440C1E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DE0-8816-4EE8-807F-B6A06DF6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7BD-4428-47C6-B9B9-3057ED18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69CB-B8F3-4781-9267-E2B2E8CB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4D14-BD45-42E8-82C7-D3502CD9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100C-EFEF-4656-B00E-FF4CC832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7A83-139D-41CF-B6C1-04F0CF15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7680-803C-4CA4-AC20-4E21E9ED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9129-0430-432C-9C40-CCCBD434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00AD-0FEB-4221-9E45-4C3E42CB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A22-B951-430B-BD06-510207D4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AD7D-0B85-4CC9-859D-D63F4A9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3934-D278-4DD7-879C-FBB6D17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8D51-B465-44AC-A495-935E05D2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570D-054A-4D21-A38A-AE1030AF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9C1E-9788-4F3D-99FE-606E197F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595-42C4-45B9-BF99-D791E5B4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D6A-C8BD-414B-B0FF-25C6D265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E43-2AEA-463E-AE88-1680FDF5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ED1-6508-4326-8F63-EF05B4A5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E72-EB98-42DB-AD7E-770F6B7F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FA6-9C08-48E0-8FAF-8E105B94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F10-C602-4250-B00B-2ECE082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4017-3623-4E0D-B8FE-F9CD052AD6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5F15-7692-4372-BAC5-735DF3F825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458640"/>
            <a:ext cx="822960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Wann gibt es Krach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7067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ich zuviel 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fernse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die Musik zu laut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ste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Streit mit meinem Bruder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nd meiner Schwester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ha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zuviel Make-up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t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abends zu s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ä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 nach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use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kom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nicht im Haushalt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hel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schlechte Noten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bekom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mein Zimmer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icht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aufr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ä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2708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649116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08 TH </a:t>
            </a:r>
            <a:r>
              <a:rPr b="0" lang="en-US" sz="800" spc="-1" strike="noStrike" u="sng">
                <a:solidFill>
                  <a:srgbClr val="00ccff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ie ist es bei dir? Wann gibt es Krac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Es gibt Krach, wenn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20:11:40Z</dcterms:created>
  <dc:creator>THarris544</dc:creator>
  <dc:description/>
  <dc:language>en-US</dc:language>
  <cp:lastModifiedBy>Clare</cp:lastModifiedBy>
  <dcterms:modified xsi:type="dcterms:W3CDTF">2008-11-03T11:50:46Z</dcterms:modified>
  <cp:revision>8</cp:revision>
  <dc:subject/>
  <dc:title>Wann gibt es Krach?</dc:title>
</cp:coreProperties>
</file>