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6EB9-2D5A-449C-AC60-99E908C13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02DC-FDD6-4D63-B4A1-007D19A6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90D6-8A20-4417-94B4-061C93532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8213-EE72-4C1A-920D-5ED341734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0165-80FB-4C0D-9584-C300824E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189B-F0A9-4ECE-82DA-1D24A233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DA64-60E2-4A86-868A-830D4E34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A3A0-4C9D-4512-B055-FDCD6C54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8AF9-27CF-4B91-A758-210B9AC5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260A-2ADA-4B68-BB31-9CEECADD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649F-BCD0-4BD2-B19B-9A21AA4E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C00D-8430-4312-89CD-798116AA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5CE4-C339-4C84-951E-FCBDBC942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ie zehn Gebote: die wichtigsten W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ü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nsche, die Jugendliche an ihre Eltern hab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7280" y="2781000"/>
            <a:ext cx="64008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Eltern sollen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Eltern d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  <a:ea typeface="Arial"/>
              </a:rPr>
              <a:t>ü</a:t>
            </a: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rfen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Beispie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Eltern sollen streng s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Eltern d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  <a:ea typeface="Arial"/>
              </a:rPr>
              <a:t>ü</a:t>
            </a: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rfen ihre Kinder nicht schl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58920" y="6524640"/>
            <a:ext cx="78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2008 TH </a:t>
            </a:r>
            <a:r>
              <a:rPr b="0" lang="en-GB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tern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…</a:t>
            </a: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sollen streng s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…</a:t>
            </a: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sollen ihren Kindern zuh</a:t>
            </a:r>
            <a:r>
              <a:rPr b="0" lang="en-US" sz="2400" spc="-1" strike="noStrike">
                <a:solidFill>
                  <a:srgbClr val="cc00cc"/>
                </a:solidFill>
                <a:latin typeface="Comic Sans MS"/>
                <a:ea typeface="Arial"/>
              </a:rPr>
              <a:t>ö</a:t>
            </a: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…</a:t>
            </a: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cc00cc"/>
                </a:solidFill>
                <a:latin typeface="Comic Sans MS"/>
                <a:ea typeface="Arial"/>
              </a:rPr>
              <a:t>ü</a:t>
            </a: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rfen ihre Kinder nicht schl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…</a:t>
            </a: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sollen nicht zu viel meck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…</a:t>
            </a: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cc00cc"/>
                </a:solidFill>
                <a:latin typeface="Comic Sans MS"/>
                <a:ea typeface="Arial"/>
              </a:rPr>
              <a:t>ü</a:t>
            </a: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rfen die Tageb</a:t>
            </a:r>
            <a:r>
              <a:rPr b="0" lang="en-US" sz="2400" spc="-1" strike="noStrike">
                <a:solidFill>
                  <a:srgbClr val="cc00cc"/>
                </a:solidFill>
                <a:latin typeface="Comic Sans MS"/>
                <a:ea typeface="Arial"/>
              </a:rPr>
              <a:t>ü</a:t>
            </a: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cher ihrer Kinder nicht les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…</a:t>
            </a: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sollen sich um ihre Kinder k</a:t>
            </a:r>
            <a:r>
              <a:rPr b="0" lang="en-US" sz="2400" spc="-1" strike="noStrike">
                <a:solidFill>
                  <a:srgbClr val="cc00cc"/>
                </a:solidFill>
                <a:latin typeface="Comic Sans MS"/>
                <a:ea typeface="Arial"/>
              </a:rPr>
              <a:t>ü</a:t>
            </a: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mm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…</a:t>
            </a: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cc00cc"/>
                </a:solidFill>
                <a:latin typeface="Comic Sans MS"/>
                <a:ea typeface="Arial"/>
              </a:rPr>
              <a:t>ü</a:t>
            </a: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ssen nicht ewig jung s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…</a:t>
            </a: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sollen mit ihren Kindern </a:t>
            </a:r>
            <a:r>
              <a:rPr b="0" lang="en-US" sz="2400" spc="-1" strike="noStrike">
                <a:solidFill>
                  <a:srgbClr val="cc00cc"/>
                </a:solidFill>
                <a:latin typeface="Comic Sans MS"/>
                <a:ea typeface="Arial"/>
              </a:rPr>
              <a:t>ü</a:t>
            </a: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ber Probleme r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…</a:t>
            </a: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sollen zusammenblei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…</a:t>
            </a: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cc00cc"/>
                </a:solidFill>
                <a:latin typeface="Comic Sans MS"/>
                <a:ea typeface="Arial"/>
              </a:rPr>
              <a:t>ü</a:t>
            </a: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rfen ihre Kinder niemals vor anderen Leuten kritisier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ie wollen Ihren Eltern verbieten, in Ihr Zimmer zu kommen. 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ä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len Sie aus den folgenden 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ä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zen das strengs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rbot aus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A. Ihr d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  <a:ea typeface="Arial"/>
              </a:rPr>
              <a:t>ü</a:t>
            </a: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rft nicht in mein Zimmer komm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B. Ihr m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  <a:ea typeface="Arial"/>
              </a:rPr>
              <a:t>ü</a:t>
            </a: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sst nicht in mein Zimmer komm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C. Ihr k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  <a:ea typeface="Arial"/>
              </a:rPr>
              <a:t>ö</a:t>
            </a: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nnt nicht in mein Zimmer komm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as 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ü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fen/sollen/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ü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sen Lehrer und Lehrerinnen (nicht) tun? Schreiben Sie zehn Gebote f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ü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 Lehrer!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07552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eispiel: </a:t>
            </a:r>
            <a:r>
              <a:rPr b="0" lang="en-GB" sz="3200" spc="-1" strike="noStrike">
                <a:solidFill>
                  <a:srgbClr val="99cc00"/>
                </a:solidFill>
                <a:latin typeface="Comic Sans MS"/>
              </a:rPr>
              <a:t>Lehrer sollen humorvoll s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20:16:21Z</dcterms:created>
  <dc:creator>THarris544</dc:creator>
  <dc:description/>
  <dc:language>en-US</dc:language>
  <cp:lastModifiedBy>Clare</cp:lastModifiedBy>
  <dcterms:modified xsi:type="dcterms:W3CDTF">2008-11-03T11:45:17Z</dcterms:modified>
  <cp:revision>10</cp:revision>
  <dc:subject/>
  <dc:title>Die zwölf Gebote: die wichtigsten Wünsche, die Jugendliche an ihre Eltern haben</dc:title>
</cp:coreProperties>
</file>