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D34A-31AA-4A70-8972-38655684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D86E-C40D-47B6-85F5-79E1791F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50FB-E3A1-4187-892D-4A5AD176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5D77-7A73-4E7E-B0CB-571B9B01F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E324-4E46-4128-BA92-61E60115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990B-6F26-4C09-B096-BFEEA59E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7649-0DC0-49B9-8C01-12AE877A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7AA5-6809-478A-A29A-0BC8C3FF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43E6-6BFE-4A83-B6BE-4423D8D3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846E-F280-48F9-9F12-6C587588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DFD6-91F7-4EDA-BD82-5F7C41BA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5D43-8833-417E-8422-D7FDCF4A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12F9-EC2F-45EF-8ED2-C4B3038F8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ie zehn Gebote: die wichtigsten W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ü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nsche, die Jugendliche an ihre Eltern hab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2781000"/>
            <a:ext cx="64008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Eltern sollen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Eltern d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ü</a:t>
            </a: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rfen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Beispie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Eltern sollen streng s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Eltern d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ü</a:t>
            </a: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rfen ihre Kinder nicht schl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6524640"/>
            <a:ext cx="78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2008 TH </a:t>
            </a:r>
            <a:r>
              <a:rPr b="0" lang="en-GB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tern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…</a:t>
            </a: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sollen streng s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…</a:t>
            </a: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sollen ihren Kindern zuh</a:t>
            </a:r>
            <a:r>
              <a:rPr b="0" lang="en-US" sz="2400" spc="-1" strike="noStrike">
                <a:solidFill>
                  <a:srgbClr val="cc00cc"/>
                </a:solidFill>
                <a:latin typeface="Comic Sans MS"/>
                <a:ea typeface="Arial"/>
              </a:rPr>
              <a:t>ö</a:t>
            </a: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…</a:t>
            </a: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cc00cc"/>
                </a:solidFill>
                <a:latin typeface="Comic Sans MS"/>
                <a:ea typeface="Arial"/>
              </a:rPr>
              <a:t>ü</a:t>
            </a: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rfen ihre Kinder nicht schl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…</a:t>
            </a: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sollen nicht zu viel meck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…</a:t>
            </a: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cc00cc"/>
                </a:solidFill>
                <a:latin typeface="Comic Sans MS"/>
                <a:ea typeface="Arial"/>
              </a:rPr>
              <a:t>ü</a:t>
            </a: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rfen die Tageb</a:t>
            </a:r>
            <a:r>
              <a:rPr b="0" lang="en-US" sz="2400" spc="-1" strike="noStrike">
                <a:solidFill>
                  <a:srgbClr val="cc00cc"/>
                </a:solidFill>
                <a:latin typeface="Comic Sans MS"/>
                <a:ea typeface="Arial"/>
              </a:rPr>
              <a:t>ü</a:t>
            </a: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cher ihrer Kinder nicht les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…</a:t>
            </a: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sollen sich um ihre Kinder k</a:t>
            </a:r>
            <a:r>
              <a:rPr b="0" lang="en-US" sz="2400" spc="-1" strike="noStrike">
                <a:solidFill>
                  <a:srgbClr val="cc00cc"/>
                </a:solidFill>
                <a:latin typeface="Comic Sans MS"/>
                <a:ea typeface="Arial"/>
              </a:rPr>
              <a:t>ü</a:t>
            </a: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mm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…</a:t>
            </a: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cc00cc"/>
                </a:solidFill>
                <a:latin typeface="Comic Sans MS"/>
                <a:ea typeface="Arial"/>
              </a:rPr>
              <a:t>ü</a:t>
            </a: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ssen nicht ewig jung s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…</a:t>
            </a: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sollen mit ihren Kindern </a:t>
            </a:r>
            <a:r>
              <a:rPr b="0" lang="en-US" sz="2400" spc="-1" strike="noStrike">
                <a:solidFill>
                  <a:srgbClr val="cc00cc"/>
                </a:solidFill>
                <a:latin typeface="Comic Sans MS"/>
                <a:ea typeface="Arial"/>
              </a:rPr>
              <a:t>ü</a:t>
            </a: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ber Probleme r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…</a:t>
            </a: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sollen zusammenblei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…</a:t>
            </a: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cc00cc"/>
                </a:solidFill>
                <a:latin typeface="Comic Sans MS"/>
                <a:ea typeface="Arial"/>
              </a:rPr>
              <a:t>ü</a:t>
            </a: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rfen ihre Kinder niemals vor anderen Leuten kritisier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ie wollen Ihren Eltern verbieten, in Ihr Zimmer zu kommen. 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ä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len Sie aus den folgenden 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ä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zen das strengs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rbot aus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A. Ihr d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  <a:ea typeface="Arial"/>
              </a:rPr>
              <a:t>ü</a:t>
            </a: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rft nicht in mein Zimmer komm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B. Ihr m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  <a:ea typeface="Arial"/>
              </a:rPr>
              <a:t>ü</a:t>
            </a: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sst nicht in mein Zimmer komm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C. Ihr k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  <a:ea typeface="Arial"/>
              </a:rPr>
              <a:t>ö</a:t>
            </a: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nnt nicht in mein Zimmer komm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as 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ü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fen/sollen/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ü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sen Lehrer und Lehrerinnen (nicht) tun? Schreiben Sie zehn Gebote f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ü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 Lehrer!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07552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ispiel: </a:t>
            </a:r>
            <a:r>
              <a:rPr b="0" lang="en-GB" sz="3200" spc="-1" strike="noStrike">
                <a:solidFill>
                  <a:srgbClr val="99cc00"/>
                </a:solidFill>
                <a:latin typeface="Comic Sans MS"/>
              </a:rPr>
              <a:t>Lehrer sollen humorvoll s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20:16:21Z</dcterms:created>
  <dc:creator>THarris544</dc:creator>
  <dc:description/>
  <dc:language>en-US</dc:language>
  <cp:lastModifiedBy>Clare</cp:lastModifiedBy>
  <dcterms:modified xsi:type="dcterms:W3CDTF">2008-11-03T11:45:17Z</dcterms:modified>
  <cp:revision>10</cp:revision>
  <dc:subject/>
  <dc:title>Die zwölf Gebote: die wichtigsten Wünsche, die Jugendliche an ihre Eltern haben</dc:title>
</cp:coreProperties>
</file>