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765-7A17-4854-BFC8-93046EDA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362-B9F2-401D-82D5-22884297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365-7A4D-4D01-98E2-CE333544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D5F-37FE-4DBB-BAE2-4BC188D9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F42-28D2-492D-8414-31E371B2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419-82E0-4469-92FA-0AF49D53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424-275A-4DD7-B795-86A3D936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82E-9366-4BC6-B8B8-37D87591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E9B-B06A-4AC9-9497-7E8526A8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0E3-872D-4B78-B21B-3ACFFD8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7D7-DBFC-4EEA-9C0F-7A3083CA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4D9-8379-41AA-8389-1010F19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7861-AC38-42C9-A770-9E4934AB2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Benimmt man sich im Urlaub anders? </a:t>
            </a:r>
            <a:br>
              <a:rPr sz="2800"/>
            </a:b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Wie benimmt sich ein typischer englischer/deutscher/franz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  <a:ea typeface="Arial"/>
              </a:rPr>
              <a:t>ö</a:t>
            </a: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sischer Tourist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Gibt es Ihrer Meinung nach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  <a:ea typeface="Arial"/>
              </a:rPr>
              <a:t>ü</a:t>
            </a: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berhaupt einen Nationalcharak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6643800"/>
            <a:ext cx="6875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TH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87640" cy="26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3497400" cy="2189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43280" y="4076640"/>
            <a:ext cx="19069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17143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4321080" cy="287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203640" y="3357720"/>
            <a:ext cx="2152440" cy="268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08720" y="3716280"/>
            <a:ext cx="30589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6201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her kommen s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81240" y="1924200"/>
            <a:ext cx="29815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3:15:40Z</dcterms:created>
  <dc:creator>THarris544</dc:creator>
  <dc:description/>
  <dc:language>en-US</dc:language>
  <cp:lastModifiedBy>Clare</cp:lastModifiedBy>
  <dcterms:modified xsi:type="dcterms:W3CDTF">2008-12-10T11:00:54Z</dcterms:modified>
  <cp:revision>9</cp:revision>
  <dc:subject/>
  <dc:title>Benimmt man sich im Urlaub anders? Wie benimmt sich ein typischer englischer/deutscher/französischer Tourist?  Gibt es Ihrer Meinung nach uberhaupt einen Nationalcharakter?</dc:title>
</cp:coreProperties>
</file>