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5656-994B-4DB9-8B0A-CD2A405F2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2EA7-3B10-4708-B0FA-50651A816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6354-3B11-4EBB-9162-F54C114AF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365A-AD75-4000-AC76-D6D91A610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A950-40C9-43FF-94B4-917F4496E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8C64-8FD3-4AD3-AA6B-3BF0DFBD8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A2F9-69C5-44C0-B3A2-26DA76427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E065-AA97-4A1A-A63D-13A8AC265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3993-2F54-4522-868F-296D37DA9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1BF6-E095-4225-B437-503992942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453F-2896-4B11-A3A7-F71B3ED39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48D0-0DC7-4CAE-B904-142A9B5E6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ECF45-B670-4143-ADD4-763F446167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underlandschools.org/mfl-sunderland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cc00"/>
                </a:solidFill>
                <a:latin typeface="Arial"/>
              </a:rPr>
              <a:t>Benimmt man sich im Urlaub anders? </a:t>
            </a:r>
            <a:br>
              <a:rPr sz="2800"/>
            </a:br>
            <a:r>
              <a:rPr b="0" lang="en-GB" sz="2800" spc="-1" strike="noStrike">
                <a:solidFill>
                  <a:srgbClr val="99cc00"/>
                </a:solidFill>
                <a:latin typeface="Arial"/>
              </a:rPr>
              <a:t>Wie benimmt sich ein typischer englischer/deutscher/franz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  <a:ea typeface="Arial"/>
              </a:rPr>
              <a:t>ö</a:t>
            </a:r>
            <a:r>
              <a:rPr b="0" lang="en-GB" sz="2800" spc="-1" strike="noStrike">
                <a:solidFill>
                  <a:srgbClr val="99cc00"/>
                </a:solidFill>
                <a:latin typeface="Arial"/>
              </a:rPr>
              <a:t>sischer Tourist?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99cc00"/>
                </a:solidFill>
                <a:latin typeface="Arial"/>
              </a:rPr>
              <a:t>Gibt es Ihrer Meinung nach 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  <a:ea typeface="Arial"/>
              </a:rPr>
              <a:t>ü</a:t>
            </a:r>
            <a:r>
              <a:rPr b="0" lang="en-GB" sz="2800" spc="-1" strike="noStrike">
                <a:solidFill>
                  <a:srgbClr val="99cc00"/>
                </a:solidFill>
                <a:latin typeface="Arial"/>
              </a:rPr>
              <a:t>berhaupt einen Nationalcharak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68360" y="6643800"/>
            <a:ext cx="687564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Rounded MT Bold"/>
              </a:rPr>
              <a:t>©MFL Sunderland 2008 TH </a:t>
            </a:r>
            <a:r>
              <a:rPr b="0" lang="de-DE" sz="800" spc="-1" strike="noStrike" u="sng">
                <a:solidFill>
                  <a:srgbClr val="009999"/>
                </a:solidFill>
                <a:uFillTx/>
                <a:latin typeface="Arial Rounded MT Bold"/>
                <a:hlinkClick r:id="rId1"/>
              </a:rPr>
              <a:t>http://www.sunderlandschools.org/mfl-sunderland</a:t>
            </a: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3887640" cy="2600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572000" y="1844640"/>
            <a:ext cx="3497400" cy="21891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643280" y="4076640"/>
            <a:ext cx="190692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1714320" cy="38102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484360" y="404640"/>
            <a:ext cx="4321080" cy="2872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3203640" y="3357720"/>
            <a:ext cx="2152440" cy="2685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5508720" y="3716280"/>
            <a:ext cx="305892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7620120" cy="49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her kommen si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081240" y="1924200"/>
            <a:ext cx="2981520" cy="38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2T13:15:40Z</dcterms:created>
  <dc:creator>THarris544</dc:creator>
  <dc:description/>
  <dc:language>en-US</dc:language>
  <cp:lastModifiedBy>Clare</cp:lastModifiedBy>
  <dcterms:modified xsi:type="dcterms:W3CDTF">2008-12-10T11:00:54Z</dcterms:modified>
  <cp:revision>9</cp:revision>
  <dc:subject/>
  <dc:title>Benimmt man sich im Urlaub anders? Wie benimmt sich ein typischer englischer/deutscher/französischer Tourist?  Gibt es Ihrer Meinung nach uberhaupt einen Nationalcharakter?</dc:title>
</cp:coreProperties>
</file>