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FD0-AE7D-4AF7-B0A9-C1A1C8F9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34C-B7F9-4FBA-8D67-4E18534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243-9454-4C44-8830-CBB6F615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F2E-DFF6-4EAF-A8AB-2CFE1AD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1C8-9316-4B06-B585-5737C2F9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707-5C33-41DC-BCD5-208E3FD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7A0-9E0B-4107-83B2-B5AB474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F21-7E60-4E27-90F5-A2388AB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BC9-F608-43FF-9657-AF80318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987-3BA8-4457-BF3B-0545C10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D8C-6AC9-415E-9CA5-8FC9CA7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AE8-6BCD-4FE6-BDB5-DD7F61E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BA2-4442-4878-8446-56E1A44D8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264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17:47Z</dcterms:created>
  <dc:creator>THarris544</dc:creator>
  <dc:description/>
  <dc:language>en-US</dc:language>
  <cp:lastModifiedBy>THarris544</cp:lastModifiedBy>
  <dcterms:modified xsi:type="dcterms:W3CDTF">2008-10-21T15:21:31Z</dcterms:modified>
  <cp:revision>4</cp:revision>
  <dc:subject/>
  <dc:title>Slide 1</dc:title>
</cp:coreProperties>
</file>