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B3F-9B6E-4F89-91B0-2854BA49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3A4-6105-42E3-AF72-C3EC96DB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3FA-DE7A-4AE0-818D-D247F097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613-8BFE-4A37-964D-EB34E0C6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1F3-04A7-447D-8699-B23C4A0D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88C-F9DE-4D90-B06B-FBFF68B2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51D-E2CC-4927-B955-2192A8FB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088-7451-4FF9-BCB4-A23B39F4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F3D-D93C-4485-83F2-EEE60895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7CD-9BDC-43BD-846C-3D7766DF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BB8-1A6B-4993-84A9-B7584833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065-8B46-4C01-B35D-BAEA66AC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471F-F4D1-4DF7-B3C0-DC464BD6F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2643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17:47Z</dcterms:created>
  <dc:creator>THarris544</dc:creator>
  <dc:description/>
  <dc:language>en-US</dc:language>
  <cp:lastModifiedBy>THarris544</cp:lastModifiedBy>
  <dcterms:modified xsi:type="dcterms:W3CDTF">2008-10-21T15:21:31Z</dcterms:modified>
  <cp:revision>4</cp:revision>
  <dc:subject/>
  <dc:title>Slide 1</dc:title>
</cp:coreProperties>
</file>