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646-BF3E-452B-A96B-9874D861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1DB-F841-4E4A-9A79-EABECA31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E0F-BB59-49D7-BCE0-DBF6C72F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3D9-7EE1-4F58-8488-3E6191D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015-2648-433D-8A1F-54D6DAF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395-8300-4F33-9D75-9B3175D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35E-492B-4245-8407-9C6D3F35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AE8-4492-4392-87A6-9C09A2C2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DF5-24E7-404C-BB70-758F667D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90D-109B-4E46-9CAB-CA8DABF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A0B-B52C-4516-A80B-DF05462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7AB-9F2C-4657-A264-58BAA1BD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618C-67A2-4D0C-883D-ECF08757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5656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45:13Z</dcterms:created>
  <dc:creator>THarris544</dc:creator>
  <dc:description/>
  <dc:language>en-US</dc:language>
  <cp:lastModifiedBy>THarris544</cp:lastModifiedBy>
  <dcterms:modified xsi:type="dcterms:W3CDTF">2008-10-21T14:50:00Z</dcterms:modified>
  <cp:revision>4</cp:revision>
  <dc:subject/>
  <dc:title>Slide 1</dc:title>
</cp:coreProperties>
</file>