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6CD-5CBA-4A7F-8483-5925CEC3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DA3-41CD-4BA8-AB6E-4F07860B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96C-E2AC-4487-9674-B467E7DB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8F1-FE0E-4398-A1FA-A228F909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A85-C378-477B-90A9-B4CA9AB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ABD-7E36-4763-8712-87E51E93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AD0-185A-4B94-A390-DD63C6D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0D5-6AB1-47C0-8415-129C377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3E5-DFBA-4E3D-896D-A1A95B5A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E6D-3998-46ED-9654-8147D25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28D-D42D-41EC-B108-6D778D1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00F-F3BA-4A5D-BDCE-99063F7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B263-A38C-403E-A0F7-9FABE1CA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5656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45:13Z</dcterms:created>
  <dc:creator>THarris544</dc:creator>
  <dc:description/>
  <dc:language>en-US</dc:language>
  <cp:lastModifiedBy>THarris544</cp:lastModifiedBy>
  <dcterms:modified xsi:type="dcterms:W3CDTF">2008-10-21T14:50:00Z</dcterms:modified>
  <cp:revision>4</cp:revision>
  <dc:subject/>
  <dc:title>Slide 1</dc:title>
</cp:coreProperties>
</file>