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A72-17C1-4A77-98EB-B1E4F84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8BE-56AE-41B8-A75D-9F0DB28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1AB-5938-439B-B74E-961BE2E0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2DC-C0B1-4E02-A6A5-629C236C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ABF-4C86-4EE2-929E-3977EDE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28E-7849-4803-9B5A-BFF8E64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97D-3B14-4996-A0C2-E5E942D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D90-47CA-421C-BBBB-11258728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67E-AB8D-4F7F-8EFC-2329E61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79C-02AB-4D29-9D0A-3F13DD6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497-441B-4E9E-BCE7-9C693C6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B4F-45B7-4627-8CBA-77E0C2B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989-81EE-4226-96B9-76017467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75040" cy="583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33:25Z</dcterms:created>
  <dc:creator>THarris544</dc:creator>
  <dc:description/>
  <dc:language>en-US</dc:language>
  <cp:lastModifiedBy>THarris544</cp:lastModifiedBy>
  <dcterms:modified xsi:type="dcterms:W3CDTF">2008-10-21T14:43:33Z</dcterms:modified>
  <cp:revision>2</cp:revision>
  <dc:subject/>
  <dc:title>Slide 1</dc:title>
</cp:coreProperties>
</file>