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A27-A2F6-4FDA-BEC9-FEEADFF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D8D-2AA5-4F45-89EF-A21C246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780-94F2-478D-B3EA-137D5FB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8D9-174F-4E70-8230-3480463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33A-880C-4547-A910-CCF33F8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A4C-AFFE-41D0-8F34-2BD356A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8AE-FBFD-4734-904F-FA88BD27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D10-2ECB-4A36-91D9-4D9DD10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DF9-0550-411F-9049-547814A9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E50-18DF-40B1-A66F-C8EB4B2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D69-B97E-4CA9-A05A-CD2723F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B35-D44B-405B-9F40-30C9CCF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B8B-8DAC-4A83-BAE1-53AA74E6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75040" cy="583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33:25Z</dcterms:created>
  <dc:creator>THarris544</dc:creator>
  <dc:description/>
  <dc:language>en-US</dc:language>
  <cp:lastModifiedBy>THarris544</cp:lastModifiedBy>
  <dcterms:modified xsi:type="dcterms:W3CDTF">2008-10-21T14:43:33Z</dcterms:modified>
  <cp:revision>2</cp:revision>
  <dc:subject/>
  <dc:title>Slide 1</dc:title>
</cp:coreProperties>
</file>