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02C-09DE-425D-8E10-A91776FC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F87-6E8C-4699-8B1F-CBAA8A8F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BDB-68A7-46AB-B47D-1224178B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CD4-A8D6-4BB1-8B55-FD0DC47D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E92-7755-4B03-B925-A9CC444A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487-E054-441C-8DF3-0B2044D6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D70-611E-404A-A0D5-953A341A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202-DB7A-442F-867D-C04408B8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088-D063-4323-9D42-51E08E38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5FE9-E49F-4BCF-909D-0894CF3E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C99-6456-4FC0-85FB-0DEACCB6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C48-86A5-48CE-8608-0E553F1E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FBDF-0FCB-4B78-AB16-65CD45B09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4545000" cy="3287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9577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5:15Z</dcterms:created>
  <dc:creator>THarris544</dc:creator>
  <dc:description/>
  <dc:language>en-US</dc:language>
  <cp:lastModifiedBy>THarris544</cp:lastModifiedBy>
  <dcterms:modified xsi:type="dcterms:W3CDTF">2008-10-21T14:32:20Z</dcterms:modified>
  <cp:revision>1</cp:revision>
  <dc:subject/>
  <dc:title>Slide 1</dc:title>
</cp:coreProperties>
</file>