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92C-5B07-433D-8C96-8DACAC4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3CC-7118-4C33-8EF4-5FC30CCB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CAD-E711-4EC4-ACAF-CE9C72E8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22C-7C1B-4ECD-9D25-8F0870E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F70-0757-4C7F-8CA6-6015FFC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021-032C-40E7-95CF-115D7E39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B76-AE18-42FB-BC2C-A25540B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D78-97AB-4E0D-B2FF-527D4888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1D5-9EB2-4F8E-B68B-9326C14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D97-B46A-4812-89E4-2A365C6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56A-C243-4F5A-B025-4057444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164-7E81-4C57-9041-5232902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0B3-1FFA-44F4-89F8-C547913FA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45000" cy="3287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957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5:15Z</dcterms:created>
  <dc:creator>THarris544</dc:creator>
  <dc:description/>
  <dc:language>en-US</dc:language>
  <cp:lastModifiedBy>THarris544</cp:lastModifiedBy>
  <dcterms:modified xsi:type="dcterms:W3CDTF">2008-10-21T14:32:20Z</dcterms:modified>
  <cp:revision>1</cp:revision>
  <dc:subject/>
  <dc:title>Slide 1</dc:title>
</cp:coreProperties>
</file>