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6D49-385B-4E47-8343-BCD5C060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D72-8D6A-483E-9196-8D07F13B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EFB-B36C-4DDB-BB6F-023A4610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5644-615D-4AC6-B028-F921D548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995-EE81-4CD7-8FB2-18A4389B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1AB9-F625-44C8-9C21-F2D0A06C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FC2C-7E0C-4549-9011-8BE50565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5676-E9DA-499A-A51B-EE5531F6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059-9231-40A1-A433-11C63A14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13A-BD11-4D01-B309-F98474E6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966F-6137-48ED-A988-577806E6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6CC0-DFDF-4A16-B9E0-71FACCCC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DDF5-D250-4B4E-A69C-B74827B88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3571920" cy="4762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33336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5:08:08Z</dcterms:created>
  <dc:creator>THarris544</dc:creator>
  <dc:description/>
  <dc:language>en-US</dc:language>
  <cp:lastModifiedBy>THarris544</cp:lastModifiedBy>
  <dcterms:modified xsi:type="dcterms:W3CDTF">2008-10-21T15:11:25Z</dcterms:modified>
  <cp:revision>2</cp:revision>
  <dc:subject/>
  <dc:title>Slide 1</dc:title>
</cp:coreProperties>
</file>