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09C3-C922-4089-940B-35F5346D0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BEA5-EBF5-4AD6-A74D-DEA831E3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10BB-B006-40D9-8B7B-4A00D9C42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977C-395C-4E6D-A3A1-77DAA4711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1208-03E7-412B-9A6D-45BF6153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5E78-71B5-4A66-B190-EE89C97D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EF37-9694-4B3D-9324-D5A5774B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57B8-9012-4A07-894E-4BE2AAAA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1C86-4F6A-4DFC-BF9E-0F02C864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D639-7DBE-4967-BFBA-E66A8C1B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491A-B471-4262-A462-1571B1A5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6405-E7A5-4E02-843E-109DC6BD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7223-D49B-46FA-80CC-D2286D376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3571920" cy="4762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788000" y="836640"/>
            <a:ext cx="333360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5:08:08Z</dcterms:created>
  <dc:creator>THarris544</dc:creator>
  <dc:description/>
  <dc:language>en-US</dc:language>
  <cp:lastModifiedBy>THarris544</cp:lastModifiedBy>
  <dcterms:modified xsi:type="dcterms:W3CDTF">2008-10-21T15:11:25Z</dcterms:modified>
  <cp:revision>2</cp:revision>
  <dc:subject/>
  <dc:title>Slide 1</dc:title>
</cp:coreProperties>
</file>