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045zehn.wav" ContentType="audio/x-wav"/>
  <Override PartName="/ppt/media/g040funf.wav" ContentType="audio/x-wav"/>
  <Override PartName="/ppt/media/g038drei.wav" ContentType="audio/x-wav"/>
  <Override PartName="/ppt/media/g036eins.wav" ContentType="audio/x-wav"/>
  <Override PartName="/ppt/media/g044neun.wav" ContentType="audio/x-wav"/>
  <Override PartName="/ppt/media/g043acht.wav" ContentType="audio/x-wav"/>
  <Override PartName="/ppt/media/g042sbn.wav" ContentType="audio/x-wav"/>
  <Override PartName="/ppt/media/g041schs.wav" ContentType="audio/x-wav"/>
  <Override PartName="/ppt/media/g039vier.wav" ContentType="audio/x-wav"/>
  <Override PartName="/ppt/media/g037zwei.wav" ContentType="audio/x-wav"/>
  <Override PartName="/ppt/media/image2.png" ContentType="image/png"/>
  <Override PartName="/ppt/media/g011fwd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637-CBB4-4504-A047-63E74D8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B36-E20F-4245-B574-37B8372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0D3-CB7A-45EF-B61E-DC5F6B65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B32-FEAB-4D8A-B825-7912F71E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A9E-145F-4B04-A527-6243B7C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1F9-D22A-4F8B-86AC-35ABBCD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48D-3D99-4A63-BA4C-D98E1869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BCB-FC9A-4485-9EBE-BF47125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ED0-9E48-4012-B457-09E37D75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95F-D804-46D9-9E6B-3435307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B81-98C9-4322-9C5D-BEBCF45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06E-2048-4C58-BF0C-F62383A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83EC-3B4C-4ABA-8DE0-CC7856F6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5zeh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6eins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g011fwdr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4neun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3acht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2sbn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1sch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0funf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9vier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8drei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7zwei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3020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730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730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pperplate Gothic Bold"/>
              </a:rPr>
              <a:t>STOP</a:t>
            </a:r>
            <a:endParaRPr b="1" lang="en-US" sz="96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CSeccombe</cp:lastModifiedBy>
  <dcterms:modified xsi:type="dcterms:W3CDTF">2005-11-21T14:30:44Z</dcterms:modified>
  <cp:revision>21</cp:revision>
  <dc:subject/>
  <dc:title>Slide 1</dc:title>
</cp:coreProperties>
</file>