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g045zehn.wav" ContentType="audio/x-wav"/>
  <Override PartName="/ppt/media/g040funf.wav" ContentType="audio/x-wav"/>
  <Override PartName="/ppt/media/g038drei.wav" ContentType="audio/x-wav"/>
  <Override PartName="/ppt/media/g036eins.wav" ContentType="audio/x-wav"/>
  <Override PartName="/ppt/media/g044neun.wav" ContentType="audio/x-wav"/>
  <Override PartName="/ppt/media/g043acht.wav" ContentType="audio/x-wav"/>
  <Override PartName="/ppt/media/g042sbn.wav" ContentType="audio/x-wav"/>
  <Override PartName="/ppt/media/g041schs.wav" ContentType="audio/x-wav"/>
  <Override PartName="/ppt/media/g039vier.wav" ContentType="audio/x-wav"/>
  <Override PartName="/ppt/media/g037zwei.wav" ContentType="audio/x-wav"/>
  <Override PartName="/ppt/media/image2.png" ContentType="image/png"/>
  <Override PartName="/ppt/media/g011fwd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27C1-73D0-4047-AE80-A60CDB67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8E02-043B-4B76-845D-628E338E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1914-022A-4494-B850-18A1115C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64C-E812-49B6-9CE1-32A52936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18E0-3D96-4848-B417-C6D76BA6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BF7-9C1F-473B-B517-EC63895E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EBD4-C638-4A09-8D3A-AC204363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52DB-64C4-46FA-A570-5EB8F241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5A68-5C7C-44A2-BBC6-DE5DAC83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16B-863B-41D1-863B-42DCCD4A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6A61-E2F7-48E0-A440-9ECA96B4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1201-5AE1-4647-8247-7E651E39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6856-B860-4923-87F1-EE5785F65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045zehn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036eins.wav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g011fwdr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044neun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043acht.wav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042sbn.wav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041schs.wav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040funf.wav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039vier.wav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038drei.wav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037zwei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ffffff"/>
                </a:solidFill>
                <a:latin typeface="Kristen ITC"/>
              </a:rPr>
              <a:t>10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3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Ihr habt no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30208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9640" y="7308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Ihr habt nu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ffffff"/>
                </a:solidFill>
                <a:latin typeface="Kristen ITC"/>
              </a:rPr>
              <a:t>1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8360" y="7308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Ihr habt nu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ffffff"/>
                </a:solidFill>
                <a:latin typeface="Kristen ITC"/>
              </a:rPr>
              <a:t>1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9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25360"/>
            <a:ext cx="8137440" cy="37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255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Copperplate Gothic Bold"/>
              </a:rPr>
              <a:t>STOP</a:t>
            </a:r>
            <a:endParaRPr b="1" lang="en-US" sz="9600" spc="1" strike="noStrike">
              <a:ln w="255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73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Ihr habt no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ffffff"/>
                </a:solidFill>
                <a:latin typeface="Kristen ITC"/>
              </a:rPr>
              <a:t>9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3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Ihr habt no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ffffff"/>
                </a:solidFill>
                <a:latin typeface="Kristen ITC"/>
              </a:rPr>
              <a:t>8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3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Ihr habt no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ffffff"/>
                </a:solidFill>
                <a:latin typeface="Kristen ITC"/>
              </a:rPr>
              <a:t>7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73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Ihr habt no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ffffff"/>
                </a:solidFill>
                <a:latin typeface="Kristen ITC"/>
              </a:rPr>
              <a:t>6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73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Ihr habt no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ffffff"/>
                </a:solidFill>
                <a:latin typeface="Kristen ITC"/>
              </a:rPr>
              <a:t>5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73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Ihr habt no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ffffff"/>
                </a:solidFill>
                <a:latin typeface="Kristen ITC"/>
              </a:rPr>
              <a:t>4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73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Ihr habt no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ffffff"/>
                </a:solidFill>
                <a:latin typeface="Kristen ITC"/>
              </a:rPr>
              <a:t>3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73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Ihr habt no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30208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ffffff"/>
                </a:solidFill>
                <a:latin typeface="Kristen ITC"/>
              </a:rPr>
              <a:t>2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9:41:14Z</dcterms:created>
  <dc:creator>CSeccombe</dc:creator>
  <dc:description/>
  <dc:language>en-US</dc:language>
  <cp:lastModifiedBy>CSeccombe</cp:lastModifiedBy>
  <dcterms:modified xsi:type="dcterms:W3CDTF">2005-11-21T14:30:44Z</dcterms:modified>
  <cp:revision>21</cp:revision>
  <dc:subject/>
  <dc:title>Slide 1</dc:title>
</cp:coreProperties>
</file>