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675-A34E-4ADE-B1BD-065BF457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8AC-BB65-4F26-BF80-61D292AD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5B4-32D3-4A82-AE7A-7D611C7A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DDA-8B03-4411-9BCC-1B1D46F1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387-4364-4FFD-8359-4B5367F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C0E-175D-4B30-881F-297069AD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5AB-D501-4905-A3B8-5FCDEBF1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3CE-3F88-4BF5-98BA-C0F30CE6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730-D44A-496C-BC30-8E3ED478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2E0-46C2-4D46-B8A1-686C471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186-0CA1-4352-BEAD-29208E7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494-B725-4472-89DE-A8520A1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EEB4-BDC4-45D6-8155-1C86B869AB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131640" y="1628280"/>
            <a:ext cx="1297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 e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 zw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 dr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 v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 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ü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 sec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 sie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 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 n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 ze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1 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2 zw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ö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3 tr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4 quator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5 qui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6 s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7 dix-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8 dix-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9 dix-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20160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0 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1 ein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2 zweiundzwanz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3 drei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4 vier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5 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ü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f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6 sechs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7 sieben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8 acht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9 neun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0 drei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ß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0 vier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0 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ünf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0 sechs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0 sieb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0 acht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0 neu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 hund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0 tau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0280"/>
            <a:ext cx="1763640" cy="1081080"/>
          </a:xfrm>
          <a:prstGeom prst="wedgeEllipseCallout">
            <a:avLst>
              <a:gd name="adj1" fmla="val -43337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uten Tag - 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Hallo! - 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260280"/>
            <a:ext cx="2374920" cy="1081080"/>
          </a:xfrm>
          <a:prstGeom prst="wedgeEllipseCallout">
            <a:avLst>
              <a:gd name="adj1" fmla="val -37032"/>
              <a:gd name="adj2" fmla="val 5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e geht’s? – how are yo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Gut, danke – I’m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260280"/>
            <a:ext cx="2519280" cy="1081080"/>
          </a:xfrm>
          <a:prstGeom prst="wedgeEllipseCallout">
            <a:avLst>
              <a:gd name="adj1" fmla="val -36768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Bitte –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Danke - thank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26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sc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üß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– b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Bis bald – see you s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237360"/>
            <a:ext cx="3384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ichtig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– true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Ja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- y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Falsch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– false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Nei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-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237360"/>
            <a:ext cx="287964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ör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to listen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Les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Schreib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to write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Sprech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to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70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e sagt man das auf Englisch? –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what is it in Englis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068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ch verstehe nicht –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I don’t underst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4292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ederholen, bitte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– please repea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5589720"/>
            <a:ext cx="2340000" cy="1081080"/>
          </a:xfrm>
          <a:prstGeom prst="wedgeEllipseCallout">
            <a:avLst>
              <a:gd name="adj1" fmla="val -51222"/>
              <a:gd name="adj2" fmla="val 55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Ich bin fertig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– I’ve finishe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05000"/>
            <a:ext cx="2879640" cy="129528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8720 h 1295280"/>
              <a:gd name="textAreaBottom" fmla="*/ 1006560 h 129528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Wie heis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What’s your na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ch heiss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My name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0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Wie alt bi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How old are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ch bin…Jahre 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’m …..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Magst du…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Do you like…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Ja, ich mag…..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Nein,Ich mag nich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Yes, I like…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No, I don’t like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557360"/>
            <a:ext cx="273528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Ich spreche Deutsch!</a:t>
            </a:r>
            <a:endParaRPr b="0" lang="en-US" sz="4000" spc="1" strike="noStrike">
              <a:ln w="9360">
                <a:solidFill>
                  <a:srgbClr val="ff99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76720" y="4699080"/>
            <a:ext cx="3024000" cy="2158920"/>
          </a:xfrm>
          <a:prstGeom prst="cloudCallout">
            <a:avLst>
              <a:gd name="adj1" fmla="val 70263"/>
              <a:gd name="adj2" fmla="val -2831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oll/prima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– 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gut –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das macht spa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ß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-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nteressant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-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chlecht/furchtbar –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rubb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doof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– stup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chlimm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–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ngweilig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–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384720" cy="452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omic Sans MS"/>
              </a:rPr>
              <a:t>the presen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bin – I 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habe – I h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ge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ällt mir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– I l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liebe – I l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hasse -  I 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gehe – I 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mache – I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spiele – I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sehe – I w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h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öre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– I list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trage – I w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esse – I 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trinke – I dr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1280" y="189000"/>
            <a:ext cx="309744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omic Sans MS"/>
              </a:rPr>
              <a:t>the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war – I w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tte – I h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hat mir gefallen – I li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liebt – I l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hasst -  I h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bin.. gegangen – I w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macht– I d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spielt – I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gesehen – I wat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h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ört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 – I liste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 ..getragen – I w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.. gegessen – I 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trunken – I d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620640"/>
            <a:ext cx="252108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ch –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Du – you (inform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Er – 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ie – s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an – we/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r – 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ie -  you (formal/pl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ie – t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781360"/>
            <a:ext cx="2089080" cy="180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ann? Wh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er? Wh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elche? Whi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o? Whe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arum? 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e? 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e viel? How man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5445000"/>
            <a:ext cx="1944720" cy="1224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und –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oder –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eil - bec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ber – 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uch - al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15280" y="4869000"/>
            <a:ext cx="1728720" cy="1008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as ist – i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as war – it w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es gibt – there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797360"/>
            <a:ext cx="936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 – 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b – b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c – t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d –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e – 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f – e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g – g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h – h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 – 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797360"/>
            <a:ext cx="100800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j – y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k –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l- 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 – e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n – e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o – 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p – p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q – c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 –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4797360"/>
            <a:ext cx="1152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 – 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t – t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u – 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v – f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 – v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x – 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y – upsi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z - t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5877000"/>
            <a:ext cx="1116000" cy="9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ch – I/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e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- 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6587640" y="1989000"/>
            <a:ext cx="396108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Montag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-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ienstag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Mittwoch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onnerstag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Freitag- Samstag - Sonn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ie Woch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week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as Wochenend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weekend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in Monat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month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in Tag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day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in Jahr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-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789360"/>
            <a:ext cx="489564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as stimm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that’s right    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u hast nicht rech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you’re wro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Genau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exactly                   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Quatsch!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Rubbish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u hast rech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you’re right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Unsinn!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Nonsen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ch stimme zu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I agree      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ch stimme nicht zu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I don’t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2:07:11Z</dcterms:created>
  <dc:creator>lrichardson</dc:creator>
  <dc:description/>
  <dc:language>en-US</dc:language>
  <cp:lastModifiedBy>Clare Seccombe</cp:lastModifiedBy>
  <dcterms:modified xsi:type="dcterms:W3CDTF">2014-04-25T12:40:14Z</dcterms:modified>
  <cp:revision>3</cp:revision>
  <dc:subject/>
  <dc:title>Slide 1</dc:title>
</cp:coreProperties>
</file>