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8533-6EBE-489A-ACDF-54C60AAB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E95A-E34D-46D4-B354-33D8EC47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CD96-29EB-4B59-87F9-CB9DADE40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0805-748E-4960-BED6-6EC86F67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F774-E8E3-4423-9A5E-F7E96521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EB65-A4D2-44C1-B064-B2ECBCD1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B4DB-1E34-4DE8-A1D6-1533DC53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2E5E-2610-408F-8548-82C94FB7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2F7A-A120-4FCF-B61C-CA682DFE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6DF2-3C0D-4ACA-9669-A7348FE6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60CD-B109-47AA-A521-8CF02FE5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19E7-3864-4B9B-BC7A-1A4B5C18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31DA-7840-4E27-B6CC-ED513870C7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131640" y="1628280"/>
            <a:ext cx="1297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 e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 zw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3 dr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4 v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5 f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ün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6 sec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7 sieb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8 ac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9 ne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0 zeh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1 e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2 zw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ö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3 tre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4 quator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5 quin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6 se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7 dix-s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8 dix-h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9 dix-neu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00720" y="1628280"/>
            <a:ext cx="201600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0 zwanz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1 einundzwanz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2 zweiundzwanzi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3 dreiundzwanz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4 vierundzwanz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5 f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ü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nfundzwanz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6 sechsundzwanz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7 siebenundzwanz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8 achtundzwanz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9 neunundzwanz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30 drei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ß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40 vierz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50 f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ünfz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60 sechsz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70 siebz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80 achtz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90 neunz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00 hund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000 tau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0280"/>
            <a:ext cx="1763640" cy="1081080"/>
          </a:xfrm>
          <a:prstGeom prst="wedgeEllipseCallout">
            <a:avLst>
              <a:gd name="adj1" fmla="val -43337"/>
              <a:gd name="adj2" fmla="val 6189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Guten Tag - he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Hallo! - h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35280" y="260280"/>
            <a:ext cx="2374920" cy="1081080"/>
          </a:xfrm>
          <a:prstGeom prst="wedgeEllipseCallout">
            <a:avLst>
              <a:gd name="adj1" fmla="val -37032"/>
              <a:gd name="adj2" fmla="val 5968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Wie geht’s? – how are you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Gut, danke – I’m f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84720" y="260280"/>
            <a:ext cx="2519280" cy="1081080"/>
          </a:xfrm>
          <a:prstGeom prst="wedgeEllipseCallout">
            <a:avLst>
              <a:gd name="adj1" fmla="val -36768"/>
              <a:gd name="adj2" fmla="val 6189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Bitte – p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Danke - thanky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04000" y="260280"/>
            <a:ext cx="2340000" cy="1081080"/>
          </a:xfrm>
          <a:prstGeom prst="wedgeEllipseCallout">
            <a:avLst>
              <a:gd name="adj1" fmla="val -49523"/>
              <a:gd name="adj2" fmla="val 5308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Tsch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üß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– by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Bis bald – see you so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6237360"/>
            <a:ext cx="3384720" cy="431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Richtig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 – true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Ja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- y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Falsch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– false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Nein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 -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08360" y="6237360"/>
            <a:ext cx="2879640" cy="431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H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ören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 – to listen    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Lesen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 –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Schreiben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 – to write  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Sprechen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– to s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04000" y="1700280"/>
            <a:ext cx="2340000" cy="1081080"/>
          </a:xfrm>
          <a:prstGeom prst="wedgeEllipseCallout">
            <a:avLst>
              <a:gd name="adj1" fmla="val -49523"/>
              <a:gd name="adj2" fmla="val 5308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ie sagt man das auf Englisch? –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 what is it in English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04000" y="3068640"/>
            <a:ext cx="2340000" cy="1081080"/>
          </a:xfrm>
          <a:prstGeom prst="wedgeEllipseCallout">
            <a:avLst>
              <a:gd name="adj1" fmla="val -49523"/>
              <a:gd name="adj2" fmla="val 5308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Ich verstehe nicht –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 I don’t underst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04000" y="4292640"/>
            <a:ext cx="2340000" cy="1081080"/>
          </a:xfrm>
          <a:prstGeom prst="wedgeEllipseCallout">
            <a:avLst>
              <a:gd name="adj1" fmla="val -49523"/>
              <a:gd name="adj2" fmla="val 5308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iederholen, bitte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 – please repeat t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04000" y="5589720"/>
            <a:ext cx="2340000" cy="1081080"/>
          </a:xfrm>
          <a:prstGeom prst="wedgeEllipseCallout">
            <a:avLst>
              <a:gd name="adj1" fmla="val -51222"/>
              <a:gd name="adj2" fmla="val 5513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Ich bin fertig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 – I’ve finishe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205000"/>
            <a:ext cx="2879640" cy="1295280"/>
          </a:xfrm>
          <a:custGeom>
            <a:avLst/>
            <a:gdLst>
              <a:gd name="textAreaLeft" fmla="*/ 428400 w 2879640"/>
              <a:gd name="textAreaRight" fmla="*/ 3308400 w 2879640"/>
              <a:gd name="textAreaTop" fmla="*/ 288720 h 1295280"/>
              <a:gd name="textAreaBottom" fmla="*/ 1006560 h 1295280"/>
            </a:gdLst>
            <a:ahLst/>
            <a:rect l="textAreaLeft" t="textAreaTop" r="textAreaRight" b="textAreaBottom"/>
            <a:pathLst>
              <a:path w="21600" h="21600">
                <a:moveTo>
                  <a:pt x="3214" y="2409"/>
                </a:moveTo>
                <a:cubicBezTo>
                  <a:pt x="8807" y="-6125"/>
                  <a:pt x="16007" y="10943"/>
                  <a:pt x="21600" y="2409"/>
                </a:cubicBezTo>
                <a:lnTo>
                  <a:pt x="18386" y="19191"/>
                </a:lnTo>
                <a:cubicBezTo>
                  <a:pt x="12793" y="27725"/>
                  <a:pt x="5593" y="10657"/>
                  <a:pt x="0" y="19191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Wie heisst d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What’s your na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Ich heisse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My name i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500280"/>
            <a:ext cx="2879640" cy="1295640"/>
          </a:xfrm>
          <a:custGeom>
            <a:avLst/>
            <a:gdLst>
              <a:gd name="textAreaLeft" fmla="*/ 428400 w 2879640"/>
              <a:gd name="textAreaRight" fmla="*/ 3308400 w 2879640"/>
              <a:gd name="textAreaTop" fmla="*/ 289080 h 1295640"/>
              <a:gd name="textAreaBottom" fmla="*/ 1006920 h 1295640"/>
            </a:gdLst>
            <a:ahLst/>
            <a:rect l="textAreaLeft" t="textAreaTop" r="textAreaRight" b="textAreaBottom"/>
            <a:pathLst>
              <a:path w="21600" h="21600">
                <a:moveTo>
                  <a:pt x="3214" y="2409"/>
                </a:moveTo>
                <a:cubicBezTo>
                  <a:pt x="8807" y="-6125"/>
                  <a:pt x="16007" y="10943"/>
                  <a:pt x="21600" y="2409"/>
                </a:cubicBezTo>
                <a:lnTo>
                  <a:pt x="18386" y="19191"/>
                </a:lnTo>
                <a:cubicBezTo>
                  <a:pt x="12793" y="27725"/>
                  <a:pt x="5593" y="10657"/>
                  <a:pt x="0" y="19191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Wie alt bist d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How old are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Ich bin…Jahre 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I’m ….. Years 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724280"/>
            <a:ext cx="2879640" cy="1295640"/>
          </a:xfrm>
          <a:custGeom>
            <a:avLst/>
            <a:gdLst>
              <a:gd name="textAreaLeft" fmla="*/ 428400 w 2879640"/>
              <a:gd name="textAreaRight" fmla="*/ 3308400 w 2879640"/>
              <a:gd name="textAreaTop" fmla="*/ 289080 h 1295640"/>
              <a:gd name="textAreaBottom" fmla="*/ 1006920 h 1295640"/>
            </a:gdLst>
            <a:ahLst/>
            <a:rect l="textAreaLeft" t="textAreaTop" r="textAreaRight" b="textAreaBottom"/>
            <a:pathLst>
              <a:path w="21600" h="21600">
                <a:moveTo>
                  <a:pt x="3214" y="2409"/>
                </a:moveTo>
                <a:cubicBezTo>
                  <a:pt x="8807" y="-6125"/>
                  <a:pt x="16007" y="10943"/>
                  <a:pt x="21600" y="2409"/>
                </a:cubicBezTo>
                <a:lnTo>
                  <a:pt x="18386" y="19191"/>
                </a:lnTo>
                <a:cubicBezTo>
                  <a:pt x="12793" y="27725"/>
                  <a:pt x="5593" y="10657"/>
                  <a:pt x="0" y="19191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Comic Sans MS"/>
                <a:ea typeface="Arial"/>
              </a:rPr>
              <a:t>Magst du….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mic Sans MS"/>
                <a:ea typeface="Arial"/>
              </a:rPr>
              <a:t>Do you like….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Comic Sans MS"/>
                <a:ea typeface="Arial"/>
              </a:rPr>
              <a:t>Ja, ich mag…..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Comic Sans MS"/>
                <a:ea typeface="Arial"/>
              </a:rPr>
              <a:t>Nein,Ich mag nicht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mic Sans MS"/>
                <a:ea typeface="Arial"/>
              </a:rPr>
              <a:t>Yes, I like…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mic Sans MS"/>
                <a:ea typeface="Arial"/>
              </a:rPr>
              <a:t>No, I don’t like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9280" y="1557360"/>
            <a:ext cx="273528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Ich spreche Deutsch!</a:t>
            </a:r>
            <a:endParaRPr b="0" lang="en-US" sz="4000" spc="1" strike="noStrike">
              <a:ln w="9360">
                <a:solidFill>
                  <a:srgbClr val="ff99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76720" y="4699080"/>
            <a:ext cx="3024000" cy="2158920"/>
          </a:xfrm>
          <a:prstGeom prst="cloudCallout">
            <a:avLst>
              <a:gd name="adj1" fmla="val 70263"/>
              <a:gd name="adj2" fmla="val -2831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toll/prima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 – 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gut –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das macht spa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ß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 - f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interessant 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- inter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schlecht/furchtbar –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 rubb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doof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 – stupi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schlimm 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– b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langweilig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–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3384720" cy="4525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Comic Sans MS"/>
              </a:rPr>
              <a:t>the present t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Ich bin – I 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Ich habe – I h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gef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ällt mir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– I li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Ich liebe – I l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Ich hasse -  I h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Ich gehe – I 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Ich mache – I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Ich spiele – I 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Ich sehe – I w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Ich h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öre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– I list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Ich trage – I w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Ich esse – I 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Ich trinke – I dr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11280" y="189000"/>
            <a:ext cx="3097440" cy="452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ffffff"/>
                </a:solidFill>
                <a:uFillTx/>
                <a:latin typeface="Comic Sans MS"/>
              </a:rPr>
              <a:t>the past t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Ich war – I w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Ich hatte – I h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… </a:t>
            </a: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hat mir gefallen – I lik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Ich habe.. geliebt – I l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Ich habe.. gehasst -  I h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Ich bin.. gegangen – I w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Ich habe.. gemacht– I d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Ich habe.. gespielt – I pla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Ich habe..gesehen – I watc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Ich habe.. geh</a:t>
            </a: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ört</a:t>
            </a: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 – I listen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Ich habe ..getragen – I w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Ich habe.... gegessen – I 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Ich habe.. getrunken – I dr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0000" y="620640"/>
            <a:ext cx="2521080" cy="17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Ich –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Du – you (inform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Er – 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Sie – s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Man – we/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Wir – 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Sie -  you (formal/plur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Sie – th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96000" y="2781360"/>
            <a:ext cx="2089080" cy="1800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Wann? Wh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Wer? Wh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Welche? Which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Wo? Wher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Warum? Wh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Wie? How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Wie viel? How man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2000" y="5445000"/>
            <a:ext cx="1944720" cy="1224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und –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oder –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eil - beca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aber – b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auch - al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15280" y="4869000"/>
            <a:ext cx="1728720" cy="1008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das ist – it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das war – it w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es gibt – there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4797360"/>
            <a:ext cx="936720" cy="187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a – 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b – b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c – t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d –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e – 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f – e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g – g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h – h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i – 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6000" y="4797360"/>
            <a:ext cx="1008000" cy="187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j – y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k – c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l- 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m – e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n – e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o – o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p – p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q – co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r –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24000" y="4797360"/>
            <a:ext cx="1152720" cy="187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s – 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t – t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u – o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v – f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w – v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x – i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y – upsil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z - t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28000" y="5877000"/>
            <a:ext cx="1116000" cy="9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ich – I/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me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- 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6587640" y="1989000"/>
            <a:ext cx="3961080" cy="79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Montag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 - 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Dienstag 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–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Mittwoch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–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Donnerstag –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Freitag- Samstag - Sonnt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die Woche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 – week  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das Wochenende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 – weekend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ein Monat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 – month 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ein Tag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 – day  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ein Jahr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 -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3789360"/>
            <a:ext cx="4895640" cy="865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Das stimmt 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– that’s right         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Du hast nicht recht 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– you’re wro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Genau 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– exactly                        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Quatsch!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 Rubbish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Du hast recht 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– you’re right     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Unsinn!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 Nonsens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Ich stimme zu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 – I agree           </a:t>
            </a:r>
            <a:r>
              <a:rPr b="1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Ich stimme nicht zu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 – I don’t a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2:07:11Z</dcterms:created>
  <dc:creator>lrichardson</dc:creator>
  <dc:description/>
  <dc:language>en-US</dc:language>
  <cp:lastModifiedBy>Clare Seccombe</cp:lastModifiedBy>
  <dcterms:modified xsi:type="dcterms:W3CDTF">2014-04-25T12:40:14Z</dcterms:modified>
  <cp:revision>3</cp:revision>
  <dc:subject/>
  <dc:title>Slide 1</dc:title>
</cp:coreProperties>
</file>