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gif" ContentType="image/gif"/>
  <Override PartName="/ppt/media/image7.gif" ContentType="image/gif"/>
  <Override PartName="/ppt/media/image10.wmf" ContentType="image/x-wmf"/>
  <Override PartName="/ppt/media/image6.gif" ContentType="image/gif"/>
  <Override PartName="/ppt/media/image9.wmf" ContentType="image/x-wmf"/>
  <Override PartName="/ppt/media/image14.wmf" ContentType="image/x-wmf"/>
  <Override PartName="/ppt/media/image3.gif" ContentType="image/gif"/>
  <Override PartName="/ppt/media/image11.wmf" ContentType="image/x-wmf"/>
  <Override PartName="/ppt/media/image15.wmf" ContentType="image/x-wmf"/>
  <Override PartName="/ppt/media/image4.gif" ContentType="image/gif"/>
  <Override PartName="/ppt/media/image12.wmf" ContentType="image/x-wmf"/>
  <Override PartName="/ppt/media/image1.gif" ContentType="image/gif"/>
  <Override PartName="/ppt/media/image5.gif" ContentType="image/gif"/>
  <Override PartName="/ppt/media/image2.gif" ContentType="image/gi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0C2-0D75-40E4-9AEC-EA279570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E7FC-4DFE-4076-97BA-4466FF9B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34C-DA78-4E76-B53D-ADA1F19D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32F-1B15-4082-8767-B89F16E0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D2E-0565-4823-A558-81E4D7BD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AA7-EC8A-4A44-BFE6-B1500173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0FA-4671-4B9C-B86C-5DA12318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B20-3D5A-4C53-A6AA-510E3495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6DE-A2A3-477E-B349-A1396B28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725-E28F-4A34-B05E-780AA683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81C-E7C7-412E-BF82-41FE3749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5D0-42FF-4009-9441-D64FD9CB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BD2D-019A-44A8-A8F2-75B77C1B1C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5238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Hast du Haustier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2590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43280" y="2133720"/>
            <a:ext cx="2124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29000" y="2239920"/>
            <a:ext cx="22096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196524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4382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74320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1654200" cy="189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666880" y="2438280"/>
            <a:ext cx="141300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1874880" cy="1181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066680" y="4495680"/>
            <a:ext cx="2133720" cy="166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429000" y="4343400"/>
            <a:ext cx="1981080" cy="1771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781680" y="4343400"/>
            <a:ext cx="1154160" cy="1749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400800" y="2590920"/>
            <a:ext cx="1873080" cy="941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"/>
              </a:rPr>
              <a:t>Hast du Hausti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7:59:22Z</dcterms:created>
  <dc:creator>Helena Butterfield</dc:creator>
  <dc:description/>
  <dc:language>en-US</dc:language>
  <cp:lastModifiedBy>PSeccombe</cp:lastModifiedBy>
  <dcterms:modified xsi:type="dcterms:W3CDTF">2004-01-27T20:32:09Z</dcterms:modified>
  <cp:revision>3</cp:revision>
  <dc:subject/>
  <dc:title>PowerPoint Presentation</dc:title>
</cp:coreProperties>
</file>