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7.gif" ContentType="image/gif"/>
  <Override PartName="/ppt/media/image10.wmf" ContentType="image/x-wmf"/>
  <Override PartName="/ppt/media/image6.gif" ContentType="image/gif"/>
  <Override PartName="/ppt/media/image9.wmf" ContentType="image/x-wmf"/>
  <Override PartName="/ppt/media/image14.wmf" ContentType="image/x-wmf"/>
  <Override PartName="/ppt/media/image3.gif" ContentType="image/gif"/>
  <Override PartName="/ppt/media/image11.wmf" ContentType="image/x-wmf"/>
  <Override PartName="/ppt/media/image15.wmf" ContentType="image/x-wmf"/>
  <Override PartName="/ppt/media/image4.gif" ContentType="image/gif"/>
  <Override PartName="/ppt/media/image12.wmf" ContentType="image/x-wmf"/>
  <Override PartName="/ppt/media/image1.gif" ContentType="image/gif"/>
  <Override PartName="/ppt/media/image5.gif" ContentType="image/gif"/>
  <Override PartName="/ppt/media/image2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A80-3075-4036-A2F9-1D4422C9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5E7-8210-4C66-A8DC-73815FB2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3CA-7267-4A84-A018-24FEE392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B12-557B-4071-9919-9FD1CC6A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E36-7CD2-4B33-B86B-2C436935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54F-D04E-4867-ABAC-2A1D2E76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437-D147-4E5A-906B-25D90063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725-3410-44EB-8773-91D47D38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2E6-0043-4354-9C6C-0E3DA54F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C21-DB6C-4B6F-9132-9141C2D5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8CE-0D9C-4436-8FC9-3971BA89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65F-7515-4DAD-A9C5-D0D4CC6B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117E-7BFE-47CB-B6E0-ECBC9BF447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5238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Hast du Haustier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2590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43280" y="2133720"/>
            <a:ext cx="2124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29000" y="2239920"/>
            <a:ext cx="22096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19652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4382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7432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1654200" cy="189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14130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1874880" cy="118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2133720" cy="16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429000" y="4343400"/>
            <a:ext cx="1981080" cy="1771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781680" y="4343400"/>
            <a:ext cx="1154160" cy="1749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400800" y="2590920"/>
            <a:ext cx="1873080" cy="941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"/>
              </a:rPr>
              <a:t>Hast du Hausti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7:59:22Z</dcterms:created>
  <dc:creator>Helena Butterfield</dc:creator>
  <dc:description/>
  <dc:language>en-US</dc:language>
  <cp:lastModifiedBy>PSeccombe</cp:lastModifiedBy>
  <dcterms:modified xsi:type="dcterms:W3CDTF">2004-01-27T20:32:09Z</dcterms:modified>
  <cp:revision>3</cp:revision>
  <dc:subject/>
  <dc:title>PowerPoint Presentation</dc:title>
</cp:coreProperties>
</file>