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6.gif" ContentType="image/gif"/>
  <Override PartName="/ppt/media/image1.gif" ContentType="image/gif"/>
  <Override PartName="/ppt/media/image2.gif" ContentType="image/gif"/>
  <Override PartName="/ppt/media/image6.gif" ContentType="image/gif"/>
  <Override PartName="/ppt/media/image11.gif" ContentType="image/gif"/>
  <Override PartName="/ppt/media/image14.wmf" ContentType="image/x-wmf"/>
  <Override PartName="/ppt/media/image3.gif" ContentType="image/gif"/>
  <Override PartName="/ppt/media/image7.gif" ContentType="image/gif"/>
  <Override PartName="/ppt/media/image12.gif" ContentType="image/gif"/>
  <Override PartName="/ppt/media/image15.wmf" ContentType="image/x-wmf"/>
  <Override PartName="/ppt/media/image4.gif" ContentType="image/gif"/>
  <Override PartName="/ppt/media/image5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7ED8-DC57-47C7-8D81-71C3329EA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AF65-5896-47D7-B77F-2AE60D71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226A-26D2-4993-A576-4D170BF6A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2EDE-EA83-4D68-8901-05FDA5980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3F21-E683-485F-ACFB-3B605546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226E-0442-4591-B868-75F2D93E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B025-DE68-4CC2-9B03-E291F67F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C367-0123-48D3-B197-38FD9F17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0571-C0DD-459C-B1A4-AEE316B2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7104-0D34-4D78-BDD4-5974D1BC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F458-5ABB-451B-895B-F664426F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DF25-1DF3-4E82-8700-C08C0782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C48F-3EAA-44A2-BA7F-EA095CB3A8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gif"/><Relationship Id="rId9" Type="http://schemas.openxmlformats.org/officeDocument/2006/relationships/image" Target="../media/image11.gif"/><Relationship Id="rId10" Type="http://schemas.openxmlformats.org/officeDocument/2006/relationships/image" Target="../media/image12.gif"/><Relationship Id="rId11" Type="http://schemas.openxmlformats.org/officeDocument/2006/relationships/image" Target="../media/image13.gif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gif"/><Relationship Id="rId9" Type="http://schemas.openxmlformats.org/officeDocument/2006/relationships/image" Target="../media/image11.gif"/><Relationship Id="rId10" Type="http://schemas.openxmlformats.org/officeDocument/2006/relationships/image" Target="../media/image12.gif"/><Relationship Id="rId11" Type="http://schemas.openxmlformats.org/officeDocument/2006/relationships/image" Target="../media/image13.gif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Wo spricht man Deuts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the end of today’s lesson you will have learned more about the German-speaking countries of the worl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4572000"/>
            <a:ext cx="2895480" cy="1816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629400" y="4343400"/>
            <a:ext cx="17906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Wo spricht man Deuts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utsch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erre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e Schwei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mi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al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lg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echtens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män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b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gentin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ß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772400" y="42670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8600" y="1676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28600" y="762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80880" y="44956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304920" y="5334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7772400" y="26668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7772400" y="5334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304920" y="2514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9"/>
          <a:stretch/>
        </p:blipFill>
        <p:spPr>
          <a:xfrm>
            <a:off x="7696080" y="762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0"/>
          <a:stretch/>
        </p:blipFill>
        <p:spPr>
          <a:xfrm>
            <a:off x="7772400" y="1676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1"/>
          <a:stretch/>
        </p:blipFill>
        <p:spPr>
          <a:xfrm>
            <a:off x="304920" y="3505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2"/>
          <a:stretch/>
        </p:blipFill>
        <p:spPr>
          <a:xfrm>
            <a:off x="7772400" y="3581280"/>
            <a:ext cx="122544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Wo spricht man Deuts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8% aller or der Personen in Europa können Deutsch spre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ch Englisch, ist Deutsch die zweite meist benutzte Sprache im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ltweit ist Deutsch Sprache Numm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utsch ist das Technologiesprache-Nummer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utsch ist das Wissenschaftsprache-Nummer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195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1219320" cy="988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8600" y="57150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utsc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57150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91120" y="57150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57150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weltwe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05520" y="57150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0000"/>
                </a:solidFill>
                <a:uFillTx/>
                <a:latin typeface="Times New Roman"/>
              </a:rPr>
              <a:t>wichti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34320" y="57150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Sprac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Warum soll ich Deutsch sprech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75% der Welt kann kein Englisch sprec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e 3 wichtigsten Sprachen der Welt sind: Französisch, Deutsch und Spanis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nn man eine Sprache kann, verdient man zwischen 8% und 20% mehr Geld, als ein Arbeiter ohne eine zweite Sprach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Wo spricht man Deuts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utsch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erre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e Schwei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mi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al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lg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echtens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män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b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gentin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ß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772400" y="42670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28600" y="1676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28600" y="762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380880" y="44956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304920" y="5334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7772400" y="26668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7772400" y="5334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304920" y="2514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7696080" y="762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0"/>
          <a:stretch/>
        </p:blipFill>
        <p:spPr>
          <a:xfrm>
            <a:off x="7772400" y="1676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1"/>
          <a:stretch/>
        </p:blipFill>
        <p:spPr>
          <a:xfrm>
            <a:off x="304920" y="3505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2"/>
          <a:stretch/>
        </p:blipFill>
        <p:spPr>
          <a:xfrm>
            <a:off x="7772400" y="3581280"/>
            <a:ext cx="122544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1T07:11:23Z</dcterms:created>
  <dc:creator>eleanor2</dc:creator>
  <dc:description/>
  <dc:language>en-US</dc:language>
  <cp:lastModifiedBy>CSeccombe</cp:lastModifiedBy>
  <dcterms:modified xsi:type="dcterms:W3CDTF">2006-03-13T12:22:16Z</dcterms:modified>
  <cp:revision>8</cp:revision>
  <dc:subject/>
  <dc:title>Wo spricht man Deutsch?</dc:title>
</cp:coreProperties>
</file>