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6.gif" ContentType="image/gif"/>
  <Override PartName="/ppt/media/image1.gif" ContentType="image/gif"/>
  <Override PartName="/ppt/media/image2.gif" ContentType="image/gif"/>
  <Override PartName="/ppt/media/image6.gif" ContentType="image/gif"/>
  <Override PartName="/ppt/media/image11.gif" ContentType="image/gif"/>
  <Override PartName="/ppt/media/image14.wmf" ContentType="image/x-wmf"/>
  <Override PartName="/ppt/media/image3.gif" ContentType="image/gif"/>
  <Override PartName="/ppt/media/image7.gif" ContentType="image/gif"/>
  <Override PartName="/ppt/media/image12.gif" ContentType="image/gif"/>
  <Override PartName="/ppt/media/image15.wmf" ContentType="image/x-wmf"/>
  <Override PartName="/ppt/media/image4.gif" ContentType="image/gif"/>
  <Override PartName="/ppt/media/image5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1D06-9563-436E-9399-24B06A52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AFA9-CAEE-4C9D-9102-66F9A63C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07C-65E9-48FB-90B7-1D74F5F6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9CE-3249-4BCD-9367-89EDC65E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5F80-373C-4580-96AC-0F91EEA1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E554-7766-48E6-BE4A-6A2AC70F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047-720E-471C-AB6A-9D8F81FB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A352-CB7F-417F-952B-E63107CB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0F8F-42C1-4B32-9EC0-FABC8125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602A-8A51-4377-AE8B-F15E7708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1F93-74BB-4495-97AC-62AE76EF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E7EF-D4BC-447A-8FBC-FFA109D9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A3EA-B5AF-40B5-BFC4-96B67819AA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image" Target="../media/image12.gif"/><Relationship Id="rId11" Type="http://schemas.openxmlformats.org/officeDocument/2006/relationships/image" Target="../media/image13.gi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image" Target="../media/image12.gif"/><Relationship Id="rId11" Type="http://schemas.openxmlformats.org/officeDocument/2006/relationships/image" Target="../media/image13.gi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Wo spricht man Deuts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end of today’s lesson you will have learned more about the German-speaking countries of the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2895480" cy="1816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629400" y="4343400"/>
            <a:ext cx="17906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Wo spricht man Deuts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utsch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erre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e Schwei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mi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al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lg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echten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män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b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gentin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ß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772400" y="4267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28600" y="762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80880" y="4495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04920" y="5334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7772400" y="2666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7772400" y="5334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304920" y="2514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7696080" y="762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7772400" y="1676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1"/>
          <a:stretch/>
        </p:blipFill>
        <p:spPr>
          <a:xfrm>
            <a:off x="304920" y="3505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2"/>
          <a:stretch/>
        </p:blipFill>
        <p:spPr>
          <a:xfrm>
            <a:off x="7772400" y="3581280"/>
            <a:ext cx="122544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Wo spricht man Deuts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8% aller or der Personen in Europa können Deutsch spre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ch Englisch, ist Deutsch die zweite meist benutzte Sprache im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ltweit ist Deutsch Sprache Numm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utsch ist das Technologiesprache-Numme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utsch ist das Wissenschaftsprache-Numme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195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219320" cy="988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5715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utsc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5715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57150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57150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weltwe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57150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0000"/>
                </a:solidFill>
                <a:uFillTx/>
                <a:latin typeface="Times New Roman"/>
              </a:rPr>
              <a:t>wichti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34320" y="57150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Spra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Warum soll ich Deutsch sprech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75% der Welt kann kein Englisch spre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e 3 wichtigsten Sprachen der Welt sind: Französisch, Deutsch und Spanis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nn man eine Sprache kann, verdient man zwischen 8% und 20% mehr Geld, als ein Arbeiter ohne eine zweite Sprach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Wo spricht man Deuts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utsch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erre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e Schwei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mi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al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lg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echten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män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b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gentin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ß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772400" y="4267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28600" y="762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80880" y="4495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04920" y="5334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7772400" y="2666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7772400" y="5334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304920" y="2514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7696080" y="762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7772400" y="1676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304920" y="3505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7772400" y="3581280"/>
            <a:ext cx="122544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1T07:11:23Z</dcterms:created>
  <dc:creator>eleanor2</dc:creator>
  <dc:description/>
  <dc:language>en-US</dc:language>
  <cp:lastModifiedBy>CSeccombe</cp:lastModifiedBy>
  <dcterms:modified xsi:type="dcterms:W3CDTF">2006-03-13T12:22:16Z</dcterms:modified>
  <cp:revision>8</cp:revision>
  <dc:subject/>
  <dc:title>Wo spricht man Deutsch?</dc:title>
</cp:coreProperties>
</file>