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7.gif" ContentType="image/gif"/>
  <Override PartName="/ppt/media/image2.wmf" ContentType="image/x-wmf"/>
  <Override PartName="/ppt/media/image6.gif" ContentType="image/gif"/>
  <Override PartName="/ppt/media/image14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2.wmf" ContentType="image/x-wmf"/>
  <Override PartName="/ppt/media/image1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CBE-8727-4169-B73C-6D83793D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C6C-B9D0-417C-AB20-656C7B55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E31-1732-474E-A428-337B083D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F41-2003-4CA2-B5E9-1FD1AD02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F6F-1289-4667-8CC5-A5BC4206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339-B595-4677-91A0-7056AD26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ED0-43A3-424A-8D0B-5537000F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197-1D56-4297-9455-1906090E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C9E-24A3-452D-8059-39D3223A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B68-CDC5-49F8-8FD4-F44F1EAD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285-580A-4F2E-B03D-109D1943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75D-4204-411A-BCC4-1E704AC0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C281-C939-413C-BC65-0F685B7A88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gif"/><Relationship Id="rId1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Ankunft in Köl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1371600" cy="753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0" y="380880"/>
            <a:ext cx="1403280" cy="1403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2209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oday’s lesson you will have revised the past 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429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be able to understand what people have done during their train jour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be able to speak about a pretend train jour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9814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s hast du im Zug gemac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1371600" cy="75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1828800"/>
            <a:ext cx="4267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ein Buch gel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Musik gehö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gegessen und getru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Computerspiele gespi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geschla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mit Freunden geplaud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Rätsel gema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aus dem Fenster gesch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einen Brief gesch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 habe nichts gema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0120" y="990720"/>
            <a:ext cx="826920" cy="94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867280" y="167652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019920" y="4572000"/>
            <a:ext cx="1028520" cy="822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467480" y="2057400"/>
            <a:ext cx="1200240" cy="110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1189080" cy="1131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943600" y="2666880"/>
            <a:ext cx="777960" cy="838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772400" y="4495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6095880" y="5334120"/>
            <a:ext cx="720720" cy="102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7467480" y="5638680"/>
            <a:ext cx="1287720" cy="801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5880" y="3809880"/>
            <a:ext cx="304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4724280"/>
            <a:ext cx="304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5867280"/>
            <a:ext cx="380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10480" y="4724280"/>
            <a:ext cx="381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9600" y="2209680"/>
            <a:ext cx="380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2895480"/>
            <a:ext cx="380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1219320"/>
            <a:ext cx="380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7696080" y="3352680"/>
            <a:ext cx="1067040" cy="833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458200" y="3505320"/>
            <a:ext cx="380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1905120"/>
            <a:ext cx="304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5791320"/>
            <a:ext cx="609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698400">
            <a:off x="5486040" y="204156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 rot="698400">
            <a:off x="7238520" y="1600200"/>
            <a:ext cx="2574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 rot="698400">
            <a:off x="5562360" y="312408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 rot="698400">
            <a:off x="7314840" y="266688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 rot="698400">
            <a:off x="5638320" y="4114800"/>
            <a:ext cx="2574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 rot="698400">
            <a:off x="7543440" y="380988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 rot="698400">
            <a:off x="5714640" y="495288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 rot="698400">
            <a:off x="7391160" y="4876920"/>
            <a:ext cx="2570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 rot="698400">
            <a:off x="5978520" y="5945040"/>
            <a:ext cx="7452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 rot="698400">
            <a:off x="7238520" y="5943600"/>
            <a:ext cx="2574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s hast du im Zug gemac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do we need to mak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past t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Times New Roman"/>
              </a:rPr>
              <a:t>habe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+ the </a:t>
            </a:r>
            <a:r>
              <a:rPr b="0" lang="en-GB" sz="4400" spc="-1" strike="noStrike">
                <a:solidFill>
                  <a:srgbClr val="cc0066"/>
                </a:solidFill>
                <a:latin typeface="Times New Roman"/>
              </a:rPr>
              <a:t>ge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Times New Roman"/>
              </a:rPr>
              <a:t>sei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+ the </a:t>
            </a:r>
            <a:r>
              <a:rPr b="0" lang="en-GB" sz="4400" spc="-1" strike="noStrike">
                <a:solidFill>
                  <a:srgbClr val="cc0066"/>
                </a:solidFill>
                <a:latin typeface="Times New Roman"/>
              </a:rPr>
              <a:t>ge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: ich </a:t>
            </a:r>
            <a:r>
              <a:rPr b="0" lang="en-GB" sz="3200" spc="-1" strike="noStrike">
                <a:solidFill>
                  <a:srgbClr val="cc0066"/>
                </a:solidFill>
                <a:latin typeface="Times New Roman"/>
              </a:rPr>
              <a:t>hab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in Buch </a:t>
            </a:r>
            <a:r>
              <a:rPr b="0" lang="en-GB" sz="3200" spc="-1" strike="noStrike">
                <a:solidFill>
                  <a:srgbClr val="cc0066"/>
                </a:solidFill>
                <a:latin typeface="Times New Roman"/>
              </a:rPr>
              <a:t>gele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g: ich </a:t>
            </a:r>
            <a:r>
              <a:rPr b="0" lang="en-GB" sz="3200" spc="-1" strike="noStrike">
                <a:solidFill>
                  <a:srgbClr val="cc0066"/>
                </a:solidFill>
                <a:latin typeface="Times New Roman"/>
              </a:rPr>
              <a:t>b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it dem Zug </a:t>
            </a:r>
            <a:r>
              <a:rPr b="0" lang="en-GB" sz="3200" spc="-1" strike="noStrike">
                <a:solidFill>
                  <a:srgbClr val="cc0066"/>
                </a:solidFill>
                <a:latin typeface="Times New Roman"/>
              </a:rPr>
              <a:t>ge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s hast du im Zug gemac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h ……. gestern mit dem Zug nach Köln ………………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fahr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uerst ……… ich ein Buch …………..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les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und Limon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trink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Das Buch war aber ein bißc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gweilig, also ich ……….. aus dem Fenster ……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schau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Ich ……….. viele  Häuse …………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seh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– seh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essant! Zum Mittag ………. ich ein Butterbrot 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ess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und dann eine Dose Cola ……………..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trink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nach ………. ich dreißig Minuten ………………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schlaf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 Musik ……….. (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</a:rPr>
              <a:t>hör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Die Reise war sehr lan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905120"/>
            <a:ext cx="685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1905120"/>
            <a:ext cx="1447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438280"/>
            <a:ext cx="838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2438280"/>
            <a:ext cx="12193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l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895480"/>
            <a:ext cx="1447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tru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3276720"/>
            <a:ext cx="7617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3276720"/>
            <a:ext cx="1447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sc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657600"/>
            <a:ext cx="9144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3733920"/>
            <a:ext cx="12193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s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4114800"/>
            <a:ext cx="762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4114800"/>
            <a:ext cx="1295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g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572000"/>
            <a:ext cx="1447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tru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5029200"/>
            <a:ext cx="762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5105520"/>
            <a:ext cx="1523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schl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5486400"/>
            <a:ext cx="990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gehö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s hast du im Zug gemac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1371600" cy="75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0120" y="4191120"/>
            <a:ext cx="826920" cy="944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884160" cy="884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696080" y="5410080"/>
            <a:ext cx="1028880" cy="822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7200" y="2895480"/>
            <a:ext cx="1200240" cy="1108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676520" y="4876920"/>
            <a:ext cx="1189080" cy="113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2057400" y="3657600"/>
            <a:ext cx="777960" cy="838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426708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715000" y="3124080"/>
            <a:ext cx="720720" cy="1028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5791320" y="5181480"/>
            <a:ext cx="1287360" cy="80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6019920" y="4343400"/>
            <a:ext cx="1066680" cy="833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1905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hreib über deine Reise! Was hast du gemacht? Wie war 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3200400" y="4343400"/>
            <a:ext cx="1074600" cy="1622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4572000" y="51055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380880" y="5334120"/>
            <a:ext cx="1041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s hast du im Zug gemac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1371600" cy="753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467480" y="2590920"/>
            <a:ext cx="827280" cy="944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467480" y="4114800"/>
            <a:ext cx="1028880" cy="822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371600" y="2057400"/>
            <a:ext cx="1200240" cy="1108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600200" y="4343400"/>
            <a:ext cx="1189080" cy="1131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590920" y="3276720"/>
            <a:ext cx="7776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3809880" y="2362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6019920" y="2286000"/>
            <a:ext cx="873000" cy="1447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5943600" y="4267080"/>
            <a:ext cx="1287360" cy="80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4724280" y="3809880"/>
            <a:ext cx="1067040" cy="833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4724280" y="4952880"/>
            <a:ext cx="1074960" cy="1622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"/>
          <a:stretch/>
        </p:blipFill>
        <p:spPr>
          <a:xfrm>
            <a:off x="7238880" y="502920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380880" y="5334120"/>
            <a:ext cx="1041480" cy="1218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5"/>
          <a:stretch/>
        </p:blipFill>
        <p:spPr>
          <a:xfrm>
            <a:off x="3505320" y="4191120"/>
            <a:ext cx="10652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0:26:36Z</dcterms:created>
  <dc:creator>eleanor2</dc:creator>
  <dc:description/>
  <dc:language>en-US</dc:language>
  <cp:lastModifiedBy>PSeccombe</cp:lastModifiedBy>
  <dcterms:modified xsi:type="dcterms:W3CDTF">2004-08-13T09:51:09Z</dcterms:modified>
  <cp:revision>6</cp:revision>
  <dc:subject/>
  <dc:title>Ankunft in Köln</dc:title>
</cp:coreProperties>
</file>