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B2D-78F2-40AD-94EF-7B468F0C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836-3823-4432-8AEC-1A37879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AFE-F0D8-4FCC-95B8-787C7561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E89-C2F0-4874-B562-D7721245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3C2-B5A8-4788-9347-0B14D53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229-158E-451B-99DD-17B829D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E32-582D-4968-9034-DA708CE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AF5-BB93-47D0-9A30-494AAB6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2EC-9C80-4BCA-B5CB-A64113CF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DA2-478B-43A0-B2E6-9D8C657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05A-085A-488B-B9D7-6F176F8B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D5D-149D-445C-BF9B-86DCA0C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84D-E6E3-4163-B72B-0C55A0427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Damals und Heutzu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oday’s lesson you will be able to high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life now and one hundred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also 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19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se what you have just lear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080" y="2362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523880" cy="95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4080" y="3429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438280" y="3352680"/>
            <a:ext cx="1447920" cy="58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080" y="4343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62120" y="4114800"/>
            <a:ext cx="888840" cy="90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002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133720" y="4114800"/>
            <a:ext cx="1834920" cy="83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914400" y="2057400"/>
            <a:ext cx="907920" cy="885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408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85800" y="528804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51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438280" y="5181480"/>
            <a:ext cx="1067040" cy="96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2133720"/>
            <a:ext cx="4952880" cy="5205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s Land ist ruhig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die St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048120"/>
            <a:ext cx="495288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hrrad fahren ist langsamer als das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114800"/>
            <a:ext cx="495288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mmes sind ungesunder als Gemü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257800"/>
            <a:ext cx="495288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efe sind nicht schneller als telefon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nd giving 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good mark in GCSE it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s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you give a reason for your opinion or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utzutage ist es interessanter als im Jahre 1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utzutage ist es interessanter als im Jahre 1900,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weil die Technologie besser 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510552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72" stAng="10800000" swAng="5400000"/>
                <a:lnTo>
                  <a:pt x="15505" y="5088"/>
                </a:lnTo>
                <a:lnTo>
                  <a:pt x="15505" y="0"/>
                </a:lnTo>
                <a:lnTo>
                  <a:pt x="21600" y="6079"/>
                </a:lnTo>
                <a:lnTo>
                  <a:pt x="15505" y="12158"/>
                </a:lnTo>
                <a:lnTo>
                  <a:pt x="15505" y="7070"/>
                </a:lnTo>
                <a:lnTo>
                  <a:pt x="12427" y="7070"/>
                </a:lnTo>
                <a:arcTo wR="10445" hR="5090" stAng="16200000" swAng="-5400000"/>
                <a:lnTo>
                  <a:pt x="198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6019920"/>
            <a:ext cx="2133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your 4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reasons for the comments, u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90512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the verb to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1911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Pommes sind ungesunder als Gemü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Pommes sind fetti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5715000"/>
            <a:ext cx="8305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mmes sind ungesunder als Gemüse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ei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mmes fettige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1834920" cy="83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88840" cy="907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oudy Old Style"/>
              </a:rPr>
              <a:t>Wir vergleichen damals mit heutzu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oudy Old Style"/>
              </a:rPr>
              <a:t>Was ist für die Welt schlec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 fa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br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le Geschäf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rayd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urer Re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hrrad fa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eifreies Benz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üne To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u Fuß ge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68580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oudy Old Style"/>
              </a:rPr>
              <a:t>Was ist für die Welt g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dam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heutzu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 u="sng">
                <a:solidFill>
                  <a:srgbClr val="000000"/>
                </a:solidFill>
                <a:uFillTx/>
                <a:latin typeface="Goudy Old Style"/>
              </a:rPr>
              <a:t>Im Jahre 1900 gab 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utschen und Pfe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9528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0574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iger A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76520" y="228600"/>
            <a:ext cx="152388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5146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le Bä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9718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le P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Goudy Old Style"/>
              </a:rPr>
              <a:t>Jede Stadt war damals kleiner als im Jahre 2004, und das Leben war langsa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3683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352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modische Klei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72400" y="1143000"/>
            <a:ext cx="1136520" cy="13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9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und Bri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696080" y="2590920"/>
            <a:ext cx="1273320" cy="107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4267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rzen und Fe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8229600" y="4952880"/>
            <a:ext cx="671400" cy="982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8091360" y="3733920"/>
            <a:ext cx="762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05320" y="2590920"/>
            <a:ext cx="2286000" cy="10666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utzu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914400"/>
            <a:ext cx="1905120" cy="6858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ortz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1066680"/>
            <a:ext cx="182880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133720"/>
            <a:ext cx="2057400" cy="5331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505320"/>
            <a:ext cx="1905120" cy="5331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876920"/>
            <a:ext cx="190476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066680"/>
            <a:ext cx="190512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86000"/>
            <a:ext cx="198144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657600"/>
            <a:ext cx="182880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l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029200"/>
            <a:ext cx="228600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mischte 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5334120"/>
            <a:ext cx="1981440" cy="5331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-kultur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38680" y="1600200"/>
            <a:ext cx="838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791320" y="2514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5053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65760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3657600"/>
            <a:ext cx="1218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1337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61960" y="259056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971800" y="1523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96080" y="457200"/>
            <a:ext cx="77004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05920" y="3581280"/>
            <a:ext cx="696960" cy="64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96080" y="4952880"/>
            <a:ext cx="825480" cy="80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724280" y="5638680"/>
            <a:ext cx="88596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486400"/>
            <a:ext cx="958680" cy="67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68580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1905120"/>
            <a:ext cx="1122480" cy="711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4191120" y="228600"/>
            <a:ext cx="981000" cy="79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80880" y="533520"/>
            <a:ext cx="1143000" cy="75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8055000" y="1523880"/>
            <a:ext cx="869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 u="sng">
                <a:solidFill>
                  <a:srgbClr val="000000"/>
                </a:solidFill>
                <a:uFillTx/>
                <a:latin typeface="Goudy Old Style"/>
              </a:rPr>
              <a:t>Im Jahre 2004 gibt 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281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4952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Rockwell"/>
              </a:rPr>
              <a:t>Das Leben heutzutage ist viel schneller als im Jahre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ompare towns and places, we need AD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2209680"/>
            <a:ext cx="4343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h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ö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äßl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weil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s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ub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mutz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2193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ay something is better, we use the same pattern as English: eg: fast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g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igg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133720"/>
            <a:ext cx="327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h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ö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äßl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weil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s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ub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mutz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uhig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ön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u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häßlich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ngweil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interessan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auber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mutz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t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u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g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 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e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791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2193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, we say that “ X is bet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”, and this is similar to German. They 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uhig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uhig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666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ön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u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häßlich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ngweil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800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interessan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auber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mutz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hön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ut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äßlich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ngweilig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essant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auber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hmutzig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1:59:40Z</dcterms:created>
  <dc:creator>eleanor2</dc:creator>
  <dc:description/>
  <dc:language>en-US</dc:language>
  <cp:lastModifiedBy>CSeccombe</cp:lastModifiedBy>
  <dcterms:modified xsi:type="dcterms:W3CDTF">2006-03-13T12:24:20Z</dcterms:modified>
  <cp:revision>19</cp:revision>
  <dc:subject/>
  <dc:title>damals</dc:title>
</cp:coreProperties>
</file>