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41A-D3A3-449A-B3AE-423725A9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C08-C76E-4C16-9963-C8DF9C2D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26D-FBCE-434F-ADEF-A7FB3BDC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45C-4F2F-4BE8-9270-308F4C8B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38F-29FC-4815-B388-E78B23AE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23A-2AB3-4262-B8E2-E03065B9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FA5-9441-4B4F-82A5-3CABD380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BDC-E8F5-4C6D-A64A-F9F2F57A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86D-1240-497B-BCDE-3FC1047A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19D-1E38-4CB2-B533-2AF1CDD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06C-E853-4632-B849-BAE93A72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BF9-4ECC-45D4-9EF1-A8121DAF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B21E-2000-4910-B6B3-452F125D6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Damals und Heutzu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oday’s lesson you will be able to high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life now and one hundred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also 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219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se what you have just lear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080" y="2362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1523880" cy="95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4080" y="3429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1143000" cy="838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51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438280" y="3352680"/>
            <a:ext cx="1447920" cy="581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4080" y="4343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62120" y="4114800"/>
            <a:ext cx="888840" cy="907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002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2133720" y="4114800"/>
            <a:ext cx="1834920" cy="833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914400" y="2057400"/>
            <a:ext cx="907920" cy="885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5408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685800" y="528804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51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2438280" y="5181480"/>
            <a:ext cx="1067040" cy="965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62520" y="2133720"/>
            <a:ext cx="4952880" cy="5205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s Land ist ruhig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die St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3048120"/>
            <a:ext cx="4952880" cy="9471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hrrad fahren ist langsamer als das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4114800"/>
            <a:ext cx="4952880" cy="9471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mmes sind ungesunder als Gemü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257800"/>
            <a:ext cx="4952880" cy="9471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efe sind nicht schneller als telefon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nd giving ev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good mark in GCSE it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senti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you give a reason for your opinion or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utzutage ist es interessanter als im Jahre 1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utzutage ist es interessanter als im Jahre 1900,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weil die Technologie besser 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510552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072" stAng="10800000" swAng="5400000"/>
                <a:lnTo>
                  <a:pt x="15505" y="5088"/>
                </a:lnTo>
                <a:lnTo>
                  <a:pt x="15505" y="0"/>
                </a:lnTo>
                <a:lnTo>
                  <a:pt x="21600" y="6079"/>
                </a:lnTo>
                <a:lnTo>
                  <a:pt x="15505" y="12158"/>
                </a:lnTo>
                <a:lnTo>
                  <a:pt x="15505" y="7070"/>
                </a:lnTo>
                <a:lnTo>
                  <a:pt x="12427" y="7070"/>
                </a:lnTo>
                <a:arcTo wR="10445" hR="5090" stAng="16200000" swAng="-5400000"/>
                <a:lnTo>
                  <a:pt x="1982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6019920"/>
            <a:ext cx="2133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your 4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reasons for the comments, us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90512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the verb to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41911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Pommes sind ungesunder als Gemü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Pommes sind fetti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5715000"/>
            <a:ext cx="8305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mmes sind ungesunder als Gemüse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ei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ommes fettiger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1834920" cy="83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888840" cy="907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5257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Goudy Old Style"/>
              </a:rPr>
              <a:t>Wir vergleichen damals mit heutzu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Goudy Old Style"/>
              </a:rPr>
              <a:t>Was ist für die Welt schlech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o fa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br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ele Geschäf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rayd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urer Re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hrrad fa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eifreies Benz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üne To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u Fuß ge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68580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Goudy Old Style"/>
              </a:rPr>
              <a:t>Was ist für die Welt g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dam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heutzu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 u="sng">
                <a:solidFill>
                  <a:srgbClr val="000000"/>
                </a:solidFill>
                <a:uFillTx/>
                <a:latin typeface="Goudy Old Style"/>
              </a:rPr>
              <a:t>Im Jahre 1900 gab 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utschen und Pfe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95280" cy="68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20574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iger A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76520" y="228600"/>
            <a:ext cx="1523880" cy="533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5146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ele Bä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9718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ele P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Goudy Old Style"/>
              </a:rPr>
              <a:t>Jede Stadt war damals kleiner als im Jahre 2004, und das Leben war langsa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3683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3526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tmodische Klei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72400" y="1143000"/>
            <a:ext cx="1136520" cy="135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809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und Bri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696080" y="2590920"/>
            <a:ext cx="1273320" cy="1071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42670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rzen und Fe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8229600" y="4952880"/>
            <a:ext cx="671400" cy="982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8091360" y="3733920"/>
            <a:ext cx="7621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05320" y="2590920"/>
            <a:ext cx="2286000" cy="10666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utzu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914400"/>
            <a:ext cx="1905120" cy="6858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ortz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1066680"/>
            <a:ext cx="1828800" cy="5335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133720"/>
            <a:ext cx="2057400" cy="53316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505320"/>
            <a:ext cx="1905120" cy="53316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4876920"/>
            <a:ext cx="190476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r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066680"/>
            <a:ext cx="1905120" cy="5335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286000"/>
            <a:ext cx="198144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657600"/>
            <a:ext cx="182880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lei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029200"/>
            <a:ext cx="2286000" cy="5335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mischte 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5334120"/>
            <a:ext cx="1981440" cy="53316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-kultur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638680" y="1600200"/>
            <a:ext cx="838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791320" y="2514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5053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65760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3657600"/>
            <a:ext cx="1218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13372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361960" y="259056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971800" y="15238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96080" y="457200"/>
            <a:ext cx="77004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05920" y="3581280"/>
            <a:ext cx="696960" cy="64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96080" y="4952880"/>
            <a:ext cx="825480" cy="801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724280" y="5638680"/>
            <a:ext cx="88596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486400"/>
            <a:ext cx="958680" cy="67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68580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1905120"/>
            <a:ext cx="1122480" cy="711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4191120" y="228600"/>
            <a:ext cx="981000" cy="797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380880" y="533520"/>
            <a:ext cx="1143000" cy="752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8055000" y="1523880"/>
            <a:ext cx="869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 u="sng">
                <a:solidFill>
                  <a:srgbClr val="000000"/>
                </a:solidFill>
                <a:uFillTx/>
                <a:latin typeface="Goudy Old Style"/>
              </a:rPr>
              <a:t>Im Jahre 2004 gibt 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867280" cy="281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4952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Rockwell"/>
              </a:rPr>
              <a:t>Das Leben heutzutage ist viel schneller als im Jahre 1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ompare towns and places, we need AD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2209680"/>
            <a:ext cx="4343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h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ö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t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äßl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gweil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s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ub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mutz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2193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ay something is better, we use the same pattern as English: eg: fast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g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igg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133720"/>
            <a:ext cx="3276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h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ö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äßl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gweil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s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ub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mutzi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ruhig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i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chön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laut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häßlich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191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langweilig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interessant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auber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chmutzig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t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3048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u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g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re b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re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e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791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Goudy Old Style"/>
              </a:rPr>
              <a:t>Compa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2193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, we say that “ X is bet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”, and this is similar to German. They 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ruhig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uhig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666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chön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laut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häßlich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191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langweilig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800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interessant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auber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chmutzig</a:t>
            </a:r>
            <a:r>
              <a:rPr b="0" lang="en-GB" sz="2400" spc="-1" strike="noStrike" u="sng">
                <a:solidFill>
                  <a:srgbClr val="800000"/>
                </a:solidFill>
                <a:uFillTx/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hön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048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ut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äßlich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ngweilig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eressant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auber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hmutzige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1:59:40Z</dcterms:created>
  <dc:creator>eleanor2</dc:creator>
  <dc:description/>
  <dc:language>en-US</dc:language>
  <cp:lastModifiedBy>CSeccombe</cp:lastModifiedBy>
  <dcterms:modified xsi:type="dcterms:W3CDTF">2006-03-13T12:24:20Z</dcterms:modified>
  <cp:revision>19</cp:revision>
  <dc:subject/>
  <dc:title>damals</dc:title>
</cp:coreProperties>
</file>