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62E-E35A-4E9D-A017-7834AD1A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C22-6893-4A45-96B0-4A4887F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A10-CE85-4522-9CA0-A5361B52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803-DE4B-4E2D-A89F-0D145C7F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E67-D779-4213-9CF5-B7220ED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867-733D-49C9-8E0B-E070140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943-3FA0-4A78-9B2A-2AC6404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024-457F-4460-93D1-E1FB4EFD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234-552C-4B64-892E-556DBEF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7C-449F-4253-9630-B344D52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8E1-E9FF-4765-B914-518D9F8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D59-027D-4C29-99BE-CF29CFB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E652-5D41-4554-9147-C39727B352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1430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 of your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the lists below and a dictionary, write down 2 of your strengths (Kräfte) and two of your weaknesses (Schwäche) in Ger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8120"/>
            <a:ext cx="4267080" cy="366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räf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ig, tapf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icht 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, überzeugend, enthusiastisch, diplomatisch, ästhetisch, mutig, organisier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, flexibel, geschickt, durchsetzlich, zähig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, zuverlässig, gedul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08916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048120"/>
            <a:ext cx="4572000" cy="366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wä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, launisch, stressig, freudlos, verbitter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, stolz, selbstgefällig/egoistisch, sarkastisch, pingelig, oberflächlich, täuschend, fanatisch, kompromißlos, rebellisch, Außenseiter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icht 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,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90720"/>
            <a:ext cx="320040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utig, tap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791320"/>
            <a:ext cx="33526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uverlässig, gedul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981080"/>
            <a:ext cx="380988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lexibel, geschi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berflächlich, täusch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35053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unisch, stres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67280"/>
            <a:ext cx="43434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utig, organis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tolz, selbstgefällig/egoi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990720"/>
            <a:ext cx="35053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arkastisch, pingel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876920"/>
            <a:ext cx="41148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iplomatisch, ästhe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w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071880"/>
            <a:ext cx="37339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urchsetzlich, zäh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anatisch, kompromiß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962520"/>
            <a:ext cx="41911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berzeugend, enthusia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071880"/>
            <a:ext cx="43434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leicht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reudlos, verbitt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038480"/>
            <a:ext cx="37339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bellisch, Außens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4952880"/>
            <a:ext cx="3962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Kräft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Schwäch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:  leicht b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9907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2057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3162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00600" y="19810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4952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59436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00600" y="10666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40384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31622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29200" y="4114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00600" y="5029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05520" y="58672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09480" y="10666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id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sp>
        <p:nvSpPr>
          <p:cNvPr id="73" name=""/>
          <p:cNvSpPr/>
          <p:nvPr/>
        </p:nvSpPr>
        <p:spPr>
          <a:xfrm>
            <a:off x="2071800" y="334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685800" y="1295280"/>
            <a:ext cx="3352680" cy="228240"/>
            <a:chOff x="-685800" y="1295280"/>
            <a:chExt cx="3352680" cy="228240"/>
          </a:xfrm>
        </p:grpSpPr>
        <p:sp>
          <p:nvSpPr>
            <p:cNvPr id="75" name=""/>
            <p:cNvSpPr/>
            <p:nvPr/>
          </p:nvSpPr>
          <p:spPr>
            <a:xfrm>
              <a:off x="-685800" y="129528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685800" y="1295280"/>
              <a:ext cx="3352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März - 20. April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74464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76520"/>
            <a:ext cx="5029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utig, tap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ornig, gedanken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09480" y="2819520"/>
            <a:ext cx="121932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ti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28600" y="3124080"/>
            <a:ext cx="1676520" cy="304560"/>
            <a:chOff x="228600" y="3124080"/>
            <a:chExt cx="1676520" cy="304560"/>
          </a:xfrm>
        </p:grpSpPr>
        <p:sp>
          <p:nvSpPr>
            <p:cNvPr id="82" name=""/>
            <p:cNvSpPr/>
            <p:nvPr/>
          </p:nvSpPr>
          <p:spPr>
            <a:xfrm>
              <a:off x="228600" y="31240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" y="312408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 April - 21. Mai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3429000"/>
            <a:ext cx="4724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zuverlässig, gedul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ur, dickköp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30492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09480" y="44197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Zwilli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4800600"/>
            <a:ext cx="1676520" cy="304560"/>
            <a:chOff x="228600" y="4800600"/>
            <a:chExt cx="1676520" cy="304560"/>
          </a:xfrm>
        </p:grpSpPr>
        <p:sp>
          <p:nvSpPr>
            <p:cNvPr id="88" name=""/>
            <p:cNvSpPr/>
            <p:nvPr/>
          </p:nvSpPr>
          <p:spPr>
            <a:xfrm>
              <a:off x="228600" y="480060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80060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Mai - 21. Juni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5105520"/>
            <a:ext cx="3809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lexibel, geschi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berflächlich, täusch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4280" y="990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257800" y="114300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Kre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00600" y="1447920"/>
            <a:ext cx="1676520" cy="304200"/>
            <a:chOff x="4800600" y="1447920"/>
            <a:chExt cx="1676520" cy="304200"/>
          </a:xfrm>
        </p:grpSpPr>
        <p:sp>
          <p:nvSpPr>
            <p:cNvPr id="95" name=""/>
            <p:cNvSpPr/>
            <p:nvPr/>
          </p:nvSpPr>
          <p:spPr>
            <a:xfrm>
              <a:off x="4800600" y="144792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1447920"/>
              <a:ext cx="1676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Juni - 22. Juli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800600" y="17524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ensibil, empfän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launisch, stres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00600" y="274320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81480" y="28954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Löw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76920" y="3124080"/>
            <a:ext cx="1828800" cy="304560"/>
            <a:chOff x="4876920" y="3124080"/>
            <a:chExt cx="1828800" cy="304560"/>
          </a:xfrm>
        </p:grpSpPr>
        <p:sp>
          <p:nvSpPr>
            <p:cNvPr id="101" name=""/>
            <p:cNvSpPr/>
            <p:nvPr/>
          </p:nvSpPr>
          <p:spPr>
            <a:xfrm>
              <a:off x="4876920" y="31240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3124080"/>
              <a:ext cx="182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3. Juli - 23. August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572000" y="342900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utig, organis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tolz, selbstgefällig/egoi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800600" y="4419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257800" y="44197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Jungfr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76920" y="4800600"/>
            <a:ext cx="2514600" cy="304560"/>
            <a:chOff x="4876920" y="4800600"/>
            <a:chExt cx="2514600" cy="304560"/>
          </a:xfrm>
        </p:grpSpPr>
        <p:sp>
          <p:nvSpPr>
            <p:cNvPr id="107" name=""/>
            <p:cNvSpPr/>
            <p:nvPr/>
          </p:nvSpPr>
          <p:spPr>
            <a:xfrm>
              <a:off x="4876920" y="480060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4800600"/>
              <a:ext cx="251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August - 23. Septe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72000" y="510552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m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thodisch, fleiß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arkastisch, pingel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19520" y="10666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24680" y="9907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01000" y="2666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77320" y="45720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44197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195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860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roskop – Wie bist du? Bist du typisch …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066680"/>
            <a:ext cx="1219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a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1295280"/>
            <a:ext cx="2438280" cy="304560"/>
            <a:chOff x="0" y="1295280"/>
            <a:chExt cx="2438280" cy="304560"/>
          </a:xfrm>
        </p:grpSpPr>
        <p:sp>
          <p:nvSpPr>
            <p:cNvPr id="120" name=""/>
            <p:cNvSpPr/>
            <p:nvPr/>
          </p:nvSpPr>
          <p:spPr>
            <a:xfrm>
              <a:off x="0" y="129528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295280"/>
              <a:ext cx="2438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September - 23.Okto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67652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iplomatisch, ästhe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w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chselhaft, unentschi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" y="28195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korp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3048120"/>
            <a:ext cx="2438640" cy="380520"/>
            <a:chOff x="152280" y="3048120"/>
            <a:chExt cx="2438640" cy="380520"/>
          </a:xfrm>
        </p:grpSpPr>
        <p:sp>
          <p:nvSpPr>
            <p:cNvPr id="126" name=""/>
            <p:cNvSpPr/>
            <p:nvPr/>
          </p:nvSpPr>
          <p:spPr>
            <a:xfrm>
              <a:off x="152280" y="304812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3048120"/>
              <a:ext cx="24386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Oktober - 22.Novem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35812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durchsetzlich, zäh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anatisch, kompromiß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62120" y="4724280"/>
            <a:ext cx="12189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chütz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5029200"/>
            <a:ext cx="2438280" cy="380520"/>
            <a:chOff x="228600" y="5029200"/>
            <a:chExt cx="2438280" cy="380520"/>
          </a:xfrm>
        </p:grpSpPr>
        <p:sp>
          <p:nvSpPr>
            <p:cNvPr id="132" name=""/>
            <p:cNvSpPr/>
            <p:nvPr/>
          </p:nvSpPr>
          <p:spPr>
            <a:xfrm>
              <a:off x="228600" y="502920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5029200"/>
              <a:ext cx="24382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3. November - 21.Dezembe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5410080"/>
            <a:ext cx="5029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berzeugend, enthusias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ahlerisch, Einmis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257800" y="99072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Steinb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76920" y="1371600"/>
            <a:ext cx="2514600" cy="304560"/>
            <a:chOff x="4876920" y="1371600"/>
            <a:chExt cx="2514600" cy="304560"/>
          </a:xfrm>
        </p:grpSpPr>
        <p:sp>
          <p:nvSpPr>
            <p:cNvPr id="138" name=""/>
            <p:cNvSpPr/>
            <p:nvPr/>
          </p:nvSpPr>
          <p:spPr>
            <a:xfrm>
              <a:off x="4876920" y="137160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371600"/>
              <a:ext cx="251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2. Dezember -20. Janu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572000" y="175248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leicht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onzentriert, kon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reudlos, verbitt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724280" y="2743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257800" y="2819520"/>
            <a:ext cx="1447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Wasserman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76920" y="3124080"/>
            <a:ext cx="2209680" cy="304560"/>
            <a:chOff x="4876920" y="3124080"/>
            <a:chExt cx="2209680" cy="304560"/>
          </a:xfrm>
        </p:grpSpPr>
        <p:sp>
          <p:nvSpPr>
            <p:cNvPr id="144" name=""/>
            <p:cNvSpPr/>
            <p:nvPr/>
          </p:nvSpPr>
          <p:spPr>
            <a:xfrm>
              <a:off x="4876920" y="312408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6920" y="3124080"/>
              <a:ext cx="2209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1. Januar – 19. Februar</a:t>
              </a:r>
              <a:r>
                <a:rPr b="0" lang="en-GB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0" y="342900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meradstark,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ebellisch, Außens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4800600" y="464832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181480" y="47242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alifornian FB"/>
              </a:rPr>
              <a:t>Fis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alifornian FB"/>
              <a:ea typeface="Californian FB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00600" y="5105520"/>
            <a:ext cx="2514600" cy="304200"/>
            <a:chOff x="4800600" y="5105520"/>
            <a:chExt cx="2514600" cy="304200"/>
          </a:xfrm>
        </p:grpSpPr>
        <p:sp>
          <p:nvSpPr>
            <p:cNvPr id="150" name=""/>
            <p:cNvSpPr/>
            <p:nvPr/>
          </p:nvSpPr>
          <p:spPr>
            <a:xfrm>
              <a:off x="4800600" y="51055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0600" y="5105520"/>
              <a:ext cx="2514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  <a:ea typeface="Arial"/>
                </a:rPr>
                <a:t>24. August - 23. Septe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Bernard MT Condensed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0" y="5410080"/>
            <a:ext cx="434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räfte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lfsbereit, engag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hwäche:  leicht b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einflußt, verste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153280" y="914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29000" y="46483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429000" y="9144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29000" y="289548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153280" y="26668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J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1532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8:05:27Z</dcterms:created>
  <dc:creator>Miss E Abrahams</dc:creator>
  <dc:description/>
  <dc:language>en-US</dc:language>
  <cp:lastModifiedBy>PSeccombe</cp:lastModifiedBy>
  <dcterms:modified xsi:type="dcterms:W3CDTF">2004-08-13T10:24:15Z</dcterms:modified>
  <cp:revision>24</cp:revision>
  <dc:subject/>
  <dc:title>PowerPoint Presentation</dc:title>
</cp:coreProperties>
</file>