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4AB9-930A-447B-B4B3-97165FF8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21BF-0A3E-442A-90A4-FA39B21B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2897-7420-4DC4-BD22-626606F3D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DC09-116E-4DA3-96F1-7D24EBA7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2AA7-86D6-4307-9224-A2621732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D3C5-22DF-494C-8001-838074F6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4577-4B60-41C3-B7A6-378F1106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E4C1-BAE8-4D54-916C-833B9B90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296A-FC5E-4954-95B4-05AD29E9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3464-7E5F-49D3-87FE-05F38472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FACF-8008-4D03-935C-3D53307B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91CC-4B4D-4E25-9805-11FE6985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6266-0232-499A-87B6-D3DB9C814B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86080" y="228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roskop – Wie bist du? Bist du typisch …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143000"/>
            <a:ext cx="7848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nk of your characteris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ing the lists below and a dictionary, write down 2 of your strengths (Kräfte) and two of your weaknesses (Schwäche) in Germ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3048120"/>
            <a:ext cx="4267080" cy="366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Kräf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utig, tapfer,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ensibil, empfänglich,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eicht k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onzentriert, konsequent, überzeugend, enthusiastisch, diplomatisch, ästhetisch, mutig, organisiert,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thodisch, fleißig, flexibel, geschickt, durchsetzlich, zähig,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meradstark, original,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lfsbereit, engagiert, zuverlässig, geduld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308916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3048120"/>
            <a:ext cx="4572000" cy="366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Schwäch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zornig, gedankenlos, launisch, stressig, freudlos, verbittert,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rahlerisch, Einmischer,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chselhaft, unentschieden, stolz, selbstgefällig/egoistisch, sarkastisch, pingelig, oberflächlich, täuschend, fanatisch, kompromißlos, rebellisch, Außenseiter,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eicht b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einflußt, versteckt,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ur, dickköpf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990720"/>
            <a:ext cx="3200400" cy="95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Kräfte: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mutig, tap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Schwäche: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zornig, gedankenl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62720" y="5791320"/>
            <a:ext cx="335268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Kräfte: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zuverlässig, geduld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Schwäche: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s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tur, dickköpf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1981080"/>
            <a:ext cx="380988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Kräfte: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flexibel, geschi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Schwäche: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oberflächlich, täusch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981080"/>
            <a:ext cx="350532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Kräfte: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sensibil, empfäng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Schwäche: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launisch, stress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5867280"/>
            <a:ext cx="434340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Kräft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mutig, organisi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Schwäch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: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stolz, selbstgefällig/egoistis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990720"/>
            <a:ext cx="350532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Kräft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m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ethodisch, fleiß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Schwäche: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sarkastisch, pingel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876920"/>
            <a:ext cx="411480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Kräft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diplomatisch, ästhetis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Schwäch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:  w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echselhaft, unentschie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3071880"/>
            <a:ext cx="373392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Kräft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durchsetzlich, zäh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Schwäch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: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fanatisch, kompromiß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3962520"/>
            <a:ext cx="419112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Kräft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überzeugend, enthusiastis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Schwäch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:  p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rahlerisch, Einmis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071880"/>
            <a:ext cx="434340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Kräft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leicht k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onzentriert, konsequ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Schwäch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: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freudlos, verbitt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10080" y="4038480"/>
            <a:ext cx="373392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Kräft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k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ameradstark, orig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Schwäch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: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rebellisch, Außense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4952880"/>
            <a:ext cx="396252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Kräft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h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ilfsbereit, engagi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Schwäch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:  leicht b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eeinflußt, verste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86080" y="228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roskop – Wie bist du? Bist du typisch …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52280" y="990720"/>
            <a:ext cx="304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205740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280" y="316224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800600" y="198108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52280" y="495288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52280" y="594360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800600" y="106668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52280" y="403848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029200" y="3162240"/>
            <a:ext cx="152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029200" y="411480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J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800600" y="502920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105520" y="586728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343080" cy="342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609480" y="1066680"/>
            <a:ext cx="121932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alifornian FB"/>
              </a:rPr>
              <a:t>Wid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alifornian FB"/>
              <a:ea typeface="Californian FB"/>
            </a:endParaRPr>
          </a:p>
        </p:txBody>
      </p:sp>
      <p:sp>
        <p:nvSpPr>
          <p:cNvPr id="73" name=""/>
          <p:cNvSpPr/>
          <p:nvPr/>
        </p:nvSpPr>
        <p:spPr>
          <a:xfrm>
            <a:off x="2071800" y="334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-685800" y="1295280"/>
            <a:ext cx="3352680" cy="228240"/>
            <a:chOff x="-685800" y="1295280"/>
            <a:chExt cx="3352680" cy="228240"/>
          </a:xfrm>
        </p:grpSpPr>
        <p:sp>
          <p:nvSpPr>
            <p:cNvPr id="75" name=""/>
            <p:cNvSpPr/>
            <p:nvPr/>
          </p:nvSpPr>
          <p:spPr>
            <a:xfrm>
              <a:off x="-685800" y="1295280"/>
              <a:ext cx="3352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-685800" y="1295280"/>
              <a:ext cx="33526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ernard MT Condensed"/>
                  <a:ea typeface="Arial"/>
                </a:rPr>
                <a:t>21.März - 20. April</a:t>
              </a:r>
              <a:r>
                <a:rPr b="0" lang="en-GB" sz="1600" spc="-1" strike="noStrike">
                  <a:solidFill>
                    <a:srgbClr val="000000"/>
                  </a:solidFill>
                  <a:latin typeface="Bernard MT Condensed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744640" y="102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676520"/>
            <a:ext cx="5029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Kräfte: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mutig, tap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chwäche: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zornig, gedankenl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52280" y="2666880"/>
            <a:ext cx="381240" cy="457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609480" y="2819520"/>
            <a:ext cx="121932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alifornian FB"/>
              </a:rPr>
              <a:t>Sti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alifornian FB"/>
              <a:ea typeface="Californian FB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28600" y="3124080"/>
            <a:ext cx="1676520" cy="304560"/>
            <a:chOff x="228600" y="3124080"/>
            <a:chExt cx="1676520" cy="304560"/>
          </a:xfrm>
        </p:grpSpPr>
        <p:sp>
          <p:nvSpPr>
            <p:cNvPr id="82" name=""/>
            <p:cNvSpPr/>
            <p:nvPr/>
          </p:nvSpPr>
          <p:spPr>
            <a:xfrm>
              <a:off x="228600" y="3124080"/>
              <a:ext cx="16765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8600" y="3124080"/>
              <a:ext cx="1676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ernard MT Condensed"/>
                  <a:ea typeface="Arial"/>
                </a:rPr>
                <a:t>21. April - 21. Mai</a:t>
              </a:r>
              <a:r>
                <a:rPr b="0" lang="en-US" sz="1600" spc="-1" strike="noStrike">
                  <a:solidFill>
                    <a:srgbClr val="000000"/>
                  </a:solidFill>
                  <a:latin typeface="Bernard MT Condensed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0" y="3429000"/>
            <a:ext cx="4724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Kräfte: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zuverlässig, geduld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chwäche:  s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tur, dickköpf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28600" y="4343400"/>
            <a:ext cx="304920" cy="457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609480" y="4419720"/>
            <a:ext cx="121932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alifornian FB"/>
              </a:rPr>
              <a:t>Zwillin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alifornian FB"/>
              <a:ea typeface="Californian FB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28600" y="4800600"/>
            <a:ext cx="1676520" cy="304560"/>
            <a:chOff x="228600" y="4800600"/>
            <a:chExt cx="1676520" cy="304560"/>
          </a:xfrm>
        </p:grpSpPr>
        <p:sp>
          <p:nvSpPr>
            <p:cNvPr id="88" name=""/>
            <p:cNvSpPr/>
            <p:nvPr/>
          </p:nvSpPr>
          <p:spPr>
            <a:xfrm>
              <a:off x="228600" y="4800600"/>
              <a:ext cx="16765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4800600"/>
              <a:ext cx="1676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ernard MT Condensed"/>
                  <a:ea typeface="Arial"/>
                </a:rPr>
                <a:t>22. Mai - 21. Juni</a:t>
              </a:r>
              <a:r>
                <a:rPr b="0" lang="en-GB" sz="1600" spc="-1" strike="noStrike">
                  <a:solidFill>
                    <a:srgbClr val="000000"/>
                  </a:solidFill>
                  <a:latin typeface="Bernard MT Condensed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5105520"/>
            <a:ext cx="38098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Kräfte: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flexibel, geschi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chwäche: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oberflächlich, täusch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86080" y="228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roskop – Wie bist du? Bist du typisch …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724280" y="990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5257800" y="1143000"/>
            <a:ext cx="121932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alifornian FB"/>
              </a:rPr>
              <a:t>Kreb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alifornian FB"/>
              <a:ea typeface="Californian FB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800600" y="1447920"/>
            <a:ext cx="1676520" cy="304200"/>
            <a:chOff x="4800600" y="1447920"/>
            <a:chExt cx="1676520" cy="304200"/>
          </a:xfrm>
        </p:grpSpPr>
        <p:sp>
          <p:nvSpPr>
            <p:cNvPr id="95" name=""/>
            <p:cNvSpPr/>
            <p:nvPr/>
          </p:nvSpPr>
          <p:spPr>
            <a:xfrm>
              <a:off x="4800600" y="1447920"/>
              <a:ext cx="16765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00600" y="1447920"/>
              <a:ext cx="16765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ernard MT Condensed"/>
                  <a:ea typeface="Arial"/>
                </a:rPr>
                <a:t>22. Juni - 22. Juli</a:t>
              </a:r>
              <a:r>
                <a:rPr b="0" lang="en-GB" sz="1600" spc="-1" strike="noStrike">
                  <a:solidFill>
                    <a:srgbClr val="000000"/>
                  </a:solidFill>
                  <a:latin typeface="Bernard MT Condensed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800600" y="1752480"/>
            <a:ext cx="4343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Kräfte: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sensibil, empfäng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chwäche: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launisch, stress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4800600" y="2743200"/>
            <a:ext cx="380880" cy="457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181480" y="2895480"/>
            <a:ext cx="121932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alifornian FB"/>
              </a:rPr>
              <a:t>Löw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alifornian FB"/>
              <a:ea typeface="Californian FB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876920" y="3124080"/>
            <a:ext cx="1828800" cy="304560"/>
            <a:chOff x="4876920" y="3124080"/>
            <a:chExt cx="1828800" cy="304560"/>
          </a:xfrm>
        </p:grpSpPr>
        <p:sp>
          <p:nvSpPr>
            <p:cNvPr id="101" name=""/>
            <p:cNvSpPr/>
            <p:nvPr/>
          </p:nvSpPr>
          <p:spPr>
            <a:xfrm>
              <a:off x="4876920" y="312408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76920" y="3124080"/>
              <a:ext cx="1828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ernard MT Condensed"/>
                  <a:ea typeface="Arial"/>
                </a:rPr>
                <a:t>23. Juli - 23. August</a:t>
              </a:r>
              <a:r>
                <a:rPr b="0" lang="en-GB" sz="1600" spc="-1" strike="noStrike">
                  <a:solidFill>
                    <a:srgbClr val="000000"/>
                  </a:solidFill>
                  <a:latin typeface="Bernard MT Condensed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572000" y="3429000"/>
            <a:ext cx="4343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Kräfte: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mutig, organisi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chwäche: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stolz, selbstgefällig/egoistis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4800600" y="4419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5257800" y="4419720"/>
            <a:ext cx="1371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alifornian FB"/>
              </a:rPr>
              <a:t>Jungfra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alifornian FB"/>
              <a:ea typeface="Californian FB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876920" y="4800600"/>
            <a:ext cx="2514600" cy="304560"/>
            <a:chOff x="4876920" y="4800600"/>
            <a:chExt cx="2514600" cy="304560"/>
          </a:xfrm>
        </p:grpSpPr>
        <p:sp>
          <p:nvSpPr>
            <p:cNvPr id="107" name=""/>
            <p:cNvSpPr/>
            <p:nvPr/>
          </p:nvSpPr>
          <p:spPr>
            <a:xfrm>
              <a:off x="4876920" y="4800600"/>
              <a:ext cx="2514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76920" y="4800600"/>
              <a:ext cx="2514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ernard MT Condensed"/>
                  <a:ea typeface="Arial"/>
                </a:rPr>
                <a:t>24. August - 23. Septe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Bernard MT Condensed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572000" y="5105520"/>
            <a:ext cx="4343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Kräfte: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m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ethodisch, fleiß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chwäche: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sarkastisch, pingel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819520" y="106668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924680" y="990720"/>
            <a:ext cx="304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001000" y="266688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77320" y="457200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19520" y="4419720"/>
            <a:ext cx="3045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819520" y="274320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86080" y="228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roskop – Wie bist du? Bist du typisch …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066680"/>
            <a:ext cx="121932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alifornian FB"/>
              </a:rPr>
              <a:t>Waa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alifornian FB"/>
              <a:ea typeface="Californian FB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381240" cy="45720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0" y="1295280"/>
            <a:ext cx="2438280" cy="304560"/>
            <a:chOff x="0" y="1295280"/>
            <a:chExt cx="2438280" cy="304560"/>
          </a:xfrm>
        </p:grpSpPr>
        <p:sp>
          <p:nvSpPr>
            <p:cNvPr id="120" name=""/>
            <p:cNvSpPr/>
            <p:nvPr/>
          </p:nvSpPr>
          <p:spPr>
            <a:xfrm>
              <a:off x="0" y="1295280"/>
              <a:ext cx="2438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1295280"/>
              <a:ext cx="24382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ernard MT Condensed"/>
                  <a:ea typeface="Arial"/>
                </a:rPr>
                <a:t>24. September - 23.Oktober</a:t>
              </a:r>
              <a:r>
                <a:rPr b="0" lang="en-GB" sz="1600" spc="-1" strike="noStrike">
                  <a:solidFill>
                    <a:srgbClr val="000000"/>
                  </a:solidFill>
                  <a:latin typeface="Bernard MT Condensed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0" y="1676520"/>
            <a:ext cx="4343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Kräfte: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diplomatisch, ästhetis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chwäche:  w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echselhaft, unentschie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52280" y="2743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685800" y="2819520"/>
            <a:ext cx="121932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alifornian FB"/>
              </a:rPr>
              <a:t>Skorp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alifornian FB"/>
              <a:ea typeface="Californian FB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52280" y="3048120"/>
            <a:ext cx="2438640" cy="380520"/>
            <a:chOff x="152280" y="3048120"/>
            <a:chExt cx="2438640" cy="380520"/>
          </a:xfrm>
        </p:grpSpPr>
        <p:sp>
          <p:nvSpPr>
            <p:cNvPr id="126" name=""/>
            <p:cNvSpPr/>
            <p:nvPr/>
          </p:nvSpPr>
          <p:spPr>
            <a:xfrm>
              <a:off x="152280" y="3048120"/>
              <a:ext cx="2438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2280" y="3048120"/>
              <a:ext cx="243864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ernard MT Condensed"/>
                  <a:ea typeface="Arial"/>
                </a:rPr>
                <a:t>24. Oktober - 22.November</a:t>
              </a:r>
              <a:r>
                <a:rPr b="0" lang="en-GB" sz="1600" spc="-1" strike="noStrike">
                  <a:solidFill>
                    <a:srgbClr val="000000"/>
                  </a:solidFill>
                  <a:latin typeface="Bernard MT Condensed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0" y="3581280"/>
            <a:ext cx="4343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Kräfte: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durchsetzlich, zäh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chwäche: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fanatisch, kompromiß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228600" y="46483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762120" y="4724280"/>
            <a:ext cx="121896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alifornian FB"/>
              </a:rPr>
              <a:t>Schütz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alifornian FB"/>
              <a:ea typeface="Californian FB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" y="5029200"/>
            <a:ext cx="2438280" cy="380520"/>
            <a:chOff x="228600" y="5029200"/>
            <a:chExt cx="2438280" cy="380520"/>
          </a:xfrm>
        </p:grpSpPr>
        <p:sp>
          <p:nvSpPr>
            <p:cNvPr id="132" name=""/>
            <p:cNvSpPr/>
            <p:nvPr/>
          </p:nvSpPr>
          <p:spPr>
            <a:xfrm>
              <a:off x="228600" y="5029200"/>
              <a:ext cx="2438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" y="5029200"/>
              <a:ext cx="243828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ernard MT Condensed"/>
                  <a:ea typeface="Arial"/>
                </a:rPr>
                <a:t>23. November - 21.Dezember</a:t>
              </a:r>
              <a:r>
                <a:rPr b="0" lang="en-GB" sz="1600" spc="-1" strike="noStrike">
                  <a:solidFill>
                    <a:srgbClr val="000000"/>
                  </a:solidFill>
                  <a:latin typeface="Bernard MT Condensed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0" y="5410080"/>
            <a:ext cx="5029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Kräfte: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überzeugend, enthusiastis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chwäche:  p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rahlerisch, Einmis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724280" y="9144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5257800" y="990720"/>
            <a:ext cx="121932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alifornian FB"/>
              </a:rPr>
              <a:t>Steinboc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alifornian FB"/>
              <a:ea typeface="Californian FB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876920" y="1371600"/>
            <a:ext cx="2514600" cy="304560"/>
            <a:chOff x="4876920" y="1371600"/>
            <a:chExt cx="2514600" cy="304560"/>
          </a:xfrm>
        </p:grpSpPr>
        <p:sp>
          <p:nvSpPr>
            <p:cNvPr id="138" name=""/>
            <p:cNvSpPr/>
            <p:nvPr/>
          </p:nvSpPr>
          <p:spPr>
            <a:xfrm>
              <a:off x="4876920" y="1371600"/>
              <a:ext cx="2514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76920" y="1371600"/>
              <a:ext cx="2514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ernard MT Condensed"/>
                  <a:ea typeface="Arial"/>
                </a:rPr>
                <a:t>22. Dezember -20. Janu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572000" y="175248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Kräfte: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leicht k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onzentriert, konsequ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chwäche: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freudlos, verbitt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4724280" y="2743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5257800" y="2819520"/>
            <a:ext cx="14479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alifornian FB"/>
              </a:rPr>
              <a:t>Wasserman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alifornian FB"/>
              <a:ea typeface="Californian FB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876920" y="3124080"/>
            <a:ext cx="2209680" cy="304560"/>
            <a:chOff x="4876920" y="3124080"/>
            <a:chExt cx="2209680" cy="304560"/>
          </a:xfrm>
        </p:grpSpPr>
        <p:sp>
          <p:nvSpPr>
            <p:cNvPr id="144" name=""/>
            <p:cNvSpPr/>
            <p:nvPr/>
          </p:nvSpPr>
          <p:spPr>
            <a:xfrm>
              <a:off x="4876920" y="3124080"/>
              <a:ext cx="220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76920" y="3124080"/>
              <a:ext cx="2209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ernard MT Condensed"/>
                  <a:ea typeface="Arial"/>
                </a:rPr>
                <a:t>21. Januar – 19. Februar</a:t>
              </a:r>
              <a:r>
                <a:rPr b="0" lang="en-GB" sz="1600" spc="-1" strike="noStrike">
                  <a:solidFill>
                    <a:srgbClr val="000000"/>
                  </a:solidFill>
                  <a:latin typeface="Bernard MT Condensed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4572000" y="3429000"/>
            <a:ext cx="4343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Kräfte: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k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ameradstark, orig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chwäche: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rebellisch, Außense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4800600" y="4648320"/>
            <a:ext cx="380880" cy="457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5181480" y="4724280"/>
            <a:ext cx="9907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alifornian FB"/>
              </a:rPr>
              <a:t>Fisc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alifornian FB"/>
              <a:ea typeface="Californian FB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800600" y="5105520"/>
            <a:ext cx="2514600" cy="304200"/>
            <a:chOff x="4800600" y="5105520"/>
            <a:chExt cx="2514600" cy="304200"/>
          </a:xfrm>
        </p:grpSpPr>
        <p:sp>
          <p:nvSpPr>
            <p:cNvPr id="150" name=""/>
            <p:cNvSpPr/>
            <p:nvPr/>
          </p:nvSpPr>
          <p:spPr>
            <a:xfrm>
              <a:off x="4800600" y="5105520"/>
              <a:ext cx="2514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00600" y="5105520"/>
              <a:ext cx="25146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ernard MT Condensed"/>
                  <a:ea typeface="Arial"/>
                </a:rPr>
                <a:t>24. August - 23. Septe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Bernard MT Condensed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4572000" y="5410080"/>
            <a:ext cx="4343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Kräfte: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h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ilfsbereit, engagi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chwäche:  leicht b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eeinflußt, verste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8153280" y="91440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429000" y="4648320"/>
            <a:ext cx="304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429000" y="91440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429000" y="2895480"/>
            <a:ext cx="152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153280" y="266688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J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153280" y="472428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08:05:27Z</dcterms:created>
  <dc:creator>Miss E Abrahams</dc:creator>
  <dc:description/>
  <dc:language>en-US</dc:language>
  <cp:lastModifiedBy>PSeccombe</cp:lastModifiedBy>
  <dcterms:modified xsi:type="dcterms:W3CDTF">2004-08-13T10:24:15Z</dcterms:modified>
  <cp:revision>24</cp:revision>
  <dc:subject/>
  <dc:title>PowerPoint Presentation</dc:title>
</cp:coreProperties>
</file>