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46A-18ED-4BF9-B0C1-B612CA98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48F-33A5-4EF8-80E4-17556328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9BA-203F-4392-AC8E-A8707ED2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8825-3584-4447-8D07-91774FCB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472-277D-48CA-83AC-107A0F5B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584-3DCA-4FA5-BEC3-CC22B908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C73-DEE6-4328-A328-1CA23F43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2132-AB5A-4F8E-8A96-8D2FDD39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3C2-CC79-4D15-AE65-CBBB80C2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148-3625-4B35-9D25-1D91A758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084E-646A-40FD-A2C9-A1CEFB04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A01-1B89-4716-AA61-BA363A18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045F-D862-4D2A-9AC8-5A64DBADE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-eu.amazon.com/images/P/0749852003.02.LZZZZZZZ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103640" cy="460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88000" y="115920"/>
            <a:ext cx="4176720" cy="4681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79280" y="4869000"/>
            <a:ext cx="4032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Kitzel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219640" y="5084640"/>
            <a:ext cx="3384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Comic Sans MS"/>
              </a:rPr>
              <a:t>Sto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Comic Sans MS"/>
              <a:ea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7236000" y="6597720"/>
            <a:ext cx="19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5 E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9280" y="4876920"/>
            <a:ext cx="4032360" cy="15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ufpr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859280" y="4941720"/>
            <a:ext cx="410544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Comic Sans MS"/>
              </a:rPr>
              <a:t>Launis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Comic Sans MS"/>
              <a:ea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53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76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4941720"/>
            <a:ext cx="4032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Unmögli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03640" y="5013360"/>
            <a:ext cx="3745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Witz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460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7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61080" y="4941720"/>
            <a:ext cx="4032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Pingel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920" y="5013360"/>
            <a:ext cx="4105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Geschwätz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60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410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61080" y="4876920"/>
            <a:ext cx="4032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Ungeschick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4941720"/>
            <a:ext cx="3672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Fals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4608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4724280"/>
            <a:ext cx="4105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Comic Sans MS"/>
              </a:rPr>
              <a:t>Fräulei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Comic Sans MS"/>
              </a:rPr>
              <a:t>Klu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Comic Sans MS"/>
              <a:ea typeface="Comic Sans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46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76720" cy="4464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859280" y="4797360"/>
            <a:ext cx="4105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Spa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4941720"/>
            <a:ext cx="41050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Fräuleinen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Zwillinge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59280" y="5013360"/>
            <a:ext cx="4105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Fräulei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onnenschei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60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7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4869000"/>
            <a:ext cx="4105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Fräulein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Gekicher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859280" y="5013360"/>
            <a:ext cx="4105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Widerborst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460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4941720"/>
            <a:ext cx="41050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Fräulein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Hoppla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859280" y="4941720"/>
            <a:ext cx="410544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Comic Sans MS"/>
              </a:rPr>
              <a:t>St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Comic Sans MS"/>
              <a:ea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53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767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4941720"/>
            <a:ext cx="41050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Fräulein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Spät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859280" y="4869000"/>
            <a:ext cx="410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Gier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176720" cy="4464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920" y="4724280"/>
            <a:ext cx="4105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Fräulein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Glänzend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859280" y="4797360"/>
            <a:ext cx="4105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Winz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4105440" cy="4392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032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9280" y="5084640"/>
            <a:ext cx="4032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Comic Sans MS"/>
              </a:rPr>
              <a:t>Perfek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Comic Sans MS"/>
              <a:ea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788000" y="5013360"/>
            <a:ext cx="417672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Unsin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60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95920" y="189000"/>
            <a:ext cx="4168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4941720"/>
            <a:ext cx="410508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Fräulein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Ärger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859280" y="4869000"/>
            <a:ext cx="410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Schüchter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4608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7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4941720"/>
            <a:ext cx="410508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Fräulei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Ordentlich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859280" y="4941720"/>
            <a:ext cx="41054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Purzelba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4608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4941720"/>
            <a:ext cx="410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Fräulei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Beschäftigt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59280" y="4941720"/>
            <a:ext cx="4105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Ster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4608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410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920" y="4797360"/>
            <a:ext cx="410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Herris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59280" y="4653000"/>
            <a:ext cx="4105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mic Sans MS"/>
              </a:rPr>
              <a:t>Glückli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mic Sans MS"/>
              <a:ea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24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50920" y="4869000"/>
            <a:ext cx="410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mic Sans MS"/>
              </a:rPr>
              <a:t>Schn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mic Sans MS"/>
              <a:ea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859280" y="4941720"/>
            <a:ext cx="4105440" cy="16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Comic Sans MS"/>
              </a:rPr>
              <a:t>Gepfleg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Comic Sans MS"/>
              <a:ea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4535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9607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0920" y="4797360"/>
            <a:ext cx="410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mic Sans MS"/>
              </a:rPr>
              <a:t>Hilfrei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mic Sans MS"/>
              <a:ea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59280" y="4724280"/>
            <a:ext cx="41054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Unart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59280" y="189000"/>
            <a:ext cx="4105440" cy="4392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920" y="4653000"/>
            <a:ext cx="4105080" cy="19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Schreckli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859280" y="4724280"/>
            <a:ext cx="4105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Schuss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176720" cy="4321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29200" y="4797360"/>
            <a:ext cx="37908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Geiz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9280" y="4795920"/>
            <a:ext cx="4105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mic Sans MS"/>
              </a:rPr>
              <a:t>Schlamp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mic Sans MS"/>
              <a:ea typeface="Comic Sans MS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189000"/>
            <a:ext cx="4032360" cy="431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105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9280" y="5013360"/>
            <a:ext cx="403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Schla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148360" y="4941720"/>
            <a:ext cx="3671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La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4535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9280" y="4941720"/>
            <a:ext cx="4032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Nies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859280" y="4869000"/>
            <a:ext cx="4105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Comic Sans MS"/>
              </a:rPr>
              <a:t>Neugier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Comic Sans MS"/>
              <a:ea typeface="Comic Sans M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4392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4869000"/>
            <a:ext cx="3529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Dum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292720" y="4869000"/>
            <a:ext cx="33829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Sta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4319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780080" y="189000"/>
            <a:ext cx="4363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9280" y="4653000"/>
            <a:ext cx="4032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Durcheinan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651640" y="4797360"/>
            <a:ext cx="266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K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410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9280" y="4797360"/>
            <a:ext cx="4032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Ho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9280" y="4795920"/>
            <a:ext cx="410544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Ruh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17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76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9280" y="4869000"/>
            <a:ext cx="403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Traumere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59280" y="4869000"/>
            <a:ext cx="4105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Langs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4464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2:06:41Z</dcterms:created>
  <dc:creator>Eleanor Abrahams </dc:creator>
  <dc:description/>
  <dc:language>en-US</dc:language>
  <cp:lastModifiedBy>CSeccombe</cp:lastModifiedBy>
  <dcterms:modified xsi:type="dcterms:W3CDTF">2005-10-30T14:49:41Z</dcterms:modified>
  <cp:revision>10</cp:revision>
  <dc:subject/>
  <dc:title>Slide 1</dc:title>
</cp:coreProperties>
</file>