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5F4-BF4B-4404-A837-55F0AB7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4D0-1B61-4BBD-9721-41974C60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B30-0364-4CC7-BCE8-580AB495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9AF-3C85-4D4B-A400-82D97B7D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36A-79D7-49F3-B0C0-304F1D4E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19A-A636-4866-B383-DFDD7C3E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74F-5BC6-4F83-94DF-724325B4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8E4-CD5B-495F-92EB-7592FCF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1A6-3AAF-4AAA-98F4-3B55364B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82E-C532-4D9C-A8F5-0AAF836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483-0FB9-45A8-97A3-7838E5BF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491-989F-4443-B26F-05AF933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E10B-47A0-48E0-8DED-A5E1F034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-eu.amazon.com/images/P/0749852003.02.LZZZZZZZ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103640" cy="460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115920"/>
            <a:ext cx="4176720" cy="468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4869000"/>
            <a:ext cx="403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Kitzel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219640" y="5084640"/>
            <a:ext cx="3384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Sto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6597720"/>
            <a:ext cx="19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5 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4876920"/>
            <a:ext cx="403236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ufpr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59280" y="4941720"/>
            <a:ext cx="4105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Comic Sans MS"/>
              </a:rPr>
              <a:t>Launi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Comic Sans MS"/>
              <a:ea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53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4941720"/>
            <a:ext cx="403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nmög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3640" y="5013360"/>
            <a:ext cx="37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Wit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61080" y="4941720"/>
            <a:ext cx="403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Pingel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5013360"/>
            <a:ext cx="410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Geschwät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61080" y="4876920"/>
            <a:ext cx="403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Ungeschick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4941720"/>
            <a:ext cx="367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al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4724280"/>
            <a:ext cx="410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Fräulei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Comic Sans MS"/>
              </a:rPr>
              <a:t>Klu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Comic Sans MS"/>
              <a:ea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46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859280" y="4797360"/>
            <a:ext cx="4105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Sp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4941720"/>
            <a:ext cx="4105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räuleinen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Zwillinge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9280" y="5013360"/>
            <a:ext cx="410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räulei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onnenschei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4869000"/>
            <a:ext cx="4105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Gekicher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59280" y="501336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Widerborst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4941720"/>
            <a:ext cx="4105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Hoppla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59280" y="4941720"/>
            <a:ext cx="4105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Comic Sans MS"/>
              </a:rPr>
              <a:t>St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Comic Sans MS"/>
              <a:ea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53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4941720"/>
            <a:ext cx="4105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Spät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859280" y="4869000"/>
            <a:ext cx="410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Gier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76720" cy="4464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4724280"/>
            <a:ext cx="4105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Glänzend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859280" y="4797360"/>
            <a:ext cx="4105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Win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105440" cy="439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5084640"/>
            <a:ext cx="403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mic Sans MS"/>
              </a:rPr>
              <a:t>Perfek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88000" y="5013360"/>
            <a:ext cx="417672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nsin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95920" y="189000"/>
            <a:ext cx="4168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4941720"/>
            <a:ext cx="4105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Fräulein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Ärger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59280" y="4869000"/>
            <a:ext cx="410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Schüchte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4941720"/>
            <a:ext cx="4105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räulei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rdentli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59280" y="4941720"/>
            <a:ext cx="41054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Purzelba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4941720"/>
            <a:ext cx="410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räulei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Beschäftigt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59280" y="4941720"/>
            <a:ext cx="410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te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10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4797360"/>
            <a:ext cx="410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i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465300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Glück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24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50920" y="4869000"/>
            <a:ext cx="410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Schn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59280" y="4941720"/>
            <a:ext cx="4105440" cy="16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Gepfleg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5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960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4797360"/>
            <a:ext cx="410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Hilfre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9280" y="4724280"/>
            <a:ext cx="41054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nart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4105440" cy="4392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920" y="4653000"/>
            <a:ext cx="4105080" cy="19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Schreckl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859280" y="4724280"/>
            <a:ext cx="4105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räu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Schuss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76720" cy="432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0" y="4797360"/>
            <a:ext cx="3790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Geiz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479592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mic Sans MS"/>
              </a:rPr>
              <a:t>Schlamp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mic Sans MS"/>
              <a:ea typeface="Comic Sans MS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89000"/>
            <a:ext cx="403236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105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5013360"/>
            <a:ext cx="403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Schla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48360" y="4941720"/>
            <a:ext cx="36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a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53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4941720"/>
            <a:ext cx="4032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Nie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59280" y="4869000"/>
            <a:ext cx="410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mic Sans MS"/>
              </a:rPr>
              <a:t>Neugier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mic Sans MS"/>
              <a:ea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3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4869000"/>
            <a:ext cx="352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Du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292720" y="4869000"/>
            <a:ext cx="33829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St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31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80080" y="189000"/>
            <a:ext cx="4363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4653000"/>
            <a:ext cx="4032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Durcheina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51640" y="4797360"/>
            <a:ext cx="266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Kl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10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4797360"/>
            <a:ext cx="4032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Ho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9280" y="4795920"/>
            <a:ext cx="41054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Ruhi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4869000"/>
            <a:ext cx="40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Traumer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9280" y="4869000"/>
            <a:ext cx="4105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Her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Langs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446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2:06:41Z</dcterms:created>
  <dc:creator>Eleanor Abrahams </dc:creator>
  <dc:description/>
  <dc:language>en-US</dc:language>
  <cp:lastModifiedBy>CSeccombe</cp:lastModifiedBy>
  <dcterms:modified xsi:type="dcterms:W3CDTF">2005-10-30T14:49:41Z</dcterms:modified>
  <cp:revision>10</cp:revision>
  <dc:subject/>
  <dc:title>Slide 1</dc:title>
</cp:coreProperties>
</file>