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CA4-D7FC-4227-A4A2-EA48C77C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891-44E4-4794-84AB-92FAFF36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AD1-E339-46E9-9372-1ED3ED27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219-FC4B-48F4-87E6-09014EBB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40F-15D8-48E6-A2D1-EA26FF4D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5FF-761E-4E25-AB26-CDE5A6F3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DAB-FD1F-412A-A46E-CDF2E3B1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25F-8578-4E33-8FC2-D51BE5FB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0A0-B24E-4864-AE47-4884E8E1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FA0-DE96-4561-B799-11E2D439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36A-8B2A-4169-9746-557F264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417-54C7-4697-A260-4AF9AC33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2B53-9940-4DDB-9EAB-223F2A6D4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ug.co.uk/system/systempages/file/111/image/wheelchair2.jpe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.wm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.wm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09480"/>
            <a:ext cx="8686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a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im bin Wohnzi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mic Sans MS"/>
                <a:ea typeface="Arial"/>
              </a:rPr>
              <a:t>Schlafzimmer Ich im b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Comic Sans MS"/>
                <a:ea typeface="Arial"/>
              </a:rPr>
              <a:t>wohne Ich einem in H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omic Sans MS"/>
                <a:ea typeface="Arial"/>
              </a:rPr>
              <a:t>dem spiele in Garten Ich Fuss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6524640"/>
            <a:ext cx="52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©MFL Sunderland 2006 AMI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79640" y="4869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tue nichts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homer129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3809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14600" y="522936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kaufe nicht 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0" y="-2262240"/>
            <a:ext cx="9115200" cy="66600"/>
          </a:xfrm>
          <a:prstGeom prst="rect">
            <a:avLst/>
          </a:prstGeom>
          <a:solidFill>
            <a:srgbClr val="cac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sho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81680" y="7989840"/>
            <a:ext cx="1143000" cy="1131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00" y="-2262240"/>
            <a:ext cx="9115200" cy="66600"/>
          </a:xfrm>
          <a:prstGeom prst="rect">
            <a:avLst/>
          </a:prstGeom>
          <a:solidFill>
            <a:srgbClr val="cac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shop"/>
          <p:cNvPicPr/>
          <p:nvPr/>
        </p:nvPicPr>
        <p:blipFill>
          <a:blip r:embed="rId3"/>
          <a:stretch/>
        </p:blipFill>
        <p:spPr>
          <a:xfrm>
            <a:off x="4981680" y="7989840"/>
            <a:ext cx="1143000" cy="1131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286000" y="609480"/>
            <a:ext cx="4325760" cy="4319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8800" y="380880"/>
            <a:ext cx="510552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676160" y="457200"/>
            <a:ext cx="5638680" cy="4876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00200" y="52293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mache nicht das Bett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Bed making"/>
          <p:cNvPicPr/>
          <p:nvPr/>
        </p:nvPicPr>
        <p:blipFill>
          <a:blip r:embed="rId1"/>
          <a:stretch/>
        </p:blipFill>
        <p:spPr>
          <a:xfrm>
            <a:off x="1981080" y="1143000"/>
            <a:ext cx="5077080" cy="3497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8800" y="380880"/>
            <a:ext cx="510552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676160" y="457200"/>
            <a:ext cx="5638680" cy="4876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05120" y="50846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wasche nicht a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363680"/>
            <a:ext cx="4641840" cy="3089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28800" y="380880"/>
            <a:ext cx="510552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76160" y="457200"/>
            <a:ext cx="5638680" cy="4876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4797360"/>
            <a:ext cx="56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trockne nicht ab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8280" y="1009800"/>
            <a:ext cx="3537000" cy="3525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28800" y="380880"/>
            <a:ext cx="510552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676160" y="457200"/>
            <a:ext cx="5638680" cy="4876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38280" y="5181480"/>
            <a:ext cx="62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sauge nicht Stau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68280" y="1592280"/>
            <a:ext cx="4674600" cy="2674080"/>
            <a:chOff x="1268280" y="1592280"/>
            <a:chExt cx="4674600" cy="26740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1268280" y="1711440"/>
              <a:ext cx="1949400" cy="255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078800" y="1592280"/>
              <a:ext cx="1864080" cy="250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609480" y="1371600"/>
            <a:ext cx="2743200" cy="289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80880"/>
            <a:ext cx="510552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160" y="457200"/>
            <a:ext cx="5638680" cy="4876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48690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r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äume mein Zimmer nicht au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489280" cy="3084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380880"/>
            <a:ext cx="5105520" cy="4800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76160" y="457200"/>
            <a:ext cx="5638680" cy="4876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838080"/>
            <a:ext cx="8007480" cy="4254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Separable 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eparable verbs consist of the stem of the verb 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(e.g. </a:t>
            </a:r>
            <a:r>
              <a:rPr b="0" i="1" lang="en-GB" sz="2000" spc="-1" strike="noStrike">
                <a:solidFill>
                  <a:srgbClr val="0000ff"/>
                </a:solidFill>
                <a:latin typeface="Comic Sans MS"/>
              </a:rPr>
              <a:t>wasch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) and a prefix (e.g </a:t>
            </a:r>
            <a:r>
              <a:rPr b="0" i="1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 the infinitive they are joined together (e.g. </a:t>
            </a:r>
            <a:r>
              <a:rPr b="0" i="1" lang="en-GB" sz="2000" spc="-1" strike="noStrike">
                <a:solidFill>
                  <a:srgbClr val="0000ff"/>
                </a:solidFill>
                <a:latin typeface="Comic Sans MS"/>
              </a:rPr>
              <a:t>abwasch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 the present tense the prefix moves to the end of th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entence (</a:t>
            </a:r>
            <a:r>
              <a:rPr b="0" i="1" lang="en-GB" sz="2000" spc="-1" strike="noStrike">
                <a:solidFill>
                  <a:srgbClr val="009999"/>
                </a:solidFill>
                <a:latin typeface="Comic Sans MS"/>
              </a:rPr>
              <a:t>Ich </a:t>
            </a:r>
            <a:r>
              <a:rPr b="0" i="1" lang="en-GB" sz="2000" spc="-1" strike="noStrike">
                <a:solidFill>
                  <a:srgbClr val="0000ff"/>
                </a:solidFill>
                <a:latin typeface="Comic Sans MS"/>
              </a:rPr>
              <a:t>wasche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GB" sz="2000" spc="-1" strike="noStrike">
                <a:solidFill>
                  <a:srgbClr val="009999"/>
                </a:solidFill>
                <a:latin typeface="Comic Sans MS"/>
              </a:rPr>
              <a:t>jeden Abend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2133720"/>
            <a:ext cx="8007480" cy="271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rockn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o dry u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ch trockne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uf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räum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o tidy u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ch räume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wasch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o wash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5640" y="2133720"/>
            <a:ext cx="8007480" cy="271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rockn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o dry u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ch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uf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räum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o tidy u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wasche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o wash u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ch wasche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b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8686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bin im Wohnzi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mic Sans MS"/>
                <a:ea typeface="Arial"/>
              </a:rPr>
              <a:t>Ich bin im Schlafzi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mic Sans MS"/>
                <a:ea typeface="Arial"/>
              </a:rPr>
              <a:t> </a:t>
            </a:r>
            <a:r>
              <a:rPr b="1" lang="en-US" sz="4000" spc="-1" strike="noStrike">
                <a:solidFill>
                  <a:srgbClr val="ff99ff"/>
                </a:solidFill>
                <a:latin typeface="Comic Sans MS"/>
                <a:ea typeface="Arial"/>
              </a:rPr>
              <a:t>Ich</a:t>
            </a:r>
            <a:r>
              <a:rPr b="1" lang="en-US" sz="4000" spc="-1" strike="noStrike">
                <a:solidFill>
                  <a:srgbClr val="99cc00"/>
                </a:solidFill>
                <a:latin typeface="Comic Sans MS"/>
                <a:ea typeface="Arial"/>
              </a:rPr>
              <a:t> </a:t>
            </a:r>
            <a:r>
              <a:rPr b="1" lang="en-US" sz="4000" spc="-1" strike="noStrike">
                <a:solidFill>
                  <a:srgbClr val="ff99ff"/>
                </a:solidFill>
                <a:latin typeface="Comic Sans MS"/>
                <a:ea typeface="Arial"/>
              </a:rPr>
              <a:t>wohne in einem H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omic Sans MS"/>
                <a:ea typeface="Arial"/>
              </a:rPr>
              <a:t>Ich spiele Fussball in dem Gar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600200" cy="159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Bed making"/>
          <p:cNvPicPr/>
          <p:nvPr/>
        </p:nvPicPr>
        <p:blipFill>
          <a:blip r:embed="rId2"/>
          <a:stretch/>
        </p:blipFill>
        <p:spPr>
          <a:xfrm>
            <a:off x="609480" y="2286000"/>
            <a:ext cx="1676520" cy="1154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781680" y="152280"/>
            <a:ext cx="1524240" cy="15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638680" y="2057400"/>
            <a:ext cx="2895840" cy="1627200"/>
          </a:xfrm>
          <a:prstGeom prst="rect">
            <a:avLst/>
          </a:prstGeom>
          <a:ln w="0">
            <a:noFill/>
          </a:ln>
        </p:spPr>
      </p:pic>
      <p:pic>
        <p:nvPicPr>
          <p:cNvPr id="110" name="homer129" descr=""/>
          <p:cNvPicPr/>
          <p:nvPr/>
        </p:nvPicPr>
        <p:blipFill>
          <a:blip r:embed="rId6"/>
          <a:stretch/>
        </p:blipFill>
        <p:spPr>
          <a:xfrm>
            <a:off x="609480" y="3505320"/>
            <a:ext cx="1676520" cy="146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28600"/>
            <a:ext cx="3207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34520" y="457200"/>
            <a:ext cx="6094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533520"/>
            <a:ext cx="37339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A:Ich räume mein Zimmer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B: Ich tue ni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C: Ich kaufe 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D: Ich wasch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E: Ich mache das B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F: Ich trockn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: Ich sauge St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791320" y="3962520"/>
            <a:ext cx="2464920" cy="1371240"/>
            <a:chOff x="5791320" y="3962520"/>
            <a:chExt cx="2464920" cy="1371240"/>
          </a:xfrm>
        </p:grpSpPr>
        <p:pic>
          <p:nvPicPr>
            <p:cNvPr id="115" name="" descr=""/>
            <p:cNvPicPr/>
            <p:nvPr/>
          </p:nvPicPr>
          <p:blipFill>
            <a:blip r:embed="rId7"/>
            <a:stretch/>
          </p:blipFill>
          <p:spPr>
            <a:xfrm>
              <a:off x="5791320" y="4023360"/>
              <a:ext cx="1027800" cy="131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8"/>
            <a:stretch/>
          </p:blipFill>
          <p:spPr>
            <a:xfrm>
              <a:off x="7273440" y="3962520"/>
              <a:ext cx="982800" cy="12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5334120" y="3962520"/>
            <a:ext cx="175248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600200" cy="1598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Bed making"/>
          <p:cNvPicPr/>
          <p:nvPr/>
        </p:nvPicPr>
        <p:blipFill>
          <a:blip r:embed="rId2"/>
          <a:stretch/>
        </p:blipFill>
        <p:spPr>
          <a:xfrm>
            <a:off x="609480" y="2286000"/>
            <a:ext cx="1676520" cy="115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781680" y="152280"/>
            <a:ext cx="1524240" cy="1519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638680" y="2057400"/>
            <a:ext cx="2895840" cy="1627200"/>
          </a:xfrm>
          <a:prstGeom prst="rect">
            <a:avLst/>
          </a:prstGeom>
          <a:ln w="0">
            <a:noFill/>
          </a:ln>
        </p:spPr>
      </p:pic>
      <p:pic>
        <p:nvPicPr>
          <p:cNvPr id="123" name="homer129" descr=""/>
          <p:cNvPicPr/>
          <p:nvPr/>
        </p:nvPicPr>
        <p:blipFill>
          <a:blip r:embed="rId6"/>
          <a:stretch/>
        </p:blipFill>
        <p:spPr>
          <a:xfrm>
            <a:off x="609480" y="3505320"/>
            <a:ext cx="1676520" cy="1463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280" y="228600"/>
            <a:ext cx="3207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34520" y="457200"/>
            <a:ext cx="6094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33520"/>
            <a:ext cx="37339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6A:Ich räume mein Zimmer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3B: Ich tue ni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C: Ich kaufe 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5D: Ich wasch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2E: Ich mache das B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4F: Ich trockn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7G: Ich sauge St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3962520"/>
            <a:ext cx="2464920" cy="1371240"/>
            <a:chOff x="5791320" y="3962520"/>
            <a:chExt cx="2464920" cy="1371240"/>
          </a:xfrm>
        </p:grpSpPr>
        <p:pic>
          <p:nvPicPr>
            <p:cNvPr id="128" name="" descr=""/>
            <p:cNvPicPr/>
            <p:nvPr/>
          </p:nvPicPr>
          <p:blipFill>
            <a:blip r:embed="rId7"/>
            <a:stretch/>
          </p:blipFill>
          <p:spPr>
            <a:xfrm>
              <a:off x="5791320" y="4023360"/>
              <a:ext cx="1027800" cy="131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8"/>
            <a:stretch/>
          </p:blipFill>
          <p:spPr>
            <a:xfrm>
              <a:off x="7273440" y="3962520"/>
              <a:ext cx="982800" cy="12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5334120" y="3962520"/>
            <a:ext cx="175248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Die Hausarb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5280" y="1773360"/>
            <a:ext cx="7775640" cy="28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In this lesson you will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 use some high frequency verbs to talk about household ch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11280" y="4869000"/>
            <a:ext cx="3834000" cy="1630080"/>
            <a:chOff x="2411280" y="4869000"/>
            <a:chExt cx="3834000" cy="16300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2411280" y="4941720"/>
              <a:ext cx="1598760" cy="15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4716360" y="4869000"/>
              <a:ext cx="1528920" cy="15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1752480" y="4648320"/>
            <a:ext cx="2743200" cy="190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14600" y="522936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kaufe 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00" y="-2262240"/>
            <a:ext cx="9115200" cy="66600"/>
          </a:xfrm>
          <a:prstGeom prst="rect">
            <a:avLst/>
          </a:prstGeom>
          <a:solidFill>
            <a:srgbClr val="cac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shop"/>
          <p:cNvPicPr/>
          <p:nvPr/>
        </p:nvPicPr>
        <p:blipFill>
          <a:blip r:embed="rId1"/>
          <a:stretch/>
        </p:blipFill>
        <p:spPr>
          <a:xfrm>
            <a:off x="4981680" y="7989840"/>
            <a:ext cx="1143000" cy="113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400" y="-2262240"/>
            <a:ext cx="9115200" cy="66600"/>
          </a:xfrm>
          <a:prstGeom prst="rect">
            <a:avLst/>
          </a:prstGeom>
          <a:solidFill>
            <a:srgbClr val="cac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hop"/>
          <p:cNvPicPr/>
          <p:nvPr/>
        </p:nvPicPr>
        <p:blipFill>
          <a:blip r:embed="rId2"/>
          <a:stretch/>
        </p:blipFill>
        <p:spPr>
          <a:xfrm>
            <a:off x="4981680" y="7989840"/>
            <a:ext cx="1143000" cy="113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86000" y="609480"/>
            <a:ext cx="4325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6720" y="522936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mache das Bett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Bed making"/>
          <p:cNvPicPr/>
          <p:nvPr/>
        </p:nvPicPr>
        <p:blipFill>
          <a:blip r:embed="rId1"/>
          <a:stretch/>
        </p:blipFill>
        <p:spPr>
          <a:xfrm>
            <a:off x="1981080" y="1143000"/>
            <a:ext cx="50770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11280" y="508464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wasche a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1363680"/>
            <a:ext cx="46418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43280" y="479736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trockne ab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009800"/>
            <a:ext cx="35370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38280" y="5181480"/>
            <a:ext cx="62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sauge Stau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68280" y="1592280"/>
            <a:ext cx="4674600" cy="2674080"/>
            <a:chOff x="1268280" y="1592280"/>
            <a:chExt cx="4674600" cy="267408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268280" y="1711440"/>
              <a:ext cx="1949400" cy="255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4078800" y="1592280"/>
              <a:ext cx="1864080" cy="250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609480" y="1371600"/>
            <a:ext cx="2743200" cy="289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4869000"/>
            <a:ext cx="751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Ich r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äume mein Zimmer au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4892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2:47:01Z</dcterms:created>
  <dc:creator>Chris</dc:creator>
  <dc:description/>
  <dc:language>en-US</dc:language>
  <cp:lastModifiedBy>CSeccombe</cp:lastModifiedBy>
  <dcterms:modified xsi:type="dcterms:W3CDTF">2006-11-20T13:20:44Z</dcterms:modified>
  <cp:revision>18</cp:revision>
  <dc:subject/>
  <dc:title>Die Hausarbeit</dc:title>
</cp:coreProperties>
</file>