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8D22-A16C-46F5-AD2E-7D22B2B19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EF25-4844-4F0A-825E-15507CBAF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6B32-BACD-4AF1-89DA-F2D14B175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9C8B-6D40-4CDC-8B1B-AAE801C3F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F205-FA37-4AA7-861D-8CA4C535E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A722-E8C1-427C-9E1B-A59828D0B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F38F-3077-4E63-8A7F-812544955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0E2F-6F4C-4EA0-8AB7-ECF44C8D2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80B8-8454-4560-87A6-36D9AB5FB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8952-B09A-4E69-A049-0C640DE9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16BB-0F7B-49C6-862C-89B6F022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52BF-A58A-489C-933B-E606AF9C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8639C-EA24-443A-B320-A3A26F1C4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uug.co.uk/system/systempages/file/111/image/wheelchair2.jpe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image" Target="../media/image1.wmf"/><Relationship Id="rId8" Type="http://schemas.openxmlformats.org/officeDocument/2006/relationships/image" Target="../media/image2.gif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image" Target="../media/image1.wmf"/><Relationship Id="rId8" Type="http://schemas.openxmlformats.org/officeDocument/2006/relationships/image" Target="../media/image2.gi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609480"/>
            <a:ext cx="86868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Star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omic Sans MS"/>
              </a:rPr>
              <a:t>Ich im bin Wohnzimm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00"/>
                </a:solidFill>
                <a:latin typeface="Comic Sans MS"/>
                <a:ea typeface="Arial"/>
              </a:rPr>
              <a:t>Schlafzimmer Ich im b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ff"/>
                </a:solidFill>
                <a:latin typeface="Comic Sans MS"/>
                <a:ea typeface="Arial"/>
              </a:rPr>
              <a:t>wohne Ich einem in Ha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ff"/>
                </a:solidFill>
                <a:latin typeface="Comic Sans MS"/>
                <a:ea typeface="Arial"/>
              </a:rPr>
              <a:t>dem spiele in Garten Ich Fussb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51280" y="6524640"/>
            <a:ext cx="529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Rounded MT Bold"/>
              </a:rPr>
              <a:t>©MFL Sunderland 2006 AMI http://www.sunderlandschools.org/mfl-sunderland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979640" y="486900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omic Sans MS"/>
              </a:rPr>
              <a:t>Ich tue nichts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homer129" descr=""/>
          <p:cNvPicPr/>
          <p:nvPr/>
        </p:nvPicPr>
        <p:blipFill>
          <a:blip r:embed="rId1"/>
          <a:stretch/>
        </p:blipFill>
        <p:spPr>
          <a:xfrm>
            <a:off x="2514600" y="1143000"/>
            <a:ext cx="380988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514600" y="522936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omic Sans MS"/>
              </a:rPr>
              <a:t>Ich kaufe nicht e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400" y="-2262240"/>
            <a:ext cx="9115200" cy="66600"/>
          </a:xfrm>
          <a:prstGeom prst="rect">
            <a:avLst/>
          </a:prstGeom>
          <a:solidFill>
            <a:srgbClr val="caca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sho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81680" y="7989840"/>
            <a:ext cx="1143000" cy="11318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4400" y="-2262240"/>
            <a:ext cx="9115200" cy="66600"/>
          </a:xfrm>
          <a:prstGeom prst="rect">
            <a:avLst/>
          </a:prstGeom>
          <a:solidFill>
            <a:srgbClr val="caca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shop"/>
          <p:cNvPicPr/>
          <p:nvPr/>
        </p:nvPicPr>
        <p:blipFill>
          <a:blip r:embed="rId3"/>
          <a:stretch/>
        </p:blipFill>
        <p:spPr>
          <a:xfrm>
            <a:off x="4981680" y="7989840"/>
            <a:ext cx="1143000" cy="11318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2286000" y="609480"/>
            <a:ext cx="4325760" cy="4319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828800" y="380880"/>
            <a:ext cx="5105520" cy="48006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676160" y="457200"/>
            <a:ext cx="5638680" cy="48769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600200" y="522936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omic Sans MS"/>
              </a:rPr>
              <a:t>Ich mache nicht das Bett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  <a:ea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Bed making"/>
          <p:cNvPicPr/>
          <p:nvPr/>
        </p:nvPicPr>
        <p:blipFill>
          <a:blip r:embed="rId1"/>
          <a:stretch/>
        </p:blipFill>
        <p:spPr>
          <a:xfrm>
            <a:off x="1981080" y="1143000"/>
            <a:ext cx="5077080" cy="34974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828800" y="380880"/>
            <a:ext cx="5105520" cy="48006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1676160" y="457200"/>
            <a:ext cx="5638680" cy="48769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905120" y="508464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omic Sans MS"/>
              </a:rPr>
              <a:t>Ich wasche nicht ab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05120" y="1363680"/>
            <a:ext cx="4641840" cy="3089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828800" y="380880"/>
            <a:ext cx="5105520" cy="48006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1676160" y="457200"/>
            <a:ext cx="5638680" cy="48769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133720" y="4797360"/>
            <a:ext cx="560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omic Sans MS"/>
              </a:rPr>
              <a:t>Ich trockne nicht ab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  <a:ea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438280" y="1009800"/>
            <a:ext cx="3537000" cy="3525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828800" y="380880"/>
            <a:ext cx="5105520" cy="48006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676160" y="457200"/>
            <a:ext cx="5638680" cy="48769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438280" y="5181480"/>
            <a:ext cx="628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omic Sans MS"/>
              </a:rPr>
              <a:t>Ich sauge nicht Stau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268280" y="1592280"/>
            <a:ext cx="4674600" cy="2674080"/>
            <a:chOff x="1268280" y="1592280"/>
            <a:chExt cx="4674600" cy="26740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1268280" y="1711440"/>
              <a:ext cx="1949400" cy="255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078800" y="1592280"/>
              <a:ext cx="1864080" cy="2507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609480" y="1371600"/>
            <a:ext cx="2743200" cy="289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28800" y="380880"/>
            <a:ext cx="5105520" cy="48006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1676160" y="457200"/>
            <a:ext cx="5638680" cy="48769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8600" y="486900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omic Sans MS"/>
              </a:rPr>
              <a:t>Ich r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äume mein Zimmer nicht au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47920" y="838080"/>
            <a:ext cx="5489280" cy="30844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828800" y="380880"/>
            <a:ext cx="5105520" cy="48006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676160" y="457200"/>
            <a:ext cx="5638680" cy="48769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55640" y="838080"/>
            <a:ext cx="8007480" cy="4254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Separable ver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Separable verbs consist of the stem of the verb </a:t>
            </a:r>
            <a:br>
              <a:rPr sz="2000"/>
            </a:b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(e.g. </a:t>
            </a:r>
            <a:r>
              <a:rPr b="0" i="1" lang="en-GB" sz="2000" spc="-1" strike="noStrike">
                <a:solidFill>
                  <a:srgbClr val="0000ff"/>
                </a:solidFill>
                <a:latin typeface="Comic Sans MS"/>
              </a:rPr>
              <a:t>waschen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) and a prefix (e.g </a:t>
            </a:r>
            <a:r>
              <a:rPr b="0" i="1" lang="en-GB" sz="2000" spc="-1" strike="noStrike">
                <a:solidFill>
                  <a:srgbClr val="0000ff"/>
                </a:solidFill>
                <a:latin typeface="Comic Sans MS"/>
              </a:rPr>
              <a:t>ab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In the infinitive they are joined together (e.g. </a:t>
            </a:r>
            <a:r>
              <a:rPr b="0" i="1" lang="en-GB" sz="2000" spc="-1" strike="noStrike">
                <a:solidFill>
                  <a:srgbClr val="0000ff"/>
                </a:solidFill>
                <a:latin typeface="Comic Sans MS"/>
              </a:rPr>
              <a:t>abwaschen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In the present tense the prefix moves to the end of the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sentence (</a:t>
            </a:r>
            <a:r>
              <a:rPr b="0" i="1" lang="en-GB" sz="2000" spc="-1" strike="noStrike">
                <a:solidFill>
                  <a:srgbClr val="009999"/>
                </a:solidFill>
                <a:latin typeface="Comic Sans MS"/>
              </a:rPr>
              <a:t>Ich </a:t>
            </a:r>
            <a:r>
              <a:rPr b="0" i="1" lang="en-GB" sz="2000" spc="-1" strike="noStrike">
                <a:solidFill>
                  <a:srgbClr val="0000ff"/>
                </a:solidFill>
                <a:latin typeface="Comic Sans MS"/>
              </a:rPr>
              <a:t>wasche</a:t>
            </a:r>
            <a:r>
              <a:rPr b="0" i="1" lang="en-GB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i="1" lang="en-GB" sz="2000" spc="-1" strike="noStrike">
                <a:solidFill>
                  <a:srgbClr val="009999"/>
                </a:solidFill>
                <a:latin typeface="Comic Sans MS"/>
              </a:rPr>
              <a:t>jeden Abend</a:t>
            </a:r>
            <a:r>
              <a:rPr b="0" i="1" lang="en-GB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i="1" lang="en-GB" sz="2000" spc="-1" strike="noStrike">
                <a:solidFill>
                  <a:srgbClr val="0000ff"/>
                </a:solidFill>
                <a:latin typeface="Comic Sans MS"/>
              </a:rPr>
              <a:t>ab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55640" y="2133720"/>
            <a:ext cx="8007480" cy="2717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ab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trocknen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to dry up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Ich trockne </a:t>
            </a: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ab</a:t>
            </a: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auf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räumen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to tidy up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Ich räume </a:t>
            </a: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au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ab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waschen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to wash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55640" y="2133720"/>
            <a:ext cx="8007480" cy="2717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ab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trocknen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to dry up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Ich </a:t>
            </a: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auf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räumen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to tidy up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I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ab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waschen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to wash up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Ich wasche </a:t>
            </a: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ab</a:t>
            </a: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228600"/>
            <a:ext cx="86868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omic Sans MS"/>
              </a:rPr>
              <a:t>Ich bin im Wohnzimm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00"/>
                </a:solidFill>
                <a:latin typeface="Comic Sans MS"/>
                <a:ea typeface="Arial"/>
              </a:rPr>
              <a:t>Ich bin im Schlafzimm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00"/>
                </a:solidFill>
                <a:latin typeface="Comic Sans MS"/>
                <a:ea typeface="Arial"/>
              </a:rPr>
              <a:t> </a:t>
            </a:r>
            <a:r>
              <a:rPr b="1" lang="en-US" sz="4000" spc="-1" strike="noStrike">
                <a:solidFill>
                  <a:srgbClr val="ff99ff"/>
                </a:solidFill>
                <a:latin typeface="Comic Sans MS"/>
                <a:ea typeface="Arial"/>
              </a:rPr>
              <a:t>Ich</a:t>
            </a:r>
            <a:r>
              <a:rPr b="1" lang="en-US" sz="4000" spc="-1" strike="noStrike">
                <a:solidFill>
                  <a:srgbClr val="99cc00"/>
                </a:solidFill>
                <a:latin typeface="Comic Sans MS"/>
                <a:ea typeface="Arial"/>
              </a:rPr>
              <a:t> </a:t>
            </a:r>
            <a:r>
              <a:rPr b="1" lang="en-US" sz="4000" spc="-1" strike="noStrike">
                <a:solidFill>
                  <a:srgbClr val="ff99ff"/>
                </a:solidFill>
                <a:latin typeface="Comic Sans MS"/>
                <a:ea typeface="Arial"/>
              </a:rPr>
              <a:t>wohne in einem Ha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ff"/>
                </a:solidFill>
                <a:latin typeface="Comic Sans MS"/>
                <a:ea typeface="Arial"/>
              </a:rPr>
              <a:t>Ich spiele Fussball in dem Gart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1600200" cy="15987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Bed making"/>
          <p:cNvPicPr/>
          <p:nvPr/>
        </p:nvPicPr>
        <p:blipFill>
          <a:blip r:embed="rId2"/>
          <a:stretch/>
        </p:blipFill>
        <p:spPr>
          <a:xfrm>
            <a:off x="609480" y="2286000"/>
            <a:ext cx="1676520" cy="11541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609480" y="5334120"/>
            <a:ext cx="1905120" cy="1268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6781680" y="152280"/>
            <a:ext cx="1524240" cy="1519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5638680" y="2057400"/>
            <a:ext cx="2895840" cy="1627200"/>
          </a:xfrm>
          <a:prstGeom prst="rect">
            <a:avLst/>
          </a:prstGeom>
          <a:ln w="0">
            <a:noFill/>
          </a:ln>
        </p:spPr>
      </p:pic>
      <p:pic>
        <p:nvPicPr>
          <p:cNvPr id="110" name="homer129" descr=""/>
          <p:cNvPicPr/>
          <p:nvPr/>
        </p:nvPicPr>
        <p:blipFill>
          <a:blip r:embed="rId6"/>
          <a:stretch/>
        </p:blipFill>
        <p:spPr>
          <a:xfrm>
            <a:off x="609480" y="3505320"/>
            <a:ext cx="1676520" cy="14634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52280" y="228600"/>
            <a:ext cx="32076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534520" y="457200"/>
            <a:ext cx="60948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38280" y="533520"/>
            <a:ext cx="373392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A:Ich räume mein Zimmer au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B: Ich tue nic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C: Ich kaufe 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D: Ich wasche 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E: Ich mache das Be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F: Ich trockne 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G: Ich sauge Sta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791320" y="3962520"/>
            <a:ext cx="2464920" cy="1371240"/>
            <a:chOff x="5791320" y="3962520"/>
            <a:chExt cx="2464920" cy="1371240"/>
          </a:xfrm>
        </p:grpSpPr>
        <p:pic>
          <p:nvPicPr>
            <p:cNvPr id="115" name="" descr=""/>
            <p:cNvPicPr/>
            <p:nvPr/>
          </p:nvPicPr>
          <p:blipFill>
            <a:blip r:embed="rId7"/>
            <a:stretch/>
          </p:blipFill>
          <p:spPr>
            <a:xfrm>
              <a:off x="5791320" y="4023360"/>
              <a:ext cx="1027800" cy="131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8"/>
            <a:stretch/>
          </p:blipFill>
          <p:spPr>
            <a:xfrm>
              <a:off x="7273440" y="3962520"/>
              <a:ext cx="982800" cy="128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"/>
          <p:cNvSpPr/>
          <p:nvPr/>
        </p:nvSpPr>
        <p:spPr>
          <a:xfrm>
            <a:off x="5334120" y="3962520"/>
            <a:ext cx="1752480" cy="160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1600200" cy="15987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Bed making"/>
          <p:cNvPicPr/>
          <p:nvPr/>
        </p:nvPicPr>
        <p:blipFill>
          <a:blip r:embed="rId2"/>
          <a:stretch/>
        </p:blipFill>
        <p:spPr>
          <a:xfrm>
            <a:off x="609480" y="2286000"/>
            <a:ext cx="1676520" cy="11541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609480" y="5334120"/>
            <a:ext cx="1905120" cy="1268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6781680" y="152280"/>
            <a:ext cx="1524240" cy="15192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5638680" y="2057400"/>
            <a:ext cx="2895840" cy="1627200"/>
          </a:xfrm>
          <a:prstGeom prst="rect">
            <a:avLst/>
          </a:prstGeom>
          <a:ln w="0">
            <a:noFill/>
          </a:ln>
        </p:spPr>
      </p:pic>
      <p:pic>
        <p:nvPicPr>
          <p:cNvPr id="123" name="homer129" descr=""/>
          <p:cNvPicPr/>
          <p:nvPr/>
        </p:nvPicPr>
        <p:blipFill>
          <a:blip r:embed="rId6"/>
          <a:stretch/>
        </p:blipFill>
        <p:spPr>
          <a:xfrm>
            <a:off x="609480" y="3505320"/>
            <a:ext cx="1676520" cy="1463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52280" y="228600"/>
            <a:ext cx="32076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534520" y="457200"/>
            <a:ext cx="60948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33520"/>
            <a:ext cx="373392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6A:Ich räume mein Zimmer au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3B: Ich tue nic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1C: Ich kaufe 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5D: Ich wasche 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2E: Ich mache das Be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4F: Ich trockne 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7G: Ich sauge Sta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5791320" y="3962520"/>
            <a:ext cx="2464920" cy="1371240"/>
            <a:chOff x="5791320" y="3962520"/>
            <a:chExt cx="2464920" cy="1371240"/>
          </a:xfrm>
        </p:grpSpPr>
        <p:pic>
          <p:nvPicPr>
            <p:cNvPr id="128" name="" descr=""/>
            <p:cNvPicPr/>
            <p:nvPr/>
          </p:nvPicPr>
          <p:blipFill>
            <a:blip r:embed="rId7"/>
            <a:stretch/>
          </p:blipFill>
          <p:spPr>
            <a:xfrm>
              <a:off x="5791320" y="4023360"/>
              <a:ext cx="1027800" cy="131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8"/>
            <a:stretch/>
          </p:blipFill>
          <p:spPr>
            <a:xfrm>
              <a:off x="7273440" y="3962520"/>
              <a:ext cx="982800" cy="128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"/>
          <p:cNvSpPr/>
          <p:nvPr/>
        </p:nvSpPr>
        <p:spPr>
          <a:xfrm>
            <a:off x="5334120" y="3962520"/>
            <a:ext cx="1752480" cy="160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Die Hausarb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55280" y="1773360"/>
            <a:ext cx="7775640" cy="2808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Comic Sans MS"/>
              </a:rPr>
              <a:t>In this lesson you will lear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 use some high frequency verbs to talk about household ch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11280" y="4869000"/>
            <a:ext cx="3834000" cy="1630080"/>
            <a:chOff x="2411280" y="4869000"/>
            <a:chExt cx="3834000" cy="1630080"/>
          </a:xfrm>
        </p:grpSpPr>
        <p:pic>
          <p:nvPicPr>
            <p:cNvPr id="47" name="" descr=""/>
            <p:cNvPicPr/>
            <p:nvPr/>
          </p:nvPicPr>
          <p:blipFill>
            <a:blip r:embed="rId1"/>
            <a:stretch/>
          </p:blipFill>
          <p:spPr>
            <a:xfrm>
              <a:off x="2411280" y="4941720"/>
              <a:ext cx="1598760" cy="155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4716360" y="4869000"/>
              <a:ext cx="1528920" cy="152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"/>
          <p:cNvSpPr/>
          <p:nvPr/>
        </p:nvSpPr>
        <p:spPr>
          <a:xfrm>
            <a:off x="1752480" y="4648320"/>
            <a:ext cx="2743200" cy="1904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514600" y="5229360"/>
            <a:ext cx="371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omic Sans MS"/>
              </a:rPr>
              <a:t>Ich kaufe e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400" y="-2262240"/>
            <a:ext cx="9115200" cy="66600"/>
          </a:xfrm>
          <a:prstGeom prst="rect">
            <a:avLst/>
          </a:prstGeom>
          <a:solidFill>
            <a:srgbClr val="caca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shop"/>
          <p:cNvPicPr/>
          <p:nvPr/>
        </p:nvPicPr>
        <p:blipFill>
          <a:blip r:embed="rId1"/>
          <a:stretch/>
        </p:blipFill>
        <p:spPr>
          <a:xfrm>
            <a:off x="4981680" y="7989840"/>
            <a:ext cx="1143000" cy="1131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4400" y="-2262240"/>
            <a:ext cx="9115200" cy="66600"/>
          </a:xfrm>
          <a:prstGeom prst="rect">
            <a:avLst/>
          </a:prstGeom>
          <a:solidFill>
            <a:srgbClr val="caca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shop"/>
          <p:cNvPicPr/>
          <p:nvPr/>
        </p:nvPicPr>
        <p:blipFill>
          <a:blip r:embed="rId2"/>
          <a:stretch/>
        </p:blipFill>
        <p:spPr>
          <a:xfrm>
            <a:off x="4981680" y="7989840"/>
            <a:ext cx="1143000" cy="1131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2286000" y="609480"/>
            <a:ext cx="43257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276720" y="5229360"/>
            <a:ext cx="295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omic Sans MS"/>
              </a:rPr>
              <a:t>Ich mache das Bett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  <a:ea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Bed making"/>
          <p:cNvPicPr/>
          <p:nvPr/>
        </p:nvPicPr>
        <p:blipFill>
          <a:blip r:embed="rId1"/>
          <a:stretch/>
        </p:blipFill>
        <p:spPr>
          <a:xfrm>
            <a:off x="1981080" y="1143000"/>
            <a:ext cx="5077080" cy="34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11280" y="5084640"/>
            <a:ext cx="47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omic Sans MS"/>
              </a:rPr>
              <a:t>Ich wasche ab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905120" y="1363680"/>
            <a:ext cx="4641840" cy="30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843280" y="4797360"/>
            <a:ext cx="48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omic Sans MS"/>
              </a:rPr>
              <a:t>Ich trockne ab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  <a:ea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38280" y="1009800"/>
            <a:ext cx="3537000" cy="35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438280" y="5181480"/>
            <a:ext cx="628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omic Sans MS"/>
              </a:rPr>
              <a:t>Ich sauge Stau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268280" y="1592280"/>
            <a:ext cx="4674600" cy="2674080"/>
            <a:chOff x="1268280" y="1592280"/>
            <a:chExt cx="4674600" cy="267408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1268280" y="1711440"/>
              <a:ext cx="1949400" cy="255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2"/>
            <a:stretch/>
          </p:blipFill>
          <p:spPr>
            <a:xfrm>
              <a:off x="4078800" y="1592280"/>
              <a:ext cx="1864080" cy="2507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" name=""/>
          <p:cNvSpPr/>
          <p:nvPr/>
        </p:nvSpPr>
        <p:spPr>
          <a:xfrm>
            <a:off x="609480" y="1371600"/>
            <a:ext cx="2743200" cy="289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28600" y="4869000"/>
            <a:ext cx="751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omic Sans MS"/>
              </a:rPr>
              <a:t>Ich r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äume mein Zimmer au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447920" y="838080"/>
            <a:ext cx="548928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9T12:47:01Z</dcterms:created>
  <dc:creator>Chris</dc:creator>
  <dc:description/>
  <dc:language>en-US</dc:language>
  <cp:lastModifiedBy>CSeccombe</cp:lastModifiedBy>
  <dcterms:modified xsi:type="dcterms:W3CDTF">2006-11-20T13:20:44Z</dcterms:modified>
  <cp:revision>18</cp:revision>
  <dc:subject/>
  <dc:title>Die Hausarbeit</dc:title>
</cp:coreProperties>
</file>