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447B-8879-4C1B-954E-1ABA9BF67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5114-DA28-4016-8262-6E16380E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7505-2AD6-4EFE-B365-EE4A68E32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1086-CF36-4B57-B8B2-06B1A41A1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C3E1-7757-41F3-9497-DE688E1D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63D5-F576-47DF-89A4-91647B7F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5CFB-9D0D-4037-9445-50C48CE2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D3B4-DB00-4822-B438-52D3ED23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187B-6DD8-443B-8563-889930B0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4A4A-0AA0-482E-8005-1CF4275F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1394-0A47-4B82-ADCA-C5CBD621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A999-7A6F-4BC3-ACDF-F7C54383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FC4A-2BAF-407D-BF12-BC7D1947F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llfree-clipart.com/clipart/Business/Cartoons/thumbnails8.shtm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artner.northdevon.gov.uk/devontalk/archive/autumn2003/safer_students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hyperlink" Target="http://www.setanti.com/commsafe/hatecrime.htm" TargetMode="External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hyperlink" Target="http://www.allfree-clipart.com/clipart/Business/Cartoons/thumbnails8.shtml" TargetMode="External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artner.northdevon.gov.uk/devontalk/archive/autumn2003/safer_students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692280"/>
            <a:ext cx="69138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Starter –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ju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Fach Mein ist bestes Deut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cc"/>
                </a:solidFill>
                <a:latin typeface="Comic Sans MS"/>
              </a:rPr>
              <a:t>Textilen Lieblingsfach Mein 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rste Meine ist Biologie Stun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cc"/>
                </a:solidFill>
                <a:latin typeface="Comic Sans MS"/>
              </a:rPr>
              <a:t>Ich habe in der dritten Stunde Ma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Ich finde Geschichte su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95640" y="6524640"/>
            <a:ext cx="514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Rounded MT Bold"/>
              </a:rPr>
              <a:t>©MFL Sunderland 2006 AMI 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586320" y="3016440"/>
            <a:ext cx="197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cc"/>
                </a:solidFill>
                <a:latin typeface="Comic Sans MS"/>
              </a:rPr>
              <a:t>Ein Kuli bi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Pen.jpg 5.4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33360"/>
            <a:ext cx="121608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563280" y="3205080"/>
            <a:ext cx="22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cc"/>
                </a:solidFill>
                <a:latin typeface="Comic Sans MS"/>
              </a:rPr>
              <a:t>Ein Lineal bi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Ruler"/>
          <p:cNvPicPr/>
          <p:nvPr/>
        </p:nvPicPr>
        <p:blipFill>
          <a:blip r:embed="rId1"/>
          <a:stretch/>
        </p:blipFill>
        <p:spPr>
          <a:xfrm>
            <a:off x="3044880" y="5130720"/>
            <a:ext cx="113328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771640" y="1341360"/>
            <a:ext cx="1406520" cy="1440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[Piece of Paper]"/>
          <p:cNvPicPr/>
          <p:nvPr/>
        </p:nvPicPr>
        <p:blipFill>
          <a:blip r:embed="rId2"/>
          <a:stretch/>
        </p:blipFill>
        <p:spPr>
          <a:xfrm>
            <a:off x="6877080" y="4508640"/>
            <a:ext cx="1905120" cy="2028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One person speaking into another persons ear."/>
          <p:cNvPicPr/>
          <p:nvPr/>
        </p:nvPicPr>
        <p:blipFill>
          <a:blip r:embed="rId3"/>
          <a:stretch/>
        </p:blipFill>
        <p:spPr>
          <a:xfrm>
            <a:off x="6443640" y="2924280"/>
            <a:ext cx="2152800" cy="1306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3203640" y="2997360"/>
            <a:ext cx="1430280" cy="1263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TOILET"/>
          <p:cNvPicPr/>
          <p:nvPr/>
        </p:nvPicPr>
        <p:blipFill>
          <a:blip r:embed="rId5"/>
          <a:stretch/>
        </p:blipFill>
        <p:spPr>
          <a:xfrm>
            <a:off x="3851280" y="5024520"/>
            <a:ext cx="1368360" cy="1357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Pen.jpg 5.4K"/>
          <p:cNvPicPr/>
          <p:nvPr/>
        </p:nvPicPr>
        <p:blipFill>
          <a:blip r:embed="rId6"/>
          <a:stretch/>
        </p:blipFill>
        <p:spPr>
          <a:xfrm>
            <a:off x="539640" y="3357720"/>
            <a:ext cx="1216080" cy="1431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Ruler"/>
          <p:cNvPicPr/>
          <p:nvPr/>
        </p:nvPicPr>
        <p:blipFill>
          <a:blip r:embed="rId7"/>
          <a:stretch/>
        </p:blipFill>
        <p:spPr>
          <a:xfrm>
            <a:off x="1042920" y="5013360"/>
            <a:ext cx="1133640" cy="1466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00000" y="40464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enary – bang on the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87280" y="692280"/>
            <a:ext cx="551844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Starter –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ju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Mein bestes Fach ist Deut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cc"/>
                </a:solidFill>
                <a:latin typeface="Comic Sans MS"/>
              </a:rPr>
              <a:t>Mein Lieblingsfach ist Texti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Meine erste Stunde ist Bi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cc"/>
                </a:solidFill>
                <a:latin typeface="Comic Sans MS"/>
              </a:rPr>
              <a:t>habe dritten in Stunde ich Mathe 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finde super Geschichte 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87280" y="692280"/>
            <a:ext cx="55184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Learning obj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By the end of the lesson you will be able to ask classroom questions in Ger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836640"/>
            <a:ext cx="547200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Match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apier bi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cc"/>
                </a:solidFill>
                <a:latin typeface="Comic Sans MS"/>
              </a:rPr>
              <a:t>Darf ich bitte auf Toilette geh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Kann ich bitte das Fenster öffne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cc"/>
                </a:solidFill>
                <a:latin typeface="Comic Sans MS"/>
              </a:rPr>
              <a:t>Wie sagt man “toll” auf Englis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Wie schreibt man d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cc"/>
                </a:solidFill>
                <a:latin typeface="Comic Sans MS"/>
              </a:rPr>
              <a:t>Ein Kuli bi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Comic Sans MS"/>
              </a:rPr>
              <a:t>Ein Lineal bitte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77080" y="549360"/>
            <a:ext cx="1406520" cy="1439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[Piece of Paper]"/>
          <p:cNvPicPr/>
          <p:nvPr/>
        </p:nvPicPr>
        <p:blipFill>
          <a:blip r:embed="rId3"/>
          <a:stretch/>
        </p:blipFill>
        <p:spPr>
          <a:xfrm>
            <a:off x="6877080" y="4508640"/>
            <a:ext cx="1905120" cy="2028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One person speaking into another persons ear."/>
          <p:cNvPicPr/>
          <p:nvPr/>
        </p:nvPicPr>
        <p:blipFill>
          <a:blip r:embed="rId4"/>
          <a:stretch/>
        </p:blipFill>
        <p:spPr>
          <a:xfrm>
            <a:off x="6443640" y="2421000"/>
            <a:ext cx="2152800" cy="1306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84720" y="692280"/>
            <a:ext cx="1430280" cy="1263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TOILET"/>
          <p:cNvPicPr/>
          <p:nvPr/>
        </p:nvPicPr>
        <p:blipFill>
          <a:blip r:embed="rId7"/>
          <a:stretch/>
        </p:blipFill>
        <p:spPr>
          <a:xfrm>
            <a:off x="5003640" y="5229360"/>
            <a:ext cx="1162080" cy="1152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Pen.jpg 5.4K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68360" y="333360"/>
            <a:ext cx="1216080" cy="1432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Ruler"/>
          <p:cNvPicPr/>
          <p:nvPr/>
        </p:nvPicPr>
        <p:blipFill>
          <a:blip r:embed="rId10"/>
          <a:stretch/>
        </p:blipFill>
        <p:spPr>
          <a:xfrm>
            <a:off x="3044880" y="5130720"/>
            <a:ext cx="1133280" cy="1467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40464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35280" y="1557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56360" y="692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77080" y="3716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740720" y="5229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92720" y="4653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5157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92360" y="170028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apier bi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[Piece of Paper]"/>
          <p:cNvPicPr/>
          <p:nvPr/>
        </p:nvPicPr>
        <p:blipFill>
          <a:blip r:embed="rId1"/>
          <a:stretch/>
        </p:blipFill>
        <p:spPr>
          <a:xfrm>
            <a:off x="6877080" y="4508640"/>
            <a:ext cx="190512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692360" y="1700280"/>
            <a:ext cx="31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Darf ich bitte auf Toilette geh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TOILET"/>
          <p:cNvPicPr/>
          <p:nvPr/>
        </p:nvPicPr>
        <p:blipFill>
          <a:blip r:embed="rId1"/>
          <a:stretch/>
        </p:blipFill>
        <p:spPr>
          <a:xfrm>
            <a:off x="5003640" y="3954600"/>
            <a:ext cx="244800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410200" y="3205080"/>
            <a:ext cx="512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Kann ich bitte das Fenster öffnen?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77080" y="549360"/>
            <a:ext cx="140652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One person speaking into another persons ear."/>
          <p:cNvPicPr/>
          <p:nvPr/>
        </p:nvPicPr>
        <p:blipFill>
          <a:blip r:embed="rId1"/>
          <a:stretch/>
        </p:blipFill>
        <p:spPr>
          <a:xfrm>
            <a:off x="6443640" y="2421000"/>
            <a:ext cx="2152800" cy="1306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211040" y="2354400"/>
            <a:ext cx="48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cc"/>
                </a:solidFill>
                <a:latin typeface="Comic Sans MS"/>
              </a:rPr>
              <a:t>Wie sagt man “toll” auf Englis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One person speaking into another persons ear."/>
          <p:cNvPicPr/>
          <p:nvPr/>
        </p:nvPicPr>
        <p:blipFill>
          <a:blip r:embed="rId1"/>
          <a:stretch/>
        </p:blipFill>
        <p:spPr>
          <a:xfrm>
            <a:off x="6443640" y="2421000"/>
            <a:ext cx="2152800" cy="1306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203480" y="2354400"/>
            <a:ext cx="33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cc"/>
                </a:solidFill>
                <a:latin typeface="Comic Sans MS"/>
              </a:rPr>
              <a:t>Wie schreibt man d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7T20:08:18Z</dcterms:created>
  <dc:creator>Bods</dc:creator>
  <dc:description/>
  <dc:language>en-US</dc:language>
  <cp:lastModifiedBy>CSeccombe</cp:lastModifiedBy>
  <dcterms:modified xsi:type="dcterms:W3CDTF">2006-11-20T13:22:53Z</dcterms:modified>
  <cp:revision>18</cp:revision>
  <dc:subject/>
  <dc:title>PowerPoint Presentation</dc:title>
</cp:coreProperties>
</file>