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7E2-DFAE-43EE-A828-7047754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372-BA05-4301-88A6-F38E609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E75-57DB-4956-BEB8-08C12A8B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24F-A509-4168-8321-EAEBE96B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244-A85B-4750-ABB0-D17562DF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F1A-F6FA-45D4-A538-56372EFA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ACC-F7CF-4E1C-AE2C-8FA8097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574-AA43-4CA9-A1FB-D68E50A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7CF-B3AC-4CBE-969B-F5AD0F63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83E-D599-4A02-9148-5B7C886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C7F-7802-485D-81CC-986B179B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2E0-E12A-414A-9662-90E63AB6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04B8-6D79-40CC-A093-391DECE9D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clipart/Business/Cartoons/thumbnails8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rtner.northdevon.gov.uk/devontalk/archive/autumn2003/safer_student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etanti.com/commsafe/hatecrime.htm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hyperlink" Target="http://www.allfree-clipart.com/clipart/Business/Cartoons/thumbnails8.shtml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artner.northdevon.gov.uk/devontalk/archive/autumn2003/safer_student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692280"/>
            <a:ext cx="6913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tarter –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ju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ach Mein ist bestes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Textilen Lieblingsfach Mein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rste Meine ist Biologie St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Ich habe in der dritten Stunde M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ch finde Geschichte s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6524640"/>
            <a:ext cx="51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©MFL Sunderland 2006 AMI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6320" y="301644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Comic Sans MS"/>
              </a:rPr>
              <a:t>Ein Kuli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Pen.jpg 5.4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216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63280" y="32050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Comic Sans MS"/>
              </a:rPr>
              <a:t>Ein Lineal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Ruler"/>
          <p:cNvPicPr/>
          <p:nvPr/>
        </p:nvPicPr>
        <p:blipFill>
          <a:blip r:embed="rId1"/>
          <a:stretch/>
        </p:blipFill>
        <p:spPr>
          <a:xfrm>
            <a:off x="3044880" y="5130720"/>
            <a:ext cx="11332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14065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[Piece of Paper]"/>
          <p:cNvPicPr/>
          <p:nvPr/>
        </p:nvPicPr>
        <p:blipFill>
          <a:blip r:embed="rId2"/>
          <a:stretch/>
        </p:blipFill>
        <p:spPr>
          <a:xfrm>
            <a:off x="6877080" y="4508640"/>
            <a:ext cx="1905120" cy="202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One person speaking into another persons ear."/>
          <p:cNvPicPr/>
          <p:nvPr/>
        </p:nvPicPr>
        <p:blipFill>
          <a:blip r:embed="rId3"/>
          <a:stretch/>
        </p:blipFill>
        <p:spPr>
          <a:xfrm>
            <a:off x="6443640" y="2924280"/>
            <a:ext cx="2152800" cy="130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03640" y="2997360"/>
            <a:ext cx="1430280" cy="126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TOILET"/>
          <p:cNvPicPr/>
          <p:nvPr/>
        </p:nvPicPr>
        <p:blipFill>
          <a:blip r:embed="rId5"/>
          <a:stretch/>
        </p:blipFill>
        <p:spPr>
          <a:xfrm>
            <a:off x="3851280" y="5024520"/>
            <a:ext cx="1368360" cy="135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Pen.jpg 5.4K"/>
          <p:cNvPicPr/>
          <p:nvPr/>
        </p:nvPicPr>
        <p:blipFill>
          <a:blip r:embed="rId6"/>
          <a:stretch/>
        </p:blipFill>
        <p:spPr>
          <a:xfrm>
            <a:off x="539640" y="3357720"/>
            <a:ext cx="121608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Ruler"/>
          <p:cNvPicPr/>
          <p:nvPr/>
        </p:nvPicPr>
        <p:blipFill>
          <a:blip r:embed="rId7"/>
          <a:stretch/>
        </p:blipFill>
        <p:spPr>
          <a:xfrm>
            <a:off x="1042920" y="5013360"/>
            <a:ext cx="1133640" cy="146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4046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ry – bang on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692280"/>
            <a:ext cx="55184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tarter –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ju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Mein bestes Fach ist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Mein Lieblingsfach ist Text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Meine erste Stunde ist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habe dritten in Stunde ich Mathe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inde super Geschicht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692280"/>
            <a:ext cx="5518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Learning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y the end of the lesson you will be able to ask classroom questions in 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836640"/>
            <a:ext cx="5472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t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pier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Darf ich bitte auf Toilette ge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Kann ich bitte das Fenster öffn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Wie sagt man “toll” auf Englis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ie schreibt man 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Comic Sans MS"/>
              </a:rPr>
              <a:t>Ein Kuli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Ein Lineal bitt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9360"/>
            <a:ext cx="1406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[Piece of Paper]"/>
          <p:cNvPicPr/>
          <p:nvPr/>
        </p:nvPicPr>
        <p:blipFill>
          <a:blip r:embed="rId3"/>
          <a:stretch/>
        </p:blipFill>
        <p:spPr>
          <a:xfrm>
            <a:off x="6877080" y="4508640"/>
            <a:ext cx="1905120" cy="20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One person speaking into another persons ear."/>
          <p:cNvPicPr/>
          <p:nvPr/>
        </p:nvPicPr>
        <p:blipFill>
          <a:blip r:embed="rId4"/>
          <a:stretch/>
        </p:blipFill>
        <p:spPr>
          <a:xfrm>
            <a:off x="6443640" y="2421000"/>
            <a:ext cx="2152800" cy="130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692280"/>
            <a:ext cx="1430280" cy="126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TOILET"/>
          <p:cNvPicPr/>
          <p:nvPr/>
        </p:nvPicPr>
        <p:blipFill>
          <a:blip r:embed="rId7"/>
          <a:stretch/>
        </p:blipFill>
        <p:spPr>
          <a:xfrm>
            <a:off x="5003640" y="5229360"/>
            <a:ext cx="116208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Pen.jpg 5.4K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8360" y="333360"/>
            <a:ext cx="1216080" cy="1432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Ruler"/>
          <p:cNvPicPr/>
          <p:nvPr/>
        </p:nvPicPr>
        <p:blipFill>
          <a:blip r:embed="rId10"/>
          <a:stretch/>
        </p:blipFill>
        <p:spPr>
          <a:xfrm>
            <a:off x="3044880" y="5130720"/>
            <a:ext cx="1133280" cy="146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404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6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522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1700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pier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[Piece of Paper]"/>
          <p:cNvPicPr/>
          <p:nvPr/>
        </p:nvPicPr>
        <p:blipFill>
          <a:blip r:embed="rId1"/>
          <a:stretch/>
        </p:blipFill>
        <p:spPr>
          <a:xfrm>
            <a:off x="6877080" y="4508640"/>
            <a:ext cx="19051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70028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Darf ich bitte auf Toilette ge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TOILET"/>
          <p:cNvPicPr/>
          <p:nvPr/>
        </p:nvPicPr>
        <p:blipFill>
          <a:blip r:embed="rId1"/>
          <a:stretch/>
        </p:blipFill>
        <p:spPr>
          <a:xfrm>
            <a:off x="5003640" y="3954600"/>
            <a:ext cx="24480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10200" y="320508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Kann ich bitte das Fenster öffnen?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9360"/>
            <a:ext cx="14065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One person speaking into another persons ear."/>
          <p:cNvPicPr/>
          <p:nvPr/>
        </p:nvPicPr>
        <p:blipFill>
          <a:blip r:embed="rId1"/>
          <a:stretch/>
        </p:blipFill>
        <p:spPr>
          <a:xfrm>
            <a:off x="6443640" y="2421000"/>
            <a:ext cx="2152800" cy="130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1040" y="23544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Wie sagt man “toll” auf Englis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One person speaking into another persons ear."/>
          <p:cNvPicPr/>
          <p:nvPr/>
        </p:nvPicPr>
        <p:blipFill>
          <a:blip r:embed="rId1"/>
          <a:stretch/>
        </p:blipFill>
        <p:spPr>
          <a:xfrm>
            <a:off x="6443640" y="2421000"/>
            <a:ext cx="2152800" cy="130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03480" y="235440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Wie schreibt man 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0:08:18Z</dcterms:created>
  <dc:creator>Bods</dc:creator>
  <dc:description/>
  <dc:language>en-US</dc:language>
  <cp:lastModifiedBy>CSeccombe</cp:lastModifiedBy>
  <dcterms:modified xsi:type="dcterms:W3CDTF">2006-11-20T13:22:53Z</dcterms:modified>
  <cp:revision>18</cp:revision>
  <dc:subject/>
  <dc:title>PowerPoint Presentation</dc:title>
</cp:coreProperties>
</file>