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AF1-BA73-455E-AFFA-798DA831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8A9-935D-4C4E-8228-4F0382A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37E-5857-4B22-83D7-B8C2990B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76-2251-4D7A-9E1B-02BC661F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78A-3CB8-48D6-AAD2-8D5A2F92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1C1-AA2F-4A9D-AB48-7DBA8F26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919-E159-4B85-8818-51112DC6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F51-7828-4AFC-BF69-5DED7FB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C15-3B82-474E-A871-A26B0D9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929-7D95-46EA-8658-E31791C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8B9-DCE9-4B1E-A09E-E94B951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1A-12D4-417C-B09A-541C6BD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7545-0FF0-40F5-AB2C-0079B5A72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lowtheflow.com/images/toilet-about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hyperlink" Target="http://www.slowtheflow.com/images/toilet-about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2361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mittel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338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1439640" cy="2171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912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793800" cy="120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3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781200" cy="4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0540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006960" y="2343240"/>
            <a:ext cx="5129280" cy="360"/>
            <a:chOff x="6006960" y="2343240"/>
            <a:chExt cx="5129280" cy="360"/>
          </a:xfrm>
        </p:grpSpPr>
        <p:sp>
          <p:nvSpPr>
            <p:cNvPr id="51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77320" y="5334120"/>
            <a:ext cx="664920" cy="925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938760" y="-239760"/>
            <a:ext cx="5128920" cy="360"/>
            <a:chOff x="3938760" y="-239760"/>
            <a:chExt cx="5128920" cy="360"/>
          </a:xfrm>
        </p:grpSpPr>
        <p:sp>
          <p:nvSpPr>
            <p:cNvPr id="55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1401840" cy="35287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207040" y="-22320"/>
            <a:ext cx="5129280" cy="360"/>
            <a:chOff x="5207040" y="-22320"/>
            <a:chExt cx="5129280" cy="360"/>
          </a:xfrm>
        </p:grpSpPr>
        <p:sp>
          <p:nvSpPr>
            <p:cNvPr id="59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1528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6781680" y="914400"/>
            <a:ext cx="202752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5640" y="6524640"/>
            <a:ext cx="51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838080" y="54100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7848720" y="571500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629400" y="320040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200400" y="5334120"/>
            <a:ext cx="230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1295280" y="22096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tsparentsroom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338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1439640" cy="2171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2912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793800" cy="1209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3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581280" y="5638680"/>
            <a:ext cx="781200" cy="4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0540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6006960" y="2343240"/>
            <a:ext cx="5129280" cy="360"/>
            <a:chOff x="6006960" y="2343240"/>
            <a:chExt cx="5129280" cy="360"/>
          </a:xfrm>
        </p:grpSpPr>
        <p:sp>
          <p:nvSpPr>
            <p:cNvPr id="73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06960" y="23432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8077320" y="5334120"/>
            <a:ext cx="664920" cy="9255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38760" y="-239760"/>
            <a:ext cx="5128920" cy="360"/>
            <a:chOff x="3938760" y="-239760"/>
            <a:chExt cx="5128920" cy="360"/>
          </a:xfrm>
        </p:grpSpPr>
        <p:sp>
          <p:nvSpPr>
            <p:cNvPr id="77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38760" y="-239760"/>
              <a:ext cx="5128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1401840" cy="35287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5207040" y="-22320"/>
            <a:ext cx="5129280" cy="360"/>
            <a:chOff x="5207040" y="-22320"/>
            <a:chExt cx="5129280" cy="360"/>
          </a:xfrm>
        </p:grpSpPr>
        <p:sp>
          <p:nvSpPr>
            <p:cNvPr id="81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7040" y="-2232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1528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781680" y="914400"/>
            <a:ext cx="20275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01840" y="59324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8680" y="5943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83600" y="472428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5640" y="76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mittel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26800" y="28195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ziemlich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18920" y="40464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9080" y="46864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sehr gro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sdiningroom" descr=""/>
          <p:cNvPicPr/>
          <p:nvPr/>
        </p:nvPicPr>
        <p:blipFill>
          <a:blip r:embed="rId1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simpsonskitchen1" descr=""/>
          <p:cNvPicPr/>
          <p:nvPr/>
        </p:nvPicPr>
        <p:blipFill>
          <a:blip r:embed="rId1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05740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Comic Sans MS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19520" y="1828800"/>
            <a:ext cx="426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h bin</a:t>
            </a: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 in der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 b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e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447920"/>
            <a:ext cx="6019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To extend your vocabulary and learn how to use pre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146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Badezimmer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2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52280" y="68580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6200" y="2666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029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Garage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514600"/>
            <a:ext cx="731880" cy="98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335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52280" y="68580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2666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514600"/>
            <a:ext cx="731880" cy="982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124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die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4724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1371600"/>
            <a:ext cx="3657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124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das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91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die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724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die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1371600"/>
            <a:ext cx="3657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      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     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    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19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Wo ist W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173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380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5335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4328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livingroom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81360" cy="2182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71560" y="155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simpsonskitchen1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58000" y="5334120"/>
            <a:ext cx="2286000" cy="126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432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tsparentsroom1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0016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sdiningroom" descr=""/>
          <p:cNvPicPr/>
          <p:nvPr/>
        </p:nvPicPr>
        <p:blipFill>
          <a:blip r:embed="rId5"/>
          <a:stretch/>
        </p:blipFill>
        <p:spPr>
          <a:xfrm>
            <a:off x="152280" y="495288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28600" y="1219320"/>
            <a:ext cx="2576520" cy="1609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26668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in dem Eß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5715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</a:t>
            </a:r>
            <a:br>
              <a:rPr sz="2400"/>
            </a:b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819520"/>
            <a:ext cx="731880" cy="982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9072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Comic Sans MS"/>
              </a:rPr>
              <a:t>in der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7238880" y="1295280"/>
            <a:ext cx="2304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eccombe</cp:lastModifiedBy>
  <dcterms:modified xsi:type="dcterms:W3CDTF">2006-11-20T13:25:18Z</dcterms:modified>
  <cp:revision>11</cp:revision>
  <dc:subject/>
  <dc:title>PowerPoint Presentation</dc:title>
</cp:coreProperties>
</file>