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FFA-6BF8-4027-8FF9-4C8ED18D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2D9-B024-46F0-940E-0CE85A85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49A-136B-4A8C-9730-079D77A9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999-DDA0-4257-8DA6-B27E9DD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292-FA1F-47A2-9A12-84BA8CA0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CF4-FDE2-479D-B93C-9BA5C604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C25-F83E-4A86-8E7F-590EC6B8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3FD-2A8D-466E-873B-F6651C3E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3F3-3A2A-47A1-B387-68CA1E86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A8C-4D07-4CA4-9B8B-54F4775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A43-B432-472D-BE41-17CE0F65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E9A-AEED-4E91-B165-D76E0116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6F4B-B7C1-4B50-BE7E-26C4DEBA1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lowtheflow.com/images/toilet-about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hyperlink" Target="http://www.slowtheflow.com/images/toilet-about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hyperlink" Target="http://www.slowtheflow.com/images/toilet-about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hyperlink" Target="http://www.slowtheflow.com/images/toilet-about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447920"/>
            <a:ext cx="2361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sehr gro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ziemlich 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sehr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gro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ziemlich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mittel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338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1439640" cy="2171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2912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793800" cy="120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32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581280" y="5638680"/>
            <a:ext cx="781200" cy="46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054080" cy="20005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6006960" y="2343240"/>
            <a:ext cx="5129280" cy="360"/>
            <a:chOff x="6006960" y="2343240"/>
            <a:chExt cx="5129280" cy="360"/>
          </a:xfrm>
        </p:grpSpPr>
        <p:sp>
          <p:nvSpPr>
            <p:cNvPr id="51" name=""/>
            <p:cNvSpPr/>
            <p:nvPr/>
          </p:nvSpPr>
          <p:spPr>
            <a:xfrm>
              <a:off x="6006960" y="23432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06960" y="23432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77320" y="5334120"/>
            <a:ext cx="664920" cy="925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938760" y="-239760"/>
            <a:ext cx="5128920" cy="360"/>
            <a:chOff x="3938760" y="-239760"/>
            <a:chExt cx="5128920" cy="360"/>
          </a:xfrm>
        </p:grpSpPr>
        <p:sp>
          <p:nvSpPr>
            <p:cNvPr id="55" name=""/>
            <p:cNvSpPr/>
            <p:nvPr/>
          </p:nvSpPr>
          <p:spPr>
            <a:xfrm>
              <a:off x="3938760" y="-239760"/>
              <a:ext cx="5128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38760" y="-239760"/>
              <a:ext cx="5128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486400" y="3048120"/>
            <a:ext cx="1401840" cy="35287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5207040" y="-22320"/>
            <a:ext cx="5129280" cy="360"/>
            <a:chOff x="5207040" y="-22320"/>
            <a:chExt cx="5129280" cy="360"/>
          </a:xfrm>
        </p:grpSpPr>
        <p:sp>
          <p:nvSpPr>
            <p:cNvPr id="59" name=""/>
            <p:cNvSpPr/>
            <p:nvPr/>
          </p:nvSpPr>
          <p:spPr>
            <a:xfrm>
              <a:off x="5207040" y="-2232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07040" y="-2232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1528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6781680" y="914400"/>
            <a:ext cx="2027520" cy="3048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95640" y="6524640"/>
            <a:ext cx="51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©MFL Sunderland 2006 AMI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838080" y="5410080"/>
            <a:ext cx="2304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7848720" y="5715000"/>
            <a:ext cx="2300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6629400" y="3200400"/>
            <a:ext cx="2300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3200400" y="5334120"/>
            <a:ext cx="2300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1295280" y="2209680"/>
            <a:ext cx="2304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tsparentsroom1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48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338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1439640" cy="2171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2912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793800" cy="1209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32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581280" y="5638680"/>
            <a:ext cx="781200" cy="4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054080" cy="200052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6006960" y="2343240"/>
            <a:ext cx="5129280" cy="360"/>
            <a:chOff x="6006960" y="2343240"/>
            <a:chExt cx="5129280" cy="360"/>
          </a:xfrm>
        </p:grpSpPr>
        <p:sp>
          <p:nvSpPr>
            <p:cNvPr id="73" name=""/>
            <p:cNvSpPr/>
            <p:nvPr/>
          </p:nvSpPr>
          <p:spPr>
            <a:xfrm>
              <a:off x="6006960" y="23432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06960" y="23432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8077320" y="5334120"/>
            <a:ext cx="664920" cy="92556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3938760" y="-239760"/>
            <a:ext cx="5128920" cy="360"/>
            <a:chOff x="3938760" y="-239760"/>
            <a:chExt cx="5128920" cy="360"/>
          </a:xfrm>
        </p:grpSpPr>
        <p:sp>
          <p:nvSpPr>
            <p:cNvPr id="77" name=""/>
            <p:cNvSpPr/>
            <p:nvPr/>
          </p:nvSpPr>
          <p:spPr>
            <a:xfrm>
              <a:off x="3938760" y="-239760"/>
              <a:ext cx="5128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38760" y="-239760"/>
              <a:ext cx="5128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5486400" y="3048120"/>
            <a:ext cx="1401840" cy="35287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5207040" y="-22320"/>
            <a:ext cx="5129280" cy="360"/>
            <a:chOff x="5207040" y="-22320"/>
            <a:chExt cx="5129280" cy="360"/>
          </a:xfrm>
        </p:grpSpPr>
        <p:sp>
          <p:nvSpPr>
            <p:cNvPr id="81" name=""/>
            <p:cNvSpPr/>
            <p:nvPr/>
          </p:nvSpPr>
          <p:spPr>
            <a:xfrm>
              <a:off x="5207040" y="-2232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07040" y="-2232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1528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781680" y="914400"/>
            <a:ext cx="202752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01840" y="593244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sehr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68680" y="59436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83600" y="472428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ziemlich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75640" y="76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mittel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26800" y="28195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ziemlich 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18920" y="404640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gro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9080" y="46864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sehr gro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tsdiningroom" descr=""/>
          <p:cNvPicPr/>
          <p:nvPr/>
        </p:nvPicPr>
        <p:blipFill>
          <a:blip r:embed="rId1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simpsonskitchen1" descr=""/>
          <p:cNvPicPr/>
          <p:nvPr/>
        </p:nvPicPr>
        <p:blipFill>
          <a:blip r:embed="rId1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819520" y="1828800"/>
            <a:ext cx="4267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bin</a:t>
            </a: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 in der 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u b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r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e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447920"/>
            <a:ext cx="6019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To extend your vocabulary and learn how to use pre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1460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Badezimmer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522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52280" y="68580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86200" y="26668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50292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33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495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Garage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514600"/>
            <a:ext cx="731880" cy="982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2743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990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990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5335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52280" y="68580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86200" y="26668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4191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514600"/>
            <a:ext cx="731880" cy="982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0720" y="2743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828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514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124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191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die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4724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die 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die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1371600"/>
            <a:ext cx="3657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828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514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124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191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die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4724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die 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die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1371600"/>
            <a:ext cx="3657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    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     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      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     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    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1952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Wo ist Wal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1173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7238880" y="1295280"/>
            <a:ext cx="2304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Seccombe</cp:lastModifiedBy>
  <dcterms:modified xsi:type="dcterms:W3CDTF">2006-11-20T13:25:18Z</dcterms:modified>
  <cp:revision>11</cp:revision>
  <dc:subject/>
  <dc:title>PowerPoint Presentation</dc:title>
</cp:coreProperties>
</file>