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077-4622-4419-9A30-179FA9C9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EA1-65A2-409B-BDDB-5675686D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370-EE8E-4C82-B7BB-FEABF5F4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B1D-9B1F-4BBE-9A27-B76B3196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ADD-E233-4CB1-B9CA-41F0CD5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2FF-8850-405C-950B-0CCE41CC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DD8-EF83-4751-9F59-8CD10D54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7CB-119C-4127-AD11-D496B51C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16C-78E8-40AD-9EB1-F2938755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E20-639E-42D7-823F-882B20C1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71F-BB80-47A1-ABBD-4D7AF45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A12-A767-447D-9B39-769F319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6C37-727D-4C59-A760-0EBE2857C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42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50920" y="189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 he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en die Deutschen 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ädte 1-1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1484280"/>
            <a:ext cx="288720" cy="2872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2060640"/>
            <a:ext cx="431640" cy="3603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2360" y="522936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451008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3213000"/>
            <a:ext cx="21564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285264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393372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700280"/>
            <a:ext cx="14472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284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22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7080" y="14778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630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357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155736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068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528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4292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4365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789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7080" y="4365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4360" y="1773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55280" y="292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82656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55640" y="4076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84000" y="4653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126216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1982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06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0785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2:24:14Z</dcterms:created>
  <dc:creator>Eleanor Abrahams </dc:creator>
  <dc:description/>
  <dc:language>en-US</dc:language>
  <cp:lastModifiedBy>CSeccombe</cp:lastModifiedBy>
  <dcterms:modified xsi:type="dcterms:W3CDTF">2007-07-11T08:34:28Z</dcterms:modified>
  <cp:revision>3</cp:revision>
  <dc:subject/>
  <dc:title>Slide 1</dc:title>
</cp:coreProperties>
</file>