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D12-B9E5-44B0-A21E-F349C931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8CA-8416-4DE8-B82F-836D7AA6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308-2889-4CCD-86E8-CA367331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9E2-DBD6-4EE7-8461-E5A783B6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485-9CF7-4C58-98DA-76B241DD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49D-D9F3-4606-BB65-47670DCF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8FD-BD55-4697-A271-780B4A2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6BD-3F34-4DF0-94D6-978D5D4C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7D1-9E81-4269-A485-FA3B8E3F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837-036E-43EC-B753-50AB7DA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DF1-1542-4512-B9C5-D785E49A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D5B-BB4C-44E9-B539-E5D3078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F891-A5E7-42D5-8372-71966EE18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76440" y="590400"/>
            <a:ext cx="3821040" cy="5524560"/>
            <a:chOff x="2476440" y="590400"/>
            <a:chExt cx="3821040" cy="5524560"/>
          </a:xfrm>
        </p:grpSpPr>
        <p:sp>
          <p:nvSpPr>
            <p:cNvPr id="42" name=""/>
            <p:cNvSpPr/>
            <p:nvPr/>
          </p:nvSpPr>
          <p:spPr>
            <a:xfrm>
              <a:off x="2597400" y="645840"/>
              <a:ext cx="3700080" cy="5469120"/>
            </a:xfrm>
            <a:custGeom>
              <a:avLst/>
              <a:gdLst/>
              <a:ahLst/>
              <a:rect l="l" t="t" r="r" b="b"/>
              <a:pathLst>
                <a:path w="1747" h="2349">
                  <a:moveTo>
                    <a:pt x="1290" y="1558"/>
                  </a:moveTo>
                  <a:lnTo>
                    <a:pt x="1264" y="1613"/>
                  </a:lnTo>
                  <a:lnTo>
                    <a:pt x="1377" y="1723"/>
                  </a:lnTo>
                  <a:lnTo>
                    <a:pt x="1426" y="1791"/>
                  </a:lnTo>
                  <a:lnTo>
                    <a:pt x="1537" y="1837"/>
                  </a:lnTo>
                  <a:lnTo>
                    <a:pt x="1562" y="1892"/>
                  </a:lnTo>
                  <a:lnTo>
                    <a:pt x="1530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6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5"/>
                  </a:lnTo>
                  <a:lnTo>
                    <a:pt x="1343" y="2234"/>
                  </a:lnTo>
                  <a:lnTo>
                    <a:pt x="1300" y="2256"/>
                  </a:lnTo>
                  <a:lnTo>
                    <a:pt x="1233" y="2188"/>
                  </a:lnTo>
                  <a:lnTo>
                    <a:pt x="1229" y="2225"/>
                  </a:lnTo>
                  <a:lnTo>
                    <a:pt x="1193" y="2264"/>
                  </a:lnTo>
                  <a:lnTo>
                    <a:pt x="1109" y="2260"/>
                  </a:lnTo>
                  <a:lnTo>
                    <a:pt x="1056" y="2307"/>
                  </a:lnTo>
                  <a:lnTo>
                    <a:pt x="980" y="2307"/>
                  </a:lnTo>
                  <a:lnTo>
                    <a:pt x="958" y="2272"/>
                  </a:lnTo>
                  <a:lnTo>
                    <a:pt x="870" y="2260"/>
                  </a:lnTo>
                  <a:lnTo>
                    <a:pt x="866" y="2328"/>
                  </a:lnTo>
                  <a:lnTo>
                    <a:pt x="808" y="2349"/>
                  </a:lnTo>
                  <a:lnTo>
                    <a:pt x="817" y="2314"/>
                  </a:lnTo>
                  <a:lnTo>
                    <a:pt x="771" y="2268"/>
                  </a:lnTo>
                  <a:lnTo>
                    <a:pt x="719" y="2268"/>
                  </a:lnTo>
                  <a:lnTo>
                    <a:pt x="604" y="2209"/>
                  </a:lnTo>
                  <a:lnTo>
                    <a:pt x="552" y="2238"/>
                  </a:lnTo>
                  <a:lnTo>
                    <a:pt x="494" y="2196"/>
                  </a:lnTo>
                  <a:lnTo>
                    <a:pt x="463" y="2209"/>
                  </a:lnTo>
                  <a:lnTo>
                    <a:pt x="471" y="2268"/>
                  </a:lnTo>
                  <a:lnTo>
                    <a:pt x="386" y="2260"/>
                  </a:lnTo>
                  <a:lnTo>
                    <a:pt x="310" y="2272"/>
                  </a:lnTo>
                  <a:lnTo>
                    <a:pt x="275" y="2209"/>
                  </a:lnTo>
                  <a:lnTo>
                    <a:pt x="295" y="2095"/>
                  </a:lnTo>
                  <a:lnTo>
                    <a:pt x="330" y="2023"/>
                  </a:lnTo>
                  <a:lnTo>
                    <a:pt x="340" y="1943"/>
                  </a:lnTo>
                  <a:lnTo>
                    <a:pt x="422" y="1837"/>
                  </a:lnTo>
                  <a:lnTo>
                    <a:pt x="262" y="1780"/>
                  </a:lnTo>
                  <a:lnTo>
                    <a:pt x="125" y="1744"/>
                  </a:lnTo>
                  <a:lnTo>
                    <a:pt x="62" y="1659"/>
                  </a:lnTo>
                  <a:lnTo>
                    <a:pt x="100" y="1571"/>
                  </a:lnTo>
                  <a:lnTo>
                    <a:pt x="26" y="1511"/>
                  </a:lnTo>
                  <a:lnTo>
                    <a:pt x="35" y="1426"/>
                  </a:lnTo>
                  <a:lnTo>
                    <a:pt x="86" y="1391"/>
                  </a:lnTo>
                  <a:lnTo>
                    <a:pt x="24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6" y="1075"/>
                  </a:lnTo>
                  <a:lnTo>
                    <a:pt x="20" y="960"/>
                  </a:lnTo>
                  <a:lnTo>
                    <a:pt x="26" y="938"/>
                  </a:lnTo>
                  <a:lnTo>
                    <a:pt x="178" y="917"/>
                  </a:lnTo>
                  <a:lnTo>
                    <a:pt x="185" y="899"/>
                  </a:lnTo>
                  <a:lnTo>
                    <a:pt x="172" y="880"/>
                  </a:lnTo>
                  <a:lnTo>
                    <a:pt x="170" y="856"/>
                  </a:lnTo>
                  <a:lnTo>
                    <a:pt x="215" y="845"/>
                  </a:lnTo>
                  <a:lnTo>
                    <a:pt x="233" y="767"/>
                  </a:lnTo>
                  <a:lnTo>
                    <a:pt x="166" y="742"/>
                  </a:lnTo>
                  <a:lnTo>
                    <a:pt x="192" y="692"/>
                  </a:lnTo>
                  <a:lnTo>
                    <a:pt x="246" y="692"/>
                  </a:lnTo>
                  <a:lnTo>
                    <a:pt x="235" y="648"/>
                  </a:lnTo>
                  <a:lnTo>
                    <a:pt x="263" y="528"/>
                  </a:lnTo>
                  <a:lnTo>
                    <a:pt x="301" y="496"/>
                  </a:lnTo>
                  <a:lnTo>
                    <a:pt x="246" y="456"/>
                  </a:lnTo>
                  <a:lnTo>
                    <a:pt x="285" y="432"/>
                  </a:lnTo>
                  <a:lnTo>
                    <a:pt x="282" y="382"/>
                  </a:lnTo>
                  <a:lnTo>
                    <a:pt x="349" y="392"/>
                  </a:lnTo>
                  <a:lnTo>
                    <a:pt x="428" y="379"/>
                  </a:lnTo>
                  <a:lnTo>
                    <a:pt x="447" y="464"/>
                  </a:lnTo>
                  <a:lnTo>
                    <a:pt x="494" y="467"/>
                  </a:lnTo>
                  <a:lnTo>
                    <a:pt x="472" y="425"/>
                  </a:lnTo>
                  <a:lnTo>
                    <a:pt x="480" y="410"/>
                  </a:lnTo>
                  <a:lnTo>
                    <a:pt x="511" y="425"/>
                  </a:lnTo>
                  <a:lnTo>
                    <a:pt x="521" y="520"/>
                  </a:lnTo>
                  <a:lnTo>
                    <a:pt x="536" y="432"/>
                  </a:lnTo>
                  <a:lnTo>
                    <a:pt x="519" y="382"/>
                  </a:lnTo>
                  <a:lnTo>
                    <a:pt x="546" y="343"/>
                  </a:lnTo>
                  <a:lnTo>
                    <a:pt x="646" y="343"/>
                  </a:lnTo>
                  <a:lnTo>
                    <a:pt x="604" y="325"/>
                  </a:lnTo>
                  <a:lnTo>
                    <a:pt x="594" y="290"/>
                  </a:lnTo>
                  <a:lnTo>
                    <a:pt x="615" y="290"/>
                  </a:lnTo>
                  <a:lnTo>
                    <a:pt x="624" y="264"/>
                  </a:lnTo>
                  <a:lnTo>
                    <a:pt x="590" y="250"/>
                  </a:lnTo>
                  <a:lnTo>
                    <a:pt x="615" y="213"/>
                  </a:lnTo>
                  <a:lnTo>
                    <a:pt x="552" y="196"/>
                  </a:lnTo>
                  <a:lnTo>
                    <a:pt x="624" y="160"/>
                  </a:lnTo>
                  <a:lnTo>
                    <a:pt x="577" y="86"/>
                  </a:lnTo>
                  <a:lnTo>
                    <a:pt x="552" y="42"/>
                  </a:lnTo>
                  <a:lnTo>
                    <a:pt x="513" y="74"/>
                  </a:lnTo>
                  <a:lnTo>
                    <a:pt x="488" y="26"/>
                  </a:lnTo>
                  <a:lnTo>
                    <a:pt x="502" y="0"/>
                  </a:lnTo>
                  <a:lnTo>
                    <a:pt x="634" y="18"/>
                  </a:lnTo>
                  <a:lnTo>
                    <a:pt x="710" y="1"/>
                  </a:lnTo>
                  <a:lnTo>
                    <a:pt x="731" y="31"/>
                  </a:lnTo>
                  <a:lnTo>
                    <a:pt x="798" y="60"/>
                  </a:lnTo>
                  <a:lnTo>
                    <a:pt x="806" y="74"/>
                  </a:lnTo>
                  <a:lnTo>
                    <a:pt x="762" y="117"/>
                  </a:lnTo>
                  <a:lnTo>
                    <a:pt x="712" y="134"/>
                  </a:lnTo>
                  <a:lnTo>
                    <a:pt x="723" y="146"/>
                  </a:lnTo>
                  <a:lnTo>
                    <a:pt x="765" y="142"/>
                  </a:lnTo>
                  <a:lnTo>
                    <a:pt x="804" y="107"/>
                  </a:lnTo>
                  <a:lnTo>
                    <a:pt x="798" y="157"/>
                  </a:lnTo>
                  <a:lnTo>
                    <a:pt x="825" y="149"/>
                  </a:lnTo>
                  <a:lnTo>
                    <a:pt x="842" y="180"/>
                  </a:lnTo>
                  <a:lnTo>
                    <a:pt x="872" y="164"/>
                  </a:lnTo>
                  <a:lnTo>
                    <a:pt x="935" y="202"/>
                  </a:lnTo>
                  <a:lnTo>
                    <a:pt x="996" y="192"/>
                  </a:lnTo>
                  <a:lnTo>
                    <a:pt x="1004" y="241"/>
                  </a:lnTo>
                  <a:lnTo>
                    <a:pt x="943" y="270"/>
                  </a:lnTo>
                  <a:lnTo>
                    <a:pt x="940" y="298"/>
                  </a:lnTo>
                  <a:lnTo>
                    <a:pt x="1009" y="286"/>
                  </a:lnTo>
                  <a:lnTo>
                    <a:pt x="1031" y="276"/>
                  </a:lnTo>
                  <a:lnTo>
                    <a:pt x="1065" y="286"/>
                  </a:lnTo>
                  <a:lnTo>
                    <a:pt x="1119" y="242"/>
                  </a:lnTo>
                  <a:lnTo>
                    <a:pt x="1186" y="232"/>
                  </a:lnTo>
                  <a:lnTo>
                    <a:pt x="1186" y="210"/>
                  </a:lnTo>
                  <a:lnTo>
                    <a:pt x="1252" y="166"/>
                  </a:lnTo>
                  <a:lnTo>
                    <a:pt x="1296" y="166"/>
                  </a:lnTo>
                  <a:lnTo>
                    <a:pt x="1328" y="144"/>
                  </a:lnTo>
                  <a:lnTo>
                    <a:pt x="1362" y="176"/>
                  </a:lnTo>
                  <a:lnTo>
                    <a:pt x="1384" y="144"/>
                  </a:lnTo>
                  <a:lnTo>
                    <a:pt x="1350" y="78"/>
                  </a:lnTo>
                  <a:lnTo>
                    <a:pt x="1384" y="67"/>
                  </a:lnTo>
                  <a:lnTo>
                    <a:pt x="1406" y="111"/>
                  </a:lnTo>
                  <a:lnTo>
                    <a:pt x="1450" y="111"/>
                  </a:lnTo>
                  <a:lnTo>
                    <a:pt x="1438" y="144"/>
                  </a:lnTo>
                  <a:lnTo>
                    <a:pt x="1461" y="166"/>
                  </a:lnTo>
                  <a:lnTo>
                    <a:pt x="1450" y="188"/>
                  </a:lnTo>
                  <a:lnTo>
                    <a:pt x="1406" y="198"/>
                  </a:lnTo>
                  <a:lnTo>
                    <a:pt x="1384" y="221"/>
                  </a:lnTo>
                  <a:lnTo>
                    <a:pt x="1416" y="232"/>
                  </a:lnTo>
                  <a:lnTo>
                    <a:pt x="1450" y="221"/>
                  </a:lnTo>
                  <a:lnTo>
                    <a:pt x="1472" y="242"/>
                  </a:lnTo>
                  <a:lnTo>
                    <a:pt x="1461" y="286"/>
                  </a:lnTo>
                  <a:lnTo>
                    <a:pt x="1505" y="352"/>
                  </a:lnTo>
                  <a:lnTo>
                    <a:pt x="1593" y="364"/>
                  </a:lnTo>
                  <a:lnTo>
                    <a:pt x="1647" y="397"/>
                  </a:lnTo>
                  <a:lnTo>
                    <a:pt x="1647" y="430"/>
                  </a:lnTo>
                  <a:lnTo>
                    <a:pt x="1615" y="463"/>
                  </a:lnTo>
                  <a:lnTo>
                    <a:pt x="1615" y="496"/>
                  </a:lnTo>
                  <a:lnTo>
                    <a:pt x="1549" y="552"/>
                  </a:lnTo>
                  <a:lnTo>
                    <a:pt x="1538" y="595"/>
                  </a:lnTo>
                  <a:lnTo>
                    <a:pt x="1549" y="639"/>
                  </a:lnTo>
                  <a:lnTo>
                    <a:pt x="1603" y="650"/>
                  </a:lnTo>
                  <a:lnTo>
                    <a:pt x="1647" y="717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7" y="1068"/>
                  </a:lnTo>
                  <a:lnTo>
                    <a:pt x="1747" y="1146"/>
                  </a:lnTo>
                  <a:lnTo>
                    <a:pt x="1713" y="1190"/>
                  </a:lnTo>
                  <a:lnTo>
                    <a:pt x="1703" y="1245"/>
                  </a:lnTo>
                  <a:lnTo>
                    <a:pt x="1669" y="1222"/>
                  </a:lnTo>
                  <a:lnTo>
                    <a:pt x="1659" y="1179"/>
                  </a:lnTo>
                  <a:lnTo>
                    <a:pt x="1625" y="1179"/>
                  </a:lnTo>
                  <a:lnTo>
                    <a:pt x="1593" y="1190"/>
                  </a:lnTo>
                  <a:lnTo>
                    <a:pt x="1637" y="1222"/>
                  </a:lnTo>
                  <a:lnTo>
                    <a:pt x="1505" y="1278"/>
                  </a:lnTo>
                  <a:lnTo>
                    <a:pt x="1241" y="1432"/>
                  </a:lnTo>
                  <a:lnTo>
                    <a:pt x="1290" y="1558"/>
                  </a:lnTo>
                  <a:lnTo>
                    <a:pt x="1290" y="1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497200" y="2175840"/>
              <a:ext cx="240480" cy="24372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41" y="0"/>
                  </a:moveTo>
                  <a:lnTo>
                    <a:pt x="11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2" y="104"/>
                  </a:lnTo>
                  <a:lnTo>
                    <a:pt x="114" y="93"/>
                  </a:lnTo>
                  <a:lnTo>
                    <a:pt x="103" y="62"/>
                  </a:lnTo>
                  <a:lnTo>
                    <a:pt x="83" y="51"/>
                  </a:lnTo>
                  <a:lnTo>
                    <a:pt x="83" y="21"/>
                  </a:lnTo>
                  <a:lnTo>
                    <a:pt x="52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76440" y="590400"/>
              <a:ext cx="3701520" cy="5469120"/>
            </a:xfrm>
            <a:custGeom>
              <a:avLst/>
              <a:gdLst/>
              <a:ahLst/>
              <a:rect l="l" t="t" r="r" b="b"/>
              <a:pathLst>
                <a:path w="1746" h="2349">
                  <a:moveTo>
                    <a:pt x="1290" y="1557"/>
                  </a:moveTo>
                  <a:lnTo>
                    <a:pt x="1265" y="1612"/>
                  </a:lnTo>
                  <a:lnTo>
                    <a:pt x="1376" y="1723"/>
                  </a:lnTo>
                  <a:lnTo>
                    <a:pt x="1425" y="1791"/>
                  </a:lnTo>
                  <a:lnTo>
                    <a:pt x="1536" y="1837"/>
                  </a:lnTo>
                  <a:lnTo>
                    <a:pt x="1562" y="1891"/>
                  </a:lnTo>
                  <a:lnTo>
                    <a:pt x="1529" y="1943"/>
                  </a:lnTo>
                  <a:lnTo>
                    <a:pt x="1497" y="1943"/>
                  </a:lnTo>
                  <a:lnTo>
                    <a:pt x="1454" y="2035"/>
                  </a:lnTo>
                  <a:lnTo>
                    <a:pt x="1385" y="2035"/>
                  </a:lnTo>
                  <a:lnTo>
                    <a:pt x="1353" y="2090"/>
                  </a:lnTo>
                  <a:lnTo>
                    <a:pt x="1412" y="2162"/>
                  </a:lnTo>
                  <a:lnTo>
                    <a:pt x="1415" y="2286"/>
                  </a:lnTo>
                  <a:lnTo>
                    <a:pt x="1343" y="2233"/>
                  </a:lnTo>
                  <a:lnTo>
                    <a:pt x="1299" y="2256"/>
                  </a:lnTo>
                  <a:lnTo>
                    <a:pt x="1232" y="2188"/>
                  </a:lnTo>
                  <a:lnTo>
                    <a:pt x="1228" y="2225"/>
                  </a:lnTo>
                  <a:lnTo>
                    <a:pt x="1192" y="2264"/>
                  </a:lnTo>
                  <a:lnTo>
                    <a:pt x="1108" y="2260"/>
                  </a:lnTo>
                  <a:lnTo>
                    <a:pt x="1056" y="2306"/>
                  </a:lnTo>
                  <a:lnTo>
                    <a:pt x="980" y="2306"/>
                  </a:lnTo>
                  <a:lnTo>
                    <a:pt x="957" y="2272"/>
                  </a:lnTo>
                  <a:lnTo>
                    <a:pt x="869" y="2260"/>
                  </a:lnTo>
                  <a:lnTo>
                    <a:pt x="866" y="2328"/>
                  </a:lnTo>
                  <a:lnTo>
                    <a:pt x="807" y="2349"/>
                  </a:lnTo>
                  <a:lnTo>
                    <a:pt x="816" y="2314"/>
                  </a:lnTo>
                  <a:lnTo>
                    <a:pt x="770" y="2268"/>
                  </a:lnTo>
                  <a:lnTo>
                    <a:pt x="719" y="2268"/>
                  </a:lnTo>
                  <a:lnTo>
                    <a:pt x="603" y="2209"/>
                  </a:lnTo>
                  <a:lnTo>
                    <a:pt x="551" y="2238"/>
                  </a:lnTo>
                  <a:lnTo>
                    <a:pt x="493" y="2196"/>
                  </a:lnTo>
                  <a:lnTo>
                    <a:pt x="463" y="2209"/>
                  </a:lnTo>
                  <a:lnTo>
                    <a:pt x="470" y="2268"/>
                  </a:lnTo>
                  <a:lnTo>
                    <a:pt x="385" y="2260"/>
                  </a:lnTo>
                  <a:lnTo>
                    <a:pt x="310" y="2272"/>
                  </a:lnTo>
                  <a:lnTo>
                    <a:pt x="274" y="2209"/>
                  </a:lnTo>
                  <a:lnTo>
                    <a:pt x="294" y="2094"/>
                  </a:lnTo>
                  <a:lnTo>
                    <a:pt x="330" y="2023"/>
                  </a:lnTo>
                  <a:lnTo>
                    <a:pt x="339" y="1943"/>
                  </a:lnTo>
                  <a:lnTo>
                    <a:pt x="421" y="1837"/>
                  </a:lnTo>
                  <a:lnTo>
                    <a:pt x="261" y="1780"/>
                  </a:lnTo>
                  <a:lnTo>
                    <a:pt x="124" y="1744"/>
                  </a:lnTo>
                  <a:lnTo>
                    <a:pt x="61" y="1659"/>
                  </a:lnTo>
                  <a:lnTo>
                    <a:pt x="101" y="1570"/>
                  </a:lnTo>
                  <a:lnTo>
                    <a:pt x="25" y="1511"/>
                  </a:lnTo>
                  <a:lnTo>
                    <a:pt x="35" y="1426"/>
                  </a:lnTo>
                  <a:lnTo>
                    <a:pt x="85" y="1391"/>
                  </a:lnTo>
                  <a:lnTo>
                    <a:pt x="23" y="1283"/>
                  </a:lnTo>
                  <a:lnTo>
                    <a:pt x="0" y="1184"/>
                  </a:lnTo>
                  <a:lnTo>
                    <a:pt x="35" y="1151"/>
                  </a:lnTo>
                  <a:lnTo>
                    <a:pt x="65" y="1075"/>
                  </a:lnTo>
                  <a:lnTo>
                    <a:pt x="20" y="960"/>
                  </a:lnTo>
                  <a:lnTo>
                    <a:pt x="25" y="938"/>
                  </a:lnTo>
                  <a:lnTo>
                    <a:pt x="177" y="917"/>
                  </a:lnTo>
                  <a:lnTo>
                    <a:pt x="185" y="899"/>
                  </a:lnTo>
                  <a:lnTo>
                    <a:pt x="171" y="880"/>
                  </a:lnTo>
                  <a:lnTo>
                    <a:pt x="169" y="856"/>
                  </a:lnTo>
                  <a:lnTo>
                    <a:pt x="215" y="844"/>
                  </a:lnTo>
                  <a:lnTo>
                    <a:pt x="232" y="766"/>
                  </a:lnTo>
                  <a:lnTo>
                    <a:pt x="166" y="742"/>
                  </a:lnTo>
                  <a:lnTo>
                    <a:pt x="191" y="691"/>
                  </a:lnTo>
                  <a:lnTo>
                    <a:pt x="246" y="691"/>
                  </a:lnTo>
                  <a:lnTo>
                    <a:pt x="234" y="648"/>
                  </a:lnTo>
                  <a:lnTo>
                    <a:pt x="262" y="528"/>
                  </a:lnTo>
                  <a:lnTo>
                    <a:pt x="300" y="496"/>
                  </a:lnTo>
                  <a:lnTo>
                    <a:pt x="246" y="456"/>
                  </a:lnTo>
                  <a:lnTo>
                    <a:pt x="284" y="432"/>
                  </a:lnTo>
                  <a:lnTo>
                    <a:pt x="281" y="381"/>
                  </a:lnTo>
                  <a:lnTo>
                    <a:pt x="348" y="392"/>
                  </a:lnTo>
                  <a:lnTo>
                    <a:pt x="427" y="379"/>
                  </a:lnTo>
                  <a:lnTo>
                    <a:pt x="447" y="464"/>
                  </a:lnTo>
                  <a:lnTo>
                    <a:pt x="493" y="467"/>
                  </a:lnTo>
                  <a:lnTo>
                    <a:pt x="471" y="425"/>
                  </a:lnTo>
                  <a:lnTo>
                    <a:pt x="480" y="410"/>
                  </a:lnTo>
                  <a:lnTo>
                    <a:pt x="510" y="425"/>
                  </a:lnTo>
                  <a:lnTo>
                    <a:pt x="522" y="520"/>
                  </a:lnTo>
                  <a:lnTo>
                    <a:pt x="535" y="432"/>
                  </a:lnTo>
                  <a:lnTo>
                    <a:pt x="518" y="381"/>
                  </a:lnTo>
                  <a:lnTo>
                    <a:pt x="547" y="343"/>
                  </a:lnTo>
                  <a:lnTo>
                    <a:pt x="645" y="343"/>
                  </a:lnTo>
                  <a:lnTo>
                    <a:pt x="603" y="325"/>
                  </a:lnTo>
                  <a:lnTo>
                    <a:pt x="593" y="288"/>
                  </a:lnTo>
                  <a:lnTo>
                    <a:pt x="614" y="288"/>
                  </a:lnTo>
                  <a:lnTo>
                    <a:pt x="623" y="264"/>
                  </a:lnTo>
                  <a:lnTo>
                    <a:pt x="591" y="250"/>
                  </a:lnTo>
                  <a:lnTo>
                    <a:pt x="614" y="213"/>
                  </a:lnTo>
                  <a:lnTo>
                    <a:pt x="551" y="196"/>
                  </a:lnTo>
                  <a:lnTo>
                    <a:pt x="623" y="160"/>
                  </a:lnTo>
                  <a:lnTo>
                    <a:pt x="576" y="86"/>
                  </a:lnTo>
                  <a:lnTo>
                    <a:pt x="551" y="42"/>
                  </a:lnTo>
                  <a:lnTo>
                    <a:pt x="512" y="74"/>
                  </a:lnTo>
                  <a:lnTo>
                    <a:pt x="487" y="26"/>
                  </a:lnTo>
                  <a:lnTo>
                    <a:pt x="502" y="0"/>
                  </a:lnTo>
                  <a:lnTo>
                    <a:pt x="633" y="18"/>
                  </a:lnTo>
                  <a:lnTo>
                    <a:pt x="709" y="1"/>
                  </a:lnTo>
                  <a:lnTo>
                    <a:pt x="730" y="31"/>
                  </a:lnTo>
                  <a:lnTo>
                    <a:pt x="798" y="60"/>
                  </a:lnTo>
                  <a:lnTo>
                    <a:pt x="805" y="74"/>
                  </a:lnTo>
                  <a:lnTo>
                    <a:pt x="761" y="117"/>
                  </a:lnTo>
                  <a:lnTo>
                    <a:pt x="712" y="134"/>
                  </a:lnTo>
                  <a:lnTo>
                    <a:pt x="722" y="146"/>
                  </a:lnTo>
                  <a:lnTo>
                    <a:pt x="764" y="141"/>
                  </a:lnTo>
                  <a:lnTo>
                    <a:pt x="803" y="107"/>
                  </a:lnTo>
                  <a:lnTo>
                    <a:pt x="798" y="156"/>
                  </a:lnTo>
                  <a:lnTo>
                    <a:pt x="824" y="149"/>
                  </a:lnTo>
                  <a:lnTo>
                    <a:pt x="842" y="180"/>
                  </a:lnTo>
                  <a:lnTo>
                    <a:pt x="871" y="162"/>
                  </a:lnTo>
                  <a:lnTo>
                    <a:pt x="934" y="202"/>
                  </a:lnTo>
                  <a:lnTo>
                    <a:pt x="996" y="192"/>
                  </a:lnTo>
                  <a:lnTo>
                    <a:pt x="1003" y="241"/>
                  </a:lnTo>
                  <a:lnTo>
                    <a:pt x="942" y="269"/>
                  </a:lnTo>
                  <a:lnTo>
                    <a:pt x="939" y="298"/>
                  </a:lnTo>
                  <a:lnTo>
                    <a:pt x="1009" y="286"/>
                  </a:lnTo>
                  <a:lnTo>
                    <a:pt x="1032" y="276"/>
                  </a:lnTo>
                  <a:lnTo>
                    <a:pt x="1064" y="286"/>
                  </a:lnTo>
                  <a:lnTo>
                    <a:pt x="1119" y="242"/>
                  </a:lnTo>
                  <a:lnTo>
                    <a:pt x="1185" y="232"/>
                  </a:lnTo>
                  <a:lnTo>
                    <a:pt x="1185" y="210"/>
                  </a:lnTo>
                  <a:lnTo>
                    <a:pt x="1251" y="166"/>
                  </a:lnTo>
                  <a:lnTo>
                    <a:pt x="1295" y="166"/>
                  </a:lnTo>
                  <a:lnTo>
                    <a:pt x="1329" y="144"/>
                  </a:lnTo>
                  <a:lnTo>
                    <a:pt x="1361" y="176"/>
                  </a:lnTo>
                  <a:lnTo>
                    <a:pt x="1383" y="144"/>
                  </a:lnTo>
                  <a:lnTo>
                    <a:pt x="1351" y="77"/>
                  </a:lnTo>
                  <a:lnTo>
                    <a:pt x="1383" y="67"/>
                  </a:lnTo>
                  <a:lnTo>
                    <a:pt x="1405" y="111"/>
                  </a:lnTo>
                  <a:lnTo>
                    <a:pt x="1449" y="111"/>
                  </a:lnTo>
                  <a:lnTo>
                    <a:pt x="1439" y="144"/>
                  </a:lnTo>
                  <a:lnTo>
                    <a:pt x="1460" y="166"/>
                  </a:lnTo>
                  <a:lnTo>
                    <a:pt x="1449" y="188"/>
                  </a:lnTo>
                  <a:lnTo>
                    <a:pt x="1405" y="198"/>
                  </a:lnTo>
                  <a:lnTo>
                    <a:pt x="1383" y="220"/>
                  </a:lnTo>
                  <a:lnTo>
                    <a:pt x="1416" y="232"/>
                  </a:lnTo>
                  <a:lnTo>
                    <a:pt x="1449" y="220"/>
                  </a:lnTo>
                  <a:lnTo>
                    <a:pt x="1471" y="242"/>
                  </a:lnTo>
                  <a:lnTo>
                    <a:pt x="1460" y="286"/>
                  </a:lnTo>
                  <a:lnTo>
                    <a:pt x="1504" y="352"/>
                  </a:lnTo>
                  <a:lnTo>
                    <a:pt x="1592" y="364"/>
                  </a:lnTo>
                  <a:lnTo>
                    <a:pt x="1648" y="396"/>
                  </a:lnTo>
                  <a:lnTo>
                    <a:pt x="1648" y="430"/>
                  </a:lnTo>
                  <a:lnTo>
                    <a:pt x="1614" y="463"/>
                  </a:lnTo>
                  <a:lnTo>
                    <a:pt x="1614" y="496"/>
                  </a:lnTo>
                  <a:lnTo>
                    <a:pt x="1548" y="552"/>
                  </a:lnTo>
                  <a:lnTo>
                    <a:pt x="1537" y="595"/>
                  </a:lnTo>
                  <a:lnTo>
                    <a:pt x="1548" y="639"/>
                  </a:lnTo>
                  <a:lnTo>
                    <a:pt x="1604" y="650"/>
                  </a:lnTo>
                  <a:lnTo>
                    <a:pt x="1648" y="716"/>
                  </a:lnTo>
                  <a:lnTo>
                    <a:pt x="1625" y="771"/>
                  </a:lnTo>
                  <a:lnTo>
                    <a:pt x="1692" y="815"/>
                  </a:lnTo>
                  <a:lnTo>
                    <a:pt x="1692" y="837"/>
                  </a:lnTo>
                  <a:lnTo>
                    <a:pt x="1669" y="937"/>
                  </a:lnTo>
                  <a:lnTo>
                    <a:pt x="1692" y="1002"/>
                  </a:lnTo>
                  <a:lnTo>
                    <a:pt x="1746" y="1068"/>
                  </a:lnTo>
                  <a:lnTo>
                    <a:pt x="1746" y="1146"/>
                  </a:lnTo>
                  <a:lnTo>
                    <a:pt x="1714" y="1190"/>
                  </a:lnTo>
                  <a:lnTo>
                    <a:pt x="1702" y="1244"/>
                  </a:lnTo>
                  <a:lnTo>
                    <a:pt x="1669" y="1222"/>
                  </a:lnTo>
                  <a:lnTo>
                    <a:pt x="1658" y="1178"/>
                  </a:lnTo>
                  <a:lnTo>
                    <a:pt x="1625" y="1178"/>
                  </a:lnTo>
                  <a:lnTo>
                    <a:pt x="1592" y="1190"/>
                  </a:lnTo>
                  <a:lnTo>
                    <a:pt x="1636" y="1222"/>
                  </a:lnTo>
                  <a:lnTo>
                    <a:pt x="1504" y="1278"/>
                  </a:lnTo>
                  <a:lnTo>
                    <a:pt x="1240" y="1431"/>
                  </a:lnTo>
                  <a:lnTo>
                    <a:pt x="1290" y="1557"/>
                  </a:lnTo>
                  <a:lnTo>
                    <a:pt x="1290" y="1557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82000" y="2120400"/>
              <a:ext cx="236160" cy="24372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41" y="0"/>
                  </a:moveTo>
                  <a:lnTo>
                    <a:pt x="10" y="31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31" y="93"/>
                  </a:lnTo>
                  <a:lnTo>
                    <a:pt x="61" y="104"/>
                  </a:lnTo>
                  <a:lnTo>
                    <a:pt x="113" y="93"/>
                  </a:lnTo>
                  <a:lnTo>
                    <a:pt x="103" y="62"/>
                  </a:lnTo>
                  <a:lnTo>
                    <a:pt x="82" y="51"/>
                  </a:lnTo>
                  <a:lnTo>
                    <a:pt x="82" y="21"/>
                  </a:lnTo>
                  <a:lnTo>
                    <a:pt x="51" y="2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50920" y="189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 he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en die Deutschen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ädte 1-1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1484280"/>
            <a:ext cx="288720" cy="2872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2060640"/>
            <a:ext cx="431640" cy="3603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522936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1008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3213000"/>
            <a:ext cx="21564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285264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3933720"/>
            <a:ext cx="216000" cy="21456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700280"/>
            <a:ext cx="14472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284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22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7080" y="14778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630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35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55736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068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528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4292640"/>
            <a:ext cx="216000" cy="2142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5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789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7080" y="4365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4360" y="1773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55280" y="292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826560" y="33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55640" y="4076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4000" y="4653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2621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1982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06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078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2:24:14Z</dcterms:created>
  <dc:creator>Eleanor Abrahams </dc:creator>
  <dc:description/>
  <dc:language>en-US</dc:language>
  <cp:lastModifiedBy>CSeccombe</cp:lastModifiedBy>
  <dcterms:modified xsi:type="dcterms:W3CDTF">2007-07-11T08:34:28Z</dcterms:modified>
  <cp:revision>3</cp:revision>
  <dc:subject/>
  <dc:title>Slide 1</dc:title>
</cp:coreProperties>
</file>