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358-09C8-4C3E-B9BA-3C91FFEE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90D-E79B-4BEC-AF88-8968BDF7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A8E-FDFD-4DEC-A8F6-AB588786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D8A-F13B-44AD-991E-DFE64EA3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5D7-4EF5-4658-8E3F-E4340D15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643-C77E-4FD8-8E0F-054E6F89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AF5-5B31-4128-804C-DC440511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467-063D-46BE-BEBC-C5636F29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7D5-6BE5-41F1-87C8-BA39C4E1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325-BDBD-4FA8-81DE-6A6BC49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9D0-3A53-4658-9B5F-1683C0BC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CF5-DF32-48CD-BD08-5F50C304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5A0C-8645-4965-8838-8EF3203B7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5.jpeg"/><Relationship Id="rId6" Type="http://schemas.openxmlformats.org/officeDocument/2006/relationships/image" Target="../media/image18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6.wmf"/><Relationship Id="rId10" Type="http://schemas.openxmlformats.org/officeDocument/2006/relationships/image" Target="../media/image5.wmf"/><Relationship Id="rId11" Type="http://schemas.openxmlformats.org/officeDocument/2006/relationships/image" Target="../media/image3.wmf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6440" y="5003640"/>
            <a:ext cx="4124520" cy="1676520"/>
          </a:xfrm>
          <a:custGeom>
            <a:avLst/>
            <a:gdLst/>
            <a:ahLst/>
            <a:rect l="l" t="t" r="r" b="b"/>
            <a:pathLst>
              <a:path w="2598" h="1056">
                <a:moveTo>
                  <a:pt x="1024" y="16"/>
                </a:moveTo>
                <a:cubicBezTo>
                  <a:pt x="960" y="22"/>
                  <a:pt x="896" y="32"/>
                  <a:pt x="832" y="40"/>
                </a:cubicBezTo>
                <a:cubicBezTo>
                  <a:pt x="774" y="59"/>
                  <a:pt x="702" y="50"/>
                  <a:pt x="648" y="80"/>
                </a:cubicBezTo>
                <a:cubicBezTo>
                  <a:pt x="604" y="105"/>
                  <a:pt x="570" y="140"/>
                  <a:pt x="528" y="168"/>
                </a:cubicBezTo>
                <a:cubicBezTo>
                  <a:pt x="501" y="186"/>
                  <a:pt x="510" y="197"/>
                  <a:pt x="480" y="208"/>
                </a:cubicBezTo>
                <a:cubicBezTo>
                  <a:pt x="452" y="219"/>
                  <a:pt x="421" y="222"/>
                  <a:pt x="392" y="232"/>
                </a:cubicBezTo>
                <a:cubicBezTo>
                  <a:pt x="368" y="240"/>
                  <a:pt x="335" y="260"/>
                  <a:pt x="312" y="272"/>
                </a:cubicBezTo>
                <a:cubicBezTo>
                  <a:pt x="287" y="309"/>
                  <a:pt x="250" y="321"/>
                  <a:pt x="224" y="360"/>
                </a:cubicBezTo>
                <a:cubicBezTo>
                  <a:pt x="205" y="388"/>
                  <a:pt x="200" y="403"/>
                  <a:pt x="160" y="416"/>
                </a:cubicBezTo>
                <a:cubicBezTo>
                  <a:pt x="121" y="429"/>
                  <a:pt x="81" y="434"/>
                  <a:pt x="40" y="440"/>
                </a:cubicBezTo>
                <a:cubicBezTo>
                  <a:pt x="32" y="443"/>
                  <a:pt x="21" y="441"/>
                  <a:pt x="16" y="448"/>
                </a:cubicBezTo>
                <a:cubicBezTo>
                  <a:pt x="6" y="462"/>
                  <a:pt x="0" y="496"/>
                  <a:pt x="0" y="496"/>
                </a:cubicBezTo>
                <a:cubicBezTo>
                  <a:pt x="8" y="565"/>
                  <a:pt x="33" y="702"/>
                  <a:pt x="72" y="760"/>
                </a:cubicBezTo>
                <a:cubicBezTo>
                  <a:pt x="79" y="810"/>
                  <a:pt x="86" y="871"/>
                  <a:pt x="120" y="912"/>
                </a:cubicBezTo>
                <a:cubicBezTo>
                  <a:pt x="153" y="951"/>
                  <a:pt x="202" y="959"/>
                  <a:pt x="248" y="976"/>
                </a:cubicBezTo>
                <a:cubicBezTo>
                  <a:pt x="314" y="1001"/>
                  <a:pt x="371" y="1034"/>
                  <a:pt x="440" y="1048"/>
                </a:cubicBezTo>
                <a:cubicBezTo>
                  <a:pt x="715" y="1036"/>
                  <a:pt x="989" y="1056"/>
                  <a:pt x="1264" y="1040"/>
                </a:cubicBezTo>
                <a:cubicBezTo>
                  <a:pt x="1331" y="995"/>
                  <a:pt x="1345" y="909"/>
                  <a:pt x="1432" y="880"/>
                </a:cubicBezTo>
                <a:cubicBezTo>
                  <a:pt x="1473" y="818"/>
                  <a:pt x="1578" y="806"/>
                  <a:pt x="1648" y="792"/>
                </a:cubicBezTo>
                <a:cubicBezTo>
                  <a:pt x="1723" y="797"/>
                  <a:pt x="1784" y="804"/>
                  <a:pt x="1856" y="816"/>
                </a:cubicBezTo>
                <a:cubicBezTo>
                  <a:pt x="1963" y="813"/>
                  <a:pt x="2070" y="815"/>
                  <a:pt x="2176" y="808"/>
                </a:cubicBezTo>
                <a:cubicBezTo>
                  <a:pt x="2176" y="808"/>
                  <a:pt x="2236" y="788"/>
                  <a:pt x="2248" y="784"/>
                </a:cubicBezTo>
                <a:cubicBezTo>
                  <a:pt x="2296" y="768"/>
                  <a:pt x="2350" y="771"/>
                  <a:pt x="2400" y="760"/>
                </a:cubicBezTo>
                <a:cubicBezTo>
                  <a:pt x="2441" y="751"/>
                  <a:pt x="2472" y="730"/>
                  <a:pt x="2512" y="720"/>
                </a:cubicBezTo>
                <a:cubicBezTo>
                  <a:pt x="2546" y="697"/>
                  <a:pt x="2553" y="658"/>
                  <a:pt x="2576" y="624"/>
                </a:cubicBezTo>
                <a:cubicBezTo>
                  <a:pt x="2591" y="537"/>
                  <a:pt x="2598" y="493"/>
                  <a:pt x="2584" y="392"/>
                </a:cubicBezTo>
                <a:cubicBezTo>
                  <a:pt x="2578" y="350"/>
                  <a:pt x="2509" y="339"/>
                  <a:pt x="2480" y="328"/>
                </a:cubicBezTo>
                <a:cubicBezTo>
                  <a:pt x="2348" y="279"/>
                  <a:pt x="2224" y="218"/>
                  <a:pt x="2088" y="184"/>
                </a:cubicBezTo>
                <a:cubicBezTo>
                  <a:pt x="1952" y="201"/>
                  <a:pt x="2001" y="186"/>
                  <a:pt x="1936" y="208"/>
                </a:cubicBezTo>
                <a:cubicBezTo>
                  <a:pt x="1914" y="205"/>
                  <a:pt x="1873" y="204"/>
                  <a:pt x="1848" y="192"/>
                </a:cubicBezTo>
                <a:cubicBezTo>
                  <a:pt x="1803" y="170"/>
                  <a:pt x="1769" y="128"/>
                  <a:pt x="1720" y="112"/>
                </a:cubicBezTo>
                <a:cubicBezTo>
                  <a:pt x="1604" y="73"/>
                  <a:pt x="1329" y="89"/>
                  <a:pt x="1280" y="88"/>
                </a:cubicBezTo>
                <a:cubicBezTo>
                  <a:pt x="1233" y="72"/>
                  <a:pt x="1184" y="68"/>
                  <a:pt x="1136" y="56"/>
                </a:cubicBezTo>
                <a:cubicBezTo>
                  <a:pt x="1074" y="40"/>
                  <a:pt x="1016" y="0"/>
                  <a:pt x="952" y="0"/>
                </a:cubicBezTo>
                <a:lnTo>
                  <a:pt x="1241" y="505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9960" y="3187800"/>
            <a:ext cx="3835440" cy="2238120"/>
          </a:xfrm>
          <a:custGeom>
            <a:avLst/>
            <a:gdLst/>
            <a:ahLst/>
            <a:rect l="l" t="t" r="r" b="b"/>
            <a:pathLst>
              <a:path w="2416" h="1410">
                <a:moveTo>
                  <a:pt x="1936" y="32"/>
                </a:moveTo>
                <a:cubicBezTo>
                  <a:pt x="1928" y="27"/>
                  <a:pt x="1921" y="20"/>
                  <a:pt x="1912" y="16"/>
                </a:cubicBezTo>
                <a:cubicBezTo>
                  <a:pt x="1897" y="9"/>
                  <a:pt x="1864" y="0"/>
                  <a:pt x="1864" y="0"/>
                </a:cubicBezTo>
                <a:cubicBezTo>
                  <a:pt x="1749" y="16"/>
                  <a:pt x="1636" y="43"/>
                  <a:pt x="1520" y="56"/>
                </a:cubicBezTo>
                <a:cubicBezTo>
                  <a:pt x="1455" y="72"/>
                  <a:pt x="1386" y="77"/>
                  <a:pt x="1320" y="88"/>
                </a:cubicBezTo>
                <a:cubicBezTo>
                  <a:pt x="1165" y="85"/>
                  <a:pt x="1011" y="87"/>
                  <a:pt x="856" y="80"/>
                </a:cubicBezTo>
                <a:cubicBezTo>
                  <a:pt x="809" y="78"/>
                  <a:pt x="751" y="44"/>
                  <a:pt x="704" y="32"/>
                </a:cubicBezTo>
                <a:cubicBezTo>
                  <a:pt x="675" y="35"/>
                  <a:pt x="645" y="36"/>
                  <a:pt x="616" y="40"/>
                </a:cubicBezTo>
                <a:cubicBezTo>
                  <a:pt x="584" y="45"/>
                  <a:pt x="598" y="51"/>
                  <a:pt x="568" y="64"/>
                </a:cubicBezTo>
                <a:cubicBezTo>
                  <a:pt x="541" y="76"/>
                  <a:pt x="502" y="89"/>
                  <a:pt x="472" y="96"/>
                </a:cubicBezTo>
                <a:cubicBezTo>
                  <a:pt x="395" y="115"/>
                  <a:pt x="338" y="126"/>
                  <a:pt x="280" y="184"/>
                </a:cubicBezTo>
                <a:cubicBezTo>
                  <a:pt x="273" y="205"/>
                  <a:pt x="272" y="227"/>
                  <a:pt x="264" y="248"/>
                </a:cubicBezTo>
                <a:cubicBezTo>
                  <a:pt x="248" y="290"/>
                  <a:pt x="194" y="329"/>
                  <a:pt x="160" y="352"/>
                </a:cubicBezTo>
                <a:cubicBezTo>
                  <a:pt x="149" y="359"/>
                  <a:pt x="139" y="368"/>
                  <a:pt x="128" y="376"/>
                </a:cubicBezTo>
                <a:cubicBezTo>
                  <a:pt x="112" y="387"/>
                  <a:pt x="80" y="408"/>
                  <a:pt x="80" y="408"/>
                </a:cubicBezTo>
                <a:cubicBezTo>
                  <a:pt x="56" y="444"/>
                  <a:pt x="38" y="474"/>
                  <a:pt x="8" y="504"/>
                </a:cubicBezTo>
                <a:cubicBezTo>
                  <a:pt x="0" y="573"/>
                  <a:pt x="4" y="639"/>
                  <a:pt x="32" y="704"/>
                </a:cubicBezTo>
                <a:cubicBezTo>
                  <a:pt x="51" y="749"/>
                  <a:pt x="97" y="787"/>
                  <a:pt x="112" y="832"/>
                </a:cubicBezTo>
                <a:cubicBezTo>
                  <a:pt x="127" y="876"/>
                  <a:pt x="133" y="908"/>
                  <a:pt x="144" y="952"/>
                </a:cubicBezTo>
                <a:cubicBezTo>
                  <a:pt x="148" y="968"/>
                  <a:pt x="146" y="991"/>
                  <a:pt x="160" y="1000"/>
                </a:cubicBezTo>
                <a:cubicBezTo>
                  <a:pt x="187" y="1018"/>
                  <a:pt x="213" y="1038"/>
                  <a:pt x="240" y="1056"/>
                </a:cubicBezTo>
                <a:cubicBezTo>
                  <a:pt x="276" y="1110"/>
                  <a:pt x="234" y="1057"/>
                  <a:pt x="280" y="1088"/>
                </a:cubicBezTo>
                <a:cubicBezTo>
                  <a:pt x="340" y="1128"/>
                  <a:pt x="271" y="1101"/>
                  <a:pt x="328" y="1120"/>
                </a:cubicBezTo>
                <a:cubicBezTo>
                  <a:pt x="348" y="1180"/>
                  <a:pt x="319" y="1108"/>
                  <a:pt x="360" y="1160"/>
                </a:cubicBezTo>
                <a:cubicBezTo>
                  <a:pt x="365" y="1167"/>
                  <a:pt x="362" y="1178"/>
                  <a:pt x="368" y="1184"/>
                </a:cubicBezTo>
                <a:cubicBezTo>
                  <a:pt x="384" y="1200"/>
                  <a:pt x="411" y="1194"/>
                  <a:pt x="432" y="1200"/>
                </a:cubicBezTo>
                <a:cubicBezTo>
                  <a:pt x="495" y="1217"/>
                  <a:pt x="534" y="1233"/>
                  <a:pt x="600" y="1240"/>
                </a:cubicBezTo>
                <a:cubicBezTo>
                  <a:pt x="665" y="1256"/>
                  <a:pt x="733" y="1265"/>
                  <a:pt x="800" y="1272"/>
                </a:cubicBezTo>
                <a:cubicBezTo>
                  <a:pt x="883" y="1300"/>
                  <a:pt x="977" y="1306"/>
                  <a:pt x="1064" y="1320"/>
                </a:cubicBezTo>
                <a:cubicBezTo>
                  <a:pt x="1244" y="1312"/>
                  <a:pt x="1357" y="1306"/>
                  <a:pt x="1544" y="1312"/>
                </a:cubicBezTo>
                <a:cubicBezTo>
                  <a:pt x="1568" y="1328"/>
                  <a:pt x="1594" y="1334"/>
                  <a:pt x="1616" y="1352"/>
                </a:cubicBezTo>
                <a:cubicBezTo>
                  <a:pt x="1647" y="1378"/>
                  <a:pt x="1676" y="1406"/>
                  <a:pt x="1720" y="1408"/>
                </a:cubicBezTo>
                <a:cubicBezTo>
                  <a:pt x="1779" y="1410"/>
                  <a:pt x="1837" y="1408"/>
                  <a:pt x="1896" y="1408"/>
                </a:cubicBezTo>
                <a:cubicBezTo>
                  <a:pt x="1945" y="1375"/>
                  <a:pt x="1891" y="1407"/>
                  <a:pt x="1960" y="1384"/>
                </a:cubicBezTo>
                <a:cubicBezTo>
                  <a:pt x="2122" y="1330"/>
                  <a:pt x="1985" y="1366"/>
                  <a:pt x="2072" y="1344"/>
                </a:cubicBezTo>
                <a:cubicBezTo>
                  <a:pt x="2123" y="1310"/>
                  <a:pt x="2203" y="1275"/>
                  <a:pt x="2240" y="1224"/>
                </a:cubicBezTo>
                <a:cubicBezTo>
                  <a:pt x="2266" y="1188"/>
                  <a:pt x="2274" y="1138"/>
                  <a:pt x="2288" y="1096"/>
                </a:cubicBezTo>
                <a:cubicBezTo>
                  <a:pt x="2300" y="1061"/>
                  <a:pt x="2334" y="1013"/>
                  <a:pt x="2352" y="976"/>
                </a:cubicBezTo>
                <a:cubicBezTo>
                  <a:pt x="2366" y="948"/>
                  <a:pt x="2370" y="917"/>
                  <a:pt x="2384" y="888"/>
                </a:cubicBezTo>
                <a:cubicBezTo>
                  <a:pt x="2391" y="848"/>
                  <a:pt x="2400" y="808"/>
                  <a:pt x="2408" y="768"/>
                </a:cubicBezTo>
                <a:cubicBezTo>
                  <a:pt x="2411" y="661"/>
                  <a:pt x="2416" y="555"/>
                  <a:pt x="2416" y="448"/>
                </a:cubicBezTo>
                <a:cubicBezTo>
                  <a:pt x="2416" y="360"/>
                  <a:pt x="2413" y="272"/>
                  <a:pt x="2408" y="184"/>
                </a:cubicBezTo>
                <a:cubicBezTo>
                  <a:pt x="2402" y="70"/>
                  <a:pt x="2238" y="33"/>
                  <a:pt x="2152" y="24"/>
                </a:cubicBezTo>
                <a:cubicBezTo>
                  <a:pt x="2096" y="29"/>
                  <a:pt x="2058" y="31"/>
                  <a:pt x="2008" y="48"/>
                </a:cubicBezTo>
                <a:cubicBezTo>
                  <a:pt x="2007" y="48"/>
                  <a:pt x="1936" y="11"/>
                  <a:pt x="1936" y="3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7600" y="698400"/>
            <a:ext cx="2727360" cy="2845080"/>
          </a:xfrm>
          <a:custGeom>
            <a:avLst/>
            <a:gdLst/>
            <a:ahLst/>
            <a:rect l="l" t="t" r="r" b="b"/>
            <a:pathLst>
              <a:path w="1718" h="1792">
                <a:moveTo>
                  <a:pt x="88" y="456"/>
                </a:moveTo>
                <a:cubicBezTo>
                  <a:pt x="84" y="590"/>
                  <a:pt x="140" y="694"/>
                  <a:pt x="40" y="760"/>
                </a:cubicBezTo>
                <a:cubicBezTo>
                  <a:pt x="3" y="815"/>
                  <a:pt x="14" y="790"/>
                  <a:pt x="0" y="832"/>
                </a:cubicBezTo>
                <a:cubicBezTo>
                  <a:pt x="5" y="1015"/>
                  <a:pt x="5" y="1214"/>
                  <a:pt x="64" y="1392"/>
                </a:cubicBezTo>
                <a:cubicBezTo>
                  <a:pt x="74" y="1465"/>
                  <a:pt x="66" y="1430"/>
                  <a:pt x="88" y="1496"/>
                </a:cubicBezTo>
                <a:cubicBezTo>
                  <a:pt x="91" y="1504"/>
                  <a:pt x="96" y="1520"/>
                  <a:pt x="96" y="1520"/>
                </a:cubicBezTo>
                <a:cubicBezTo>
                  <a:pt x="99" y="1544"/>
                  <a:pt x="99" y="1568"/>
                  <a:pt x="104" y="1592"/>
                </a:cubicBezTo>
                <a:cubicBezTo>
                  <a:pt x="104" y="1592"/>
                  <a:pt x="124" y="1652"/>
                  <a:pt x="128" y="1664"/>
                </a:cubicBezTo>
                <a:cubicBezTo>
                  <a:pt x="133" y="1680"/>
                  <a:pt x="159" y="1679"/>
                  <a:pt x="176" y="1680"/>
                </a:cubicBezTo>
                <a:cubicBezTo>
                  <a:pt x="211" y="1683"/>
                  <a:pt x="245" y="1685"/>
                  <a:pt x="280" y="1688"/>
                </a:cubicBezTo>
                <a:cubicBezTo>
                  <a:pt x="291" y="1704"/>
                  <a:pt x="301" y="1720"/>
                  <a:pt x="312" y="1736"/>
                </a:cubicBezTo>
                <a:cubicBezTo>
                  <a:pt x="315" y="1741"/>
                  <a:pt x="439" y="1766"/>
                  <a:pt x="448" y="1768"/>
                </a:cubicBezTo>
                <a:cubicBezTo>
                  <a:pt x="592" y="1762"/>
                  <a:pt x="652" y="1751"/>
                  <a:pt x="784" y="1760"/>
                </a:cubicBezTo>
                <a:cubicBezTo>
                  <a:pt x="795" y="1763"/>
                  <a:pt x="805" y="1766"/>
                  <a:pt x="816" y="1768"/>
                </a:cubicBezTo>
                <a:cubicBezTo>
                  <a:pt x="837" y="1772"/>
                  <a:pt x="859" y="1771"/>
                  <a:pt x="880" y="1776"/>
                </a:cubicBezTo>
                <a:cubicBezTo>
                  <a:pt x="896" y="1780"/>
                  <a:pt x="928" y="1792"/>
                  <a:pt x="928" y="1792"/>
                </a:cubicBezTo>
                <a:cubicBezTo>
                  <a:pt x="970" y="1778"/>
                  <a:pt x="945" y="1789"/>
                  <a:pt x="1000" y="1752"/>
                </a:cubicBezTo>
                <a:cubicBezTo>
                  <a:pt x="1027" y="1734"/>
                  <a:pt x="1072" y="1736"/>
                  <a:pt x="1104" y="1728"/>
                </a:cubicBezTo>
                <a:cubicBezTo>
                  <a:pt x="1175" y="1657"/>
                  <a:pt x="1219" y="1649"/>
                  <a:pt x="1320" y="1632"/>
                </a:cubicBezTo>
                <a:cubicBezTo>
                  <a:pt x="1329" y="1628"/>
                  <a:pt x="1368" y="1610"/>
                  <a:pt x="1376" y="1600"/>
                </a:cubicBezTo>
                <a:cubicBezTo>
                  <a:pt x="1384" y="1591"/>
                  <a:pt x="1385" y="1578"/>
                  <a:pt x="1392" y="1568"/>
                </a:cubicBezTo>
                <a:cubicBezTo>
                  <a:pt x="1399" y="1559"/>
                  <a:pt x="1408" y="1552"/>
                  <a:pt x="1416" y="1544"/>
                </a:cubicBezTo>
                <a:cubicBezTo>
                  <a:pt x="1449" y="1446"/>
                  <a:pt x="1453" y="1531"/>
                  <a:pt x="1432" y="1336"/>
                </a:cubicBezTo>
                <a:cubicBezTo>
                  <a:pt x="1430" y="1314"/>
                  <a:pt x="1416" y="1272"/>
                  <a:pt x="1416" y="1272"/>
                </a:cubicBezTo>
                <a:cubicBezTo>
                  <a:pt x="1408" y="1204"/>
                  <a:pt x="1398" y="1121"/>
                  <a:pt x="1376" y="1056"/>
                </a:cubicBezTo>
                <a:cubicBezTo>
                  <a:pt x="1354" y="904"/>
                  <a:pt x="1397" y="779"/>
                  <a:pt x="1504" y="672"/>
                </a:cubicBezTo>
                <a:cubicBezTo>
                  <a:pt x="1525" y="608"/>
                  <a:pt x="1493" y="683"/>
                  <a:pt x="1536" y="640"/>
                </a:cubicBezTo>
                <a:cubicBezTo>
                  <a:pt x="1557" y="619"/>
                  <a:pt x="1552" y="564"/>
                  <a:pt x="1560" y="536"/>
                </a:cubicBezTo>
                <a:cubicBezTo>
                  <a:pt x="1575" y="485"/>
                  <a:pt x="1598" y="457"/>
                  <a:pt x="1632" y="416"/>
                </a:cubicBezTo>
                <a:cubicBezTo>
                  <a:pt x="1653" y="391"/>
                  <a:pt x="1674" y="367"/>
                  <a:pt x="1688" y="336"/>
                </a:cubicBezTo>
                <a:cubicBezTo>
                  <a:pt x="1695" y="321"/>
                  <a:pt x="1704" y="288"/>
                  <a:pt x="1704" y="288"/>
                </a:cubicBezTo>
                <a:cubicBezTo>
                  <a:pt x="1701" y="240"/>
                  <a:pt x="1700" y="192"/>
                  <a:pt x="1696" y="144"/>
                </a:cubicBezTo>
                <a:cubicBezTo>
                  <a:pt x="1684" y="4"/>
                  <a:pt x="1718" y="31"/>
                  <a:pt x="1640" y="0"/>
                </a:cubicBezTo>
                <a:cubicBezTo>
                  <a:pt x="1526" y="10"/>
                  <a:pt x="1524" y="7"/>
                  <a:pt x="1448" y="72"/>
                </a:cubicBezTo>
                <a:cubicBezTo>
                  <a:pt x="1422" y="94"/>
                  <a:pt x="1390" y="108"/>
                  <a:pt x="1368" y="136"/>
                </a:cubicBezTo>
                <a:cubicBezTo>
                  <a:pt x="1336" y="177"/>
                  <a:pt x="1307" y="239"/>
                  <a:pt x="1256" y="256"/>
                </a:cubicBezTo>
                <a:cubicBezTo>
                  <a:pt x="1204" y="308"/>
                  <a:pt x="1148" y="329"/>
                  <a:pt x="1080" y="352"/>
                </a:cubicBezTo>
                <a:cubicBezTo>
                  <a:pt x="1013" y="344"/>
                  <a:pt x="956" y="321"/>
                  <a:pt x="888" y="312"/>
                </a:cubicBezTo>
                <a:cubicBezTo>
                  <a:pt x="864" y="318"/>
                  <a:pt x="839" y="319"/>
                  <a:pt x="816" y="328"/>
                </a:cubicBezTo>
                <a:cubicBezTo>
                  <a:pt x="807" y="331"/>
                  <a:pt x="801" y="340"/>
                  <a:pt x="792" y="344"/>
                </a:cubicBezTo>
                <a:cubicBezTo>
                  <a:pt x="777" y="351"/>
                  <a:pt x="744" y="360"/>
                  <a:pt x="744" y="360"/>
                </a:cubicBezTo>
                <a:cubicBezTo>
                  <a:pt x="648" y="346"/>
                  <a:pt x="595" y="346"/>
                  <a:pt x="488" y="352"/>
                </a:cubicBezTo>
                <a:cubicBezTo>
                  <a:pt x="442" y="363"/>
                  <a:pt x="402" y="371"/>
                  <a:pt x="360" y="392"/>
                </a:cubicBezTo>
                <a:cubicBezTo>
                  <a:pt x="351" y="396"/>
                  <a:pt x="345" y="404"/>
                  <a:pt x="336" y="408"/>
                </a:cubicBezTo>
                <a:cubicBezTo>
                  <a:pt x="321" y="415"/>
                  <a:pt x="288" y="424"/>
                  <a:pt x="288" y="424"/>
                </a:cubicBezTo>
                <a:cubicBezTo>
                  <a:pt x="258" y="414"/>
                  <a:pt x="230" y="404"/>
                  <a:pt x="200" y="392"/>
                </a:cubicBezTo>
                <a:cubicBezTo>
                  <a:pt x="184" y="386"/>
                  <a:pt x="152" y="376"/>
                  <a:pt x="152" y="376"/>
                </a:cubicBezTo>
                <a:cubicBezTo>
                  <a:pt x="133" y="405"/>
                  <a:pt x="119" y="440"/>
                  <a:pt x="88" y="456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5589720"/>
            <a:ext cx="3471840" cy="1641240"/>
          </a:xfrm>
          <a:custGeom>
            <a:avLst/>
            <a:gdLst/>
            <a:ahLst/>
            <a:rect l="l" t="t" r="r" b="b"/>
            <a:pathLst>
              <a:path w="2273" h="1034">
                <a:moveTo>
                  <a:pt x="688" y="56"/>
                </a:moveTo>
                <a:cubicBezTo>
                  <a:pt x="613" y="47"/>
                  <a:pt x="573" y="38"/>
                  <a:pt x="488" y="56"/>
                </a:cubicBezTo>
                <a:cubicBezTo>
                  <a:pt x="460" y="62"/>
                  <a:pt x="440" y="88"/>
                  <a:pt x="416" y="104"/>
                </a:cubicBezTo>
                <a:lnTo>
                  <a:pt x="416" y="104"/>
                </a:lnTo>
                <a:cubicBezTo>
                  <a:pt x="319" y="128"/>
                  <a:pt x="246" y="189"/>
                  <a:pt x="168" y="248"/>
                </a:cubicBezTo>
                <a:cubicBezTo>
                  <a:pt x="154" y="290"/>
                  <a:pt x="145" y="331"/>
                  <a:pt x="120" y="368"/>
                </a:cubicBezTo>
                <a:cubicBezTo>
                  <a:pt x="109" y="412"/>
                  <a:pt x="87" y="452"/>
                  <a:pt x="72" y="496"/>
                </a:cubicBezTo>
                <a:cubicBezTo>
                  <a:pt x="67" y="512"/>
                  <a:pt x="68" y="532"/>
                  <a:pt x="56" y="544"/>
                </a:cubicBezTo>
                <a:cubicBezTo>
                  <a:pt x="48" y="552"/>
                  <a:pt x="39" y="559"/>
                  <a:pt x="32" y="568"/>
                </a:cubicBezTo>
                <a:cubicBezTo>
                  <a:pt x="20" y="583"/>
                  <a:pt x="0" y="616"/>
                  <a:pt x="0" y="616"/>
                </a:cubicBezTo>
                <a:cubicBezTo>
                  <a:pt x="106" y="775"/>
                  <a:pt x="511" y="687"/>
                  <a:pt x="576" y="688"/>
                </a:cubicBezTo>
                <a:cubicBezTo>
                  <a:pt x="2273" y="676"/>
                  <a:pt x="1565" y="1034"/>
                  <a:pt x="1704" y="616"/>
                </a:cubicBezTo>
                <a:cubicBezTo>
                  <a:pt x="1698" y="436"/>
                  <a:pt x="1741" y="421"/>
                  <a:pt x="1656" y="336"/>
                </a:cubicBezTo>
                <a:cubicBezTo>
                  <a:pt x="1627" y="248"/>
                  <a:pt x="1673" y="381"/>
                  <a:pt x="1632" y="288"/>
                </a:cubicBezTo>
                <a:cubicBezTo>
                  <a:pt x="1602" y="219"/>
                  <a:pt x="1592" y="175"/>
                  <a:pt x="1520" y="144"/>
                </a:cubicBezTo>
                <a:cubicBezTo>
                  <a:pt x="1494" y="133"/>
                  <a:pt x="1422" y="129"/>
                  <a:pt x="1408" y="128"/>
                </a:cubicBezTo>
                <a:cubicBezTo>
                  <a:pt x="1352" y="114"/>
                  <a:pt x="1296" y="108"/>
                  <a:pt x="1240" y="96"/>
                </a:cubicBezTo>
                <a:cubicBezTo>
                  <a:pt x="1198" y="87"/>
                  <a:pt x="1167" y="56"/>
                  <a:pt x="1128" y="40"/>
                </a:cubicBezTo>
                <a:cubicBezTo>
                  <a:pt x="1084" y="22"/>
                  <a:pt x="1037" y="15"/>
                  <a:pt x="992" y="0"/>
                </a:cubicBezTo>
                <a:cubicBezTo>
                  <a:pt x="890" y="5"/>
                  <a:pt x="836" y="14"/>
                  <a:pt x="744" y="24"/>
                </a:cubicBezTo>
                <a:cubicBezTo>
                  <a:pt x="684" y="44"/>
                  <a:pt x="758" y="17"/>
                  <a:pt x="696" y="48"/>
                </a:cubicBezTo>
                <a:cubicBezTo>
                  <a:pt x="677" y="58"/>
                  <a:pt x="657" y="56"/>
                  <a:pt x="688" y="56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3357720"/>
            <a:ext cx="2036880" cy="1223640"/>
          </a:xfrm>
          <a:custGeom>
            <a:avLst/>
            <a:gdLst/>
            <a:ahLst/>
            <a:rect l="l" t="t" r="r" b="b"/>
            <a:pathLst>
              <a:path w="1192" h="814">
                <a:moveTo>
                  <a:pt x="1072" y="46"/>
                </a:moveTo>
                <a:cubicBezTo>
                  <a:pt x="1016" y="27"/>
                  <a:pt x="955" y="27"/>
                  <a:pt x="896" y="22"/>
                </a:cubicBezTo>
                <a:cubicBezTo>
                  <a:pt x="806" y="0"/>
                  <a:pt x="854" y="4"/>
                  <a:pt x="752" y="14"/>
                </a:cubicBezTo>
                <a:cubicBezTo>
                  <a:pt x="744" y="19"/>
                  <a:pt x="737" y="26"/>
                  <a:pt x="728" y="30"/>
                </a:cubicBezTo>
                <a:cubicBezTo>
                  <a:pt x="720" y="34"/>
                  <a:pt x="710" y="32"/>
                  <a:pt x="704" y="38"/>
                </a:cubicBezTo>
                <a:cubicBezTo>
                  <a:pt x="669" y="73"/>
                  <a:pt x="673" y="126"/>
                  <a:pt x="624" y="142"/>
                </a:cubicBezTo>
                <a:cubicBezTo>
                  <a:pt x="602" y="175"/>
                  <a:pt x="594" y="180"/>
                  <a:pt x="560" y="158"/>
                </a:cubicBezTo>
                <a:cubicBezTo>
                  <a:pt x="555" y="150"/>
                  <a:pt x="552" y="140"/>
                  <a:pt x="544" y="134"/>
                </a:cubicBezTo>
                <a:cubicBezTo>
                  <a:pt x="537" y="129"/>
                  <a:pt x="528" y="130"/>
                  <a:pt x="520" y="126"/>
                </a:cubicBezTo>
                <a:cubicBezTo>
                  <a:pt x="491" y="112"/>
                  <a:pt x="479" y="88"/>
                  <a:pt x="448" y="78"/>
                </a:cubicBezTo>
                <a:cubicBezTo>
                  <a:pt x="405" y="81"/>
                  <a:pt x="362" y="80"/>
                  <a:pt x="320" y="86"/>
                </a:cubicBezTo>
                <a:cubicBezTo>
                  <a:pt x="303" y="88"/>
                  <a:pt x="288" y="97"/>
                  <a:pt x="272" y="102"/>
                </a:cubicBezTo>
                <a:cubicBezTo>
                  <a:pt x="264" y="105"/>
                  <a:pt x="248" y="110"/>
                  <a:pt x="248" y="110"/>
                </a:cubicBezTo>
                <a:cubicBezTo>
                  <a:pt x="203" y="177"/>
                  <a:pt x="227" y="155"/>
                  <a:pt x="152" y="174"/>
                </a:cubicBezTo>
                <a:cubicBezTo>
                  <a:pt x="117" y="183"/>
                  <a:pt x="139" y="182"/>
                  <a:pt x="120" y="182"/>
                </a:cubicBezTo>
                <a:lnTo>
                  <a:pt x="47" y="484"/>
                </a:lnTo>
                <a:cubicBezTo>
                  <a:pt x="32" y="560"/>
                  <a:pt x="9" y="634"/>
                  <a:pt x="1" y="711"/>
                </a:cubicBezTo>
                <a:cubicBezTo>
                  <a:pt x="0" y="719"/>
                  <a:pt x="16" y="709"/>
                  <a:pt x="24" y="710"/>
                </a:cubicBezTo>
                <a:cubicBezTo>
                  <a:pt x="35" y="711"/>
                  <a:pt x="45" y="715"/>
                  <a:pt x="56" y="718"/>
                </a:cubicBezTo>
                <a:cubicBezTo>
                  <a:pt x="83" y="726"/>
                  <a:pt x="109" y="734"/>
                  <a:pt x="136" y="742"/>
                </a:cubicBezTo>
                <a:cubicBezTo>
                  <a:pt x="240" y="772"/>
                  <a:pt x="310" y="769"/>
                  <a:pt x="432" y="774"/>
                </a:cubicBezTo>
                <a:cubicBezTo>
                  <a:pt x="517" y="802"/>
                  <a:pt x="506" y="806"/>
                  <a:pt x="616" y="814"/>
                </a:cubicBezTo>
                <a:cubicBezTo>
                  <a:pt x="640" y="806"/>
                  <a:pt x="667" y="804"/>
                  <a:pt x="688" y="790"/>
                </a:cubicBezTo>
                <a:cubicBezTo>
                  <a:pt x="696" y="785"/>
                  <a:pt x="703" y="776"/>
                  <a:pt x="712" y="774"/>
                </a:cubicBezTo>
                <a:cubicBezTo>
                  <a:pt x="735" y="768"/>
                  <a:pt x="760" y="769"/>
                  <a:pt x="784" y="766"/>
                </a:cubicBezTo>
                <a:cubicBezTo>
                  <a:pt x="868" y="738"/>
                  <a:pt x="815" y="751"/>
                  <a:pt x="944" y="742"/>
                </a:cubicBezTo>
                <a:cubicBezTo>
                  <a:pt x="1001" y="723"/>
                  <a:pt x="932" y="750"/>
                  <a:pt x="992" y="710"/>
                </a:cubicBezTo>
                <a:cubicBezTo>
                  <a:pt x="1007" y="700"/>
                  <a:pt x="1025" y="696"/>
                  <a:pt x="1040" y="686"/>
                </a:cubicBezTo>
                <a:cubicBezTo>
                  <a:pt x="1045" y="678"/>
                  <a:pt x="1048" y="668"/>
                  <a:pt x="1056" y="662"/>
                </a:cubicBezTo>
                <a:cubicBezTo>
                  <a:pt x="1063" y="657"/>
                  <a:pt x="1074" y="660"/>
                  <a:pt x="1080" y="654"/>
                </a:cubicBezTo>
                <a:cubicBezTo>
                  <a:pt x="1106" y="628"/>
                  <a:pt x="1111" y="603"/>
                  <a:pt x="1128" y="574"/>
                </a:cubicBezTo>
                <a:cubicBezTo>
                  <a:pt x="1160" y="518"/>
                  <a:pt x="1192" y="440"/>
                  <a:pt x="1192" y="374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1700280"/>
            <a:ext cx="3044880" cy="2359080"/>
          </a:xfrm>
          <a:custGeom>
            <a:avLst/>
            <a:gdLst/>
            <a:ahLst/>
            <a:rect l="l" t="t" r="r" b="b"/>
            <a:pathLst>
              <a:path w="1918" h="1622">
                <a:moveTo>
                  <a:pt x="1918" y="88"/>
                </a:moveTo>
                <a:cubicBezTo>
                  <a:pt x="1762" y="66"/>
                  <a:pt x="1609" y="34"/>
                  <a:pt x="1454" y="8"/>
                </a:cubicBezTo>
                <a:cubicBezTo>
                  <a:pt x="1347" y="11"/>
                  <a:pt x="1241" y="11"/>
                  <a:pt x="1134" y="16"/>
                </a:cubicBezTo>
                <a:cubicBezTo>
                  <a:pt x="1021" y="21"/>
                  <a:pt x="911" y="93"/>
                  <a:pt x="806" y="128"/>
                </a:cubicBezTo>
                <a:cubicBezTo>
                  <a:pt x="727" y="112"/>
                  <a:pt x="722" y="74"/>
                  <a:pt x="662" y="40"/>
                </a:cubicBezTo>
                <a:cubicBezTo>
                  <a:pt x="655" y="36"/>
                  <a:pt x="646" y="36"/>
                  <a:pt x="638" y="32"/>
                </a:cubicBezTo>
                <a:cubicBezTo>
                  <a:pt x="629" y="28"/>
                  <a:pt x="622" y="21"/>
                  <a:pt x="614" y="16"/>
                </a:cubicBezTo>
                <a:cubicBezTo>
                  <a:pt x="524" y="25"/>
                  <a:pt x="476" y="31"/>
                  <a:pt x="382" y="24"/>
                </a:cubicBezTo>
                <a:cubicBezTo>
                  <a:pt x="342" y="14"/>
                  <a:pt x="301" y="13"/>
                  <a:pt x="262" y="0"/>
                </a:cubicBezTo>
                <a:cubicBezTo>
                  <a:pt x="219" y="11"/>
                  <a:pt x="209" y="20"/>
                  <a:pt x="182" y="56"/>
                </a:cubicBezTo>
                <a:cubicBezTo>
                  <a:pt x="177" y="72"/>
                  <a:pt x="180" y="95"/>
                  <a:pt x="166" y="104"/>
                </a:cubicBezTo>
                <a:cubicBezTo>
                  <a:pt x="107" y="143"/>
                  <a:pt x="133" y="124"/>
                  <a:pt x="86" y="160"/>
                </a:cubicBezTo>
                <a:cubicBezTo>
                  <a:pt x="73" y="200"/>
                  <a:pt x="72" y="226"/>
                  <a:pt x="30" y="240"/>
                </a:cubicBezTo>
                <a:cubicBezTo>
                  <a:pt x="0" y="285"/>
                  <a:pt x="7" y="292"/>
                  <a:pt x="14" y="352"/>
                </a:cubicBezTo>
                <a:cubicBezTo>
                  <a:pt x="20" y="451"/>
                  <a:pt x="25" y="499"/>
                  <a:pt x="46" y="584"/>
                </a:cubicBezTo>
                <a:cubicBezTo>
                  <a:pt x="37" y="739"/>
                  <a:pt x="38" y="894"/>
                  <a:pt x="38" y="1048"/>
                </a:cubicBezTo>
                <a:cubicBezTo>
                  <a:pt x="107" y="1065"/>
                  <a:pt x="130" y="1029"/>
                  <a:pt x="198" y="1024"/>
                </a:cubicBezTo>
                <a:cubicBezTo>
                  <a:pt x="262" y="1020"/>
                  <a:pt x="326" y="1019"/>
                  <a:pt x="390" y="1016"/>
                </a:cubicBezTo>
                <a:cubicBezTo>
                  <a:pt x="398" y="1013"/>
                  <a:pt x="409" y="1015"/>
                  <a:pt x="414" y="1008"/>
                </a:cubicBezTo>
                <a:cubicBezTo>
                  <a:pt x="415" y="1007"/>
                  <a:pt x="426" y="956"/>
                  <a:pt x="430" y="952"/>
                </a:cubicBezTo>
                <a:cubicBezTo>
                  <a:pt x="436" y="946"/>
                  <a:pt x="446" y="948"/>
                  <a:pt x="454" y="944"/>
                </a:cubicBezTo>
                <a:cubicBezTo>
                  <a:pt x="523" y="910"/>
                  <a:pt x="464" y="926"/>
                  <a:pt x="534" y="912"/>
                </a:cubicBezTo>
                <a:cubicBezTo>
                  <a:pt x="559" y="937"/>
                  <a:pt x="585" y="938"/>
                  <a:pt x="598" y="968"/>
                </a:cubicBezTo>
                <a:cubicBezTo>
                  <a:pt x="605" y="983"/>
                  <a:pt x="614" y="1016"/>
                  <a:pt x="614" y="1016"/>
                </a:cubicBezTo>
                <a:cubicBezTo>
                  <a:pt x="617" y="1053"/>
                  <a:pt x="616" y="1091"/>
                  <a:pt x="622" y="1128"/>
                </a:cubicBezTo>
                <a:cubicBezTo>
                  <a:pt x="627" y="1157"/>
                  <a:pt x="647" y="1194"/>
                  <a:pt x="654" y="1224"/>
                </a:cubicBezTo>
                <a:cubicBezTo>
                  <a:pt x="655" y="1241"/>
                  <a:pt x="648" y="1394"/>
                  <a:pt x="678" y="1432"/>
                </a:cubicBezTo>
                <a:cubicBezTo>
                  <a:pt x="727" y="1496"/>
                  <a:pt x="799" y="1555"/>
                  <a:pt x="878" y="1568"/>
                </a:cubicBezTo>
                <a:cubicBezTo>
                  <a:pt x="902" y="1578"/>
                  <a:pt x="925" y="1594"/>
                  <a:pt x="950" y="1600"/>
                </a:cubicBezTo>
                <a:cubicBezTo>
                  <a:pt x="981" y="1608"/>
                  <a:pt x="1046" y="1616"/>
                  <a:pt x="1046" y="1616"/>
                </a:cubicBezTo>
                <a:cubicBezTo>
                  <a:pt x="1095" y="1600"/>
                  <a:pt x="1046" y="1622"/>
                  <a:pt x="1086" y="1576"/>
                </a:cubicBezTo>
                <a:cubicBezTo>
                  <a:pt x="1104" y="1554"/>
                  <a:pt x="1127" y="1537"/>
                  <a:pt x="1150" y="1520"/>
                </a:cubicBezTo>
                <a:cubicBezTo>
                  <a:pt x="1180" y="1497"/>
                  <a:pt x="1248" y="1485"/>
                  <a:pt x="1286" y="1472"/>
                </a:cubicBezTo>
                <a:cubicBezTo>
                  <a:pt x="1357" y="1477"/>
                  <a:pt x="1426" y="1481"/>
                  <a:pt x="1494" y="1504"/>
                </a:cubicBezTo>
                <a:cubicBezTo>
                  <a:pt x="1513" y="1501"/>
                  <a:pt x="1532" y="1500"/>
                  <a:pt x="1550" y="1496"/>
                </a:cubicBezTo>
                <a:cubicBezTo>
                  <a:pt x="1566" y="1492"/>
                  <a:pt x="1598" y="1480"/>
                  <a:pt x="1598" y="1480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s sind die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änder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-7 auf Deuts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4149720"/>
            <a:ext cx="505080" cy="415800"/>
          </a:xfrm>
          <a:custGeom>
            <a:avLst/>
            <a:gdLst/>
            <a:ahLst/>
            <a:rect l="l" t="t" r="r" b="b"/>
            <a:pathLst>
              <a:path w="326" h="398">
                <a:moveTo>
                  <a:pt x="326" y="22"/>
                </a:moveTo>
                <a:cubicBezTo>
                  <a:pt x="260" y="0"/>
                  <a:pt x="295" y="4"/>
                  <a:pt x="222" y="14"/>
                </a:cubicBezTo>
                <a:cubicBezTo>
                  <a:pt x="156" y="36"/>
                  <a:pt x="81" y="39"/>
                  <a:pt x="22" y="78"/>
                </a:cubicBezTo>
                <a:cubicBezTo>
                  <a:pt x="0" y="143"/>
                  <a:pt x="22" y="223"/>
                  <a:pt x="14" y="294"/>
                </a:cubicBezTo>
                <a:cubicBezTo>
                  <a:pt x="22" y="352"/>
                  <a:pt x="19" y="372"/>
                  <a:pt x="70" y="3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1628640"/>
            <a:ext cx="3384360" cy="4896000"/>
          </a:xfrm>
          <a:custGeom>
            <a:avLst/>
            <a:gdLst/>
            <a:ahLst/>
            <a:rect l="l" t="t" r="r" b="b"/>
            <a:pathLst>
              <a:path w="2078" h="3445">
                <a:moveTo>
                  <a:pt x="654" y="77"/>
                </a:moveTo>
                <a:cubicBezTo>
                  <a:pt x="661" y="151"/>
                  <a:pt x="674" y="220"/>
                  <a:pt x="686" y="293"/>
                </a:cubicBezTo>
                <a:cubicBezTo>
                  <a:pt x="683" y="418"/>
                  <a:pt x="683" y="544"/>
                  <a:pt x="678" y="669"/>
                </a:cubicBezTo>
                <a:cubicBezTo>
                  <a:pt x="677" y="685"/>
                  <a:pt x="672" y="701"/>
                  <a:pt x="670" y="717"/>
                </a:cubicBezTo>
                <a:cubicBezTo>
                  <a:pt x="667" y="738"/>
                  <a:pt x="666" y="760"/>
                  <a:pt x="662" y="781"/>
                </a:cubicBezTo>
                <a:cubicBezTo>
                  <a:pt x="660" y="792"/>
                  <a:pt x="656" y="802"/>
                  <a:pt x="654" y="813"/>
                </a:cubicBezTo>
                <a:cubicBezTo>
                  <a:pt x="648" y="850"/>
                  <a:pt x="638" y="925"/>
                  <a:pt x="638" y="925"/>
                </a:cubicBezTo>
                <a:cubicBezTo>
                  <a:pt x="644" y="1007"/>
                  <a:pt x="644" y="1094"/>
                  <a:pt x="670" y="1173"/>
                </a:cubicBezTo>
                <a:cubicBezTo>
                  <a:pt x="675" y="1231"/>
                  <a:pt x="699" y="1330"/>
                  <a:pt x="678" y="1389"/>
                </a:cubicBezTo>
                <a:cubicBezTo>
                  <a:pt x="673" y="1403"/>
                  <a:pt x="618" y="1421"/>
                  <a:pt x="606" y="1429"/>
                </a:cubicBezTo>
                <a:cubicBezTo>
                  <a:pt x="568" y="1487"/>
                  <a:pt x="580" y="1556"/>
                  <a:pt x="558" y="1621"/>
                </a:cubicBezTo>
                <a:cubicBezTo>
                  <a:pt x="564" y="1695"/>
                  <a:pt x="568" y="1732"/>
                  <a:pt x="590" y="1797"/>
                </a:cubicBezTo>
                <a:cubicBezTo>
                  <a:pt x="594" y="1810"/>
                  <a:pt x="601" y="1837"/>
                  <a:pt x="614" y="1845"/>
                </a:cubicBezTo>
                <a:cubicBezTo>
                  <a:pt x="620" y="1849"/>
                  <a:pt x="751" y="1897"/>
                  <a:pt x="766" y="1901"/>
                </a:cubicBezTo>
                <a:cubicBezTo>
                  <a:pt x="822" y="1938"/>
                  <a:pt x="892" y="1948"/>
                  <a:pt x="958" y="1957"/>
                </a:cubicBezTo>
                <a:cubicBezTo>
                  <a:pt x="966" y="1962"/>
                  <a:pt x="975" y="1966"/>
                  <a:pt x="982" y="1973"/>
                </a:cubicBezTo>
                <a:cubicBezTo>
                  <a:pt x="989" y="1980"/>
                  <a:pt x="991" y="1991"/>
                  <a:pt x="998" y="1997"/>
                </a:cubicBezTo>
                <a:cubicBezTo>
                  <a:pt x="1032" y="2027"/>
                  <a:pt x="1037" y="2026"/>
                  <a:pt x="1070" y="2037"/>
                </a:cubicBezTo>
                <a:cubicBezTo>
                  <a:pt x="1156" y="2029"/>
                  <a:pt x="1252" y="2022"/>
                  <a:pt x="1326" y="1973"/>
                </a:cubicBezTo>
                <a:cubicBezTo>
                  <a:pt x="1349" y="1938"/>
                  <a:pt x="1358" y="1939"/>
                  <a:pt x="1398" y="1949"/>
                </a:cubicBezTo>
                <a:cubicBezTo>
                  <a:pt x="1452" y="1943"/>
                  <a:pt x="1504" y="1934"/>
                  <a:pt x="1558" y="1925"/>
                </a:cubicBezTo>
                <a:cubicBezTo>
                  <a:pt x="1566" y="1917"/>
                  <a:pt x="1573" y="1908"/>
                  <a:pt x="1582" y="1901"/>
                </a:cubicBezTo>
                <a:cubicBezTo>
                  <a:pt x="1597" y="1889"/>
                  <a:pt x="1630" y="1869"/>
                  <a:pt x="1630" y="1869"/>
                </a:cubicBezTo>
                <a:cubicBezTo>
                  <a:pt x="1633" y="1861"/>
                  <a:pt x="1630" y="1845"/>
                  <a:pt x="1638" y="1845"/>
                </a:cubicBezTo>
                <a:cubicBezTo>
                  <a:pt x="1646" y="1845"/>
                  <a:pt x="1647" y="1861"/>
                  <a:pt x="1646" y="1869"/>
                </a:cubicBezTo>
                <a:cubicBezTo>
                  <a:pt x="1644" y="1878"/>
                  <a:pt x="1634" y="1884"/>
                  <a:pt x="1630" y="1893"/>
                </a:cubicBezTo>
                <a:cubicBezTo>
                  <a:pt x="1623" y="1908"/>
                  <a:pt x="1614" y="1941"/>
                  <a:pt x="1614" y="1941"/>
                </a:cubicBezTo>
                <a:cubicBezTo>
                  <a:pt x="1619" y="1965"/>
                  <a:pt x="1618" y="1988"/>
                  <a:pt x="1638" y="2005"/>
                </a:cubicBezTo>
                <a:cubicBezTo>
                  <a:pt x="1652" y="2018"/>
                  <a:pt x="1686" y="2037"/>
                  <a:pt x="1686" y="2037"/>
                </a:cubicBezTo>
                <a:cubicBezTo>
                  <a:pt x="1716" y="2081"/>
                  <a:pt x="1685" y="2046"/>
                  <a:pt x="1726" y="2069"/>
                </a:cubicBezTo>
                <a:cubicBezTo>
                  <a:pt x="1743" y="2078"/>
                  <a:pt x="1755" y="2096"/>
                  <a:pt x="1774" y="2101"/>
                </a:cubicBezTo>
                <a:cubicBezTo>
                  <a:pt x="1823" y="2113"/>
                  <a:pt x="1868" y="2126"/>
                  <a:pt x="1918" y="2133"/>
                </a:cubicBezTo>
                <a:cubicBezTo>
                  <a:pt x="1952" y="2144"/>
                  <a:pt x="1975" y="2167"/>
                  <a:pt x="2006" y="2181"/>
                </a:cubicBezTo>
                <a:cubicBezTo>
                  <a:pt x="2028" y="2191"/>
                  <a:pt x="2054" y="2191"/>
                  <a:pt x="2078" y="2197"/>
                </a:cubicBezTo>
                <a:cubicBezTo>
                  <a:pt x="2068" y="2228"/>
                  <a:pt x="2062" y="2242"/>
                  <a:pt x="2030" y="2253"/>
                </a:cubicBezTo>
                <a:cubicBezTo>
                  <a:pt x="2001" y="2341"/>
                  <a:pt x="2047" y="2208"/>
                  <a:pt x="2006" y="2301"/>
                </a:cubicBezTo>
                <a:cubicBezTo>
                  <a:pt x="1977" y="2367"/>
                  <a:pt x="1965" y="2441"/>
                  <a:pt x="1942" y="2509"/>
                </a:cubicBezTo>
                <a:cubicBezTo>
                  <a:pt x="1933" y="2537"/>
                  <a:pt x="1921" y="2556"/>
                  <a:pt x="1910" y="2581"/>
                </a:cubicBezTo>
                <a:cubicBezTo>
                  <a:pt x="1903" y="2596"/>
                  <a:pt x="1894" y="2629"/>
                  <a:pt x="1894" y="2629"/>
                </a:cubicBezTo>
                <a:cubicBezTo>
                  <a:pt x="1897" y="2670"/>
                  <a:pt x="1911" y="2771"/>
                  <a:pt x="1894" y="2821"/>
                </a:cubicBezTo>
                <a:cubicBezTo>
                  <a:pt x="1876" y="2875"/>
                  <a:pt x="1860" y="2870"/>
                  <a:pt x="1814" y="2885"/>
                </a:cubicBezTo>
                <a:cubicBezTo>
                  <a:pt x="1806" y="2888"/>
                  <a:pt x="1790" y="2893"/>
                  <a:pt x="1790" y="2893"/>
                </a:cubicBezTo>
                <a:cubicBezTo>
                  <a:pt x="1785" y="2901"/>
                  <a:pt x="1781" y="2911"/>
                  <a:pt x="1774" y="2917"/>
                </a:cubicBezTo>
                <a:cubicBezTo>
                  <a:pt x="1760" y="2930"/>
                  <a:pt x="1726" y="2949"/>
                  <a:pt x="1726" y="2949"/>
                </a:cubicBezTo>
                <a:cubicBezTo>
                  <a:pt x="1707" y="2977"/>
                  <a:pt x="1707" y="2999"/>
                  <a:pt x="1694" y="3029"/>
                </a:cubicBezTo>
                <a:cubicBezTo>
                  <a:pt x="1665" y="3098"/>
                  <a:pt x="1617" y="3172"/>
                  <a:pt x="1542" y="3197"/>
                </a:cubicBezTo>
                <a:cubicBezTo>
                  <a:pt x="1520" y="3229"/>
                  <a:pt x="1445" y="3288"/>
                  <a:pt x="1406" y="3301"/>
                </a:cubicBezTo>
                <a:cubicBezTo>
                  <a:pt x="1372" y="3352"/>
                  <a:pt x="1354" y="3401"/>
                  <a:pt x="1294" y="3421"/>
                </a:cubicBezTo>
                <a:cubicBezTo>
                  <a:pt x="1240" y="3403"/>
                  <a:pt x="1294" y="3417"/>
                  <a:pt x="1190" y="3421"/>
                </a:cubicBezTo>
                <a:cubicBezTo>
                  <a:pt x="1065" y="3425"/>
                  <a:pt x="939" y="3426"/>
                  <a:pt x="814" y="3429"/>
                </a:cubicBezTo>
                <a:cubicBezTo>
                  <a:pt x="760" y="3422"/>
                  <a:pt x="708" y="3412"/>
                  <a:pt x="654" y="3405"/>
                </a:cubicBezTo>
                <a:cubicBezTo>
                  <a:pt x="623" y="3408"/>
                  <a:pt x="555" y="3412"/>
                  <a:pt x="518" y="3421"/>
                </a:cubicBezTo>
                <a:cubicBezTo>
                  <a:pt x="502" y="3425"/>
                  <a:pt x="486" y="3432"/>
                  <a:pt x="470" y="3437"/>
                </a:cubicBezTo>
                <a:cubicBezTo>
                  <a:pt x="462" y="3440"/>
                  <a:pt x="446" y="3445"/>
                  <a:pt x="446" y="3445"/>
                </a:cubicBezTo>
                <a:cubicBezTo>
                  <a:pt x="383" y="3439"/>
                  <a:pt x="332" y="3429"/>
                  <a:pt x="270" y="3421"/>
                </a:cubicBezTo>
                <a:cubicBezTo>
                  <a:pt x="233" y="3416"/>
                  <a:pt x="158" y="3405"/>
                  <a:pt x="158" y="3405"/>
                </a:cubicBezTo>
                <a:cubicBezTo>
                  <a:pt x="114" y="3390"/>
                  <a:pt x="68" y="3387"/>
                  <a:pt x="22" y="3381"/>
                </a:cubicBezTo>
                <a:cubicBezTo>
                  <a:pt x="0" y="3251"/>
                  <a:pt x="23" y="3125"/>
                  <a:pt x="46" y="2997"/>
                </a:cubicBezTo>
                <a:cubicBezTo>
                  <a:pt x="82" y="2622"/>
                  <a:pt x="72" y="2243"/>
                  <a:pt x="95" y="1867"/>
                </a:cubicBezTo>
                <a:cubicBezTo>
                  <a:pt x="118" y="1503"/>
                  <a:pt x="163" y="1142"/>
                  <a:pt x="186" y="778"/>
                </a:cubicBezTo>
                <a:cubicBezTo>
                  <a:pt x="171" y="597"/>
                  <a:pt x="168" y="414"/>
                  <a:pt x="140" y="234"/>
                </a:cubicBezTo>
                <a:cubicBezTo>
                  <a:pt x="137" y="213"/>
                  <a:pt x="88" y="208"/>
                  <a:pt x="95" y="188"/>
                </a:cubicBezTo>
                <a:cubicBezTo>
                  <a:pt x="141" y="52"/>
                  <a:pt x="382" y="65"/>
                  <a:pt x="458" y="52"/>
                </a:cubicBezTo>
                <a:cubicBezTo>
                  <a:pt x="413" y="37"/>
                  <a:pt x="369" y="0"/>
                  <a:pt x="322" y="7"/>
                </a:cubicBezTo>
                <a:cubicBezTo>
                  <a:pt x="255" y="17"/>
                  <a:pt x="92" y="146"/>
                  <a:pt x="140" y="98"/>
                </a:cubicBezTo>
                <a:cubicBezTo>
                  <a:pt x="220" y="18"/>
                  <a:pt x="165" y="59"/>
                  <a:pt x="322" y="7"/>
                </a:cubicBezTo>
                <a:cubicBezTo>
                  <a:pt x="382" y="22"/>
                  <a:pt x="444" y="32"/>
                  <a:pt x="503" y="52"/>
                </a:cubicBezTo>
                <a:cubicBezTo>
                  <a:pt x="640" y="98"/>
                  <a:pt x="545" y="115"/>
                  <a:pt x="654" y="77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341360"/>
            <a:ext cx="1332000" cy="5516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52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236000" y="620640"/>
            <a:ext cx="1873080" cy="626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3726720" y="3194640"/>
            <a:ext cx="611280" cy="669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162864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350028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1582560" cy="792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716280"/>
            <a:ext cx="1366920" cy="5047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443700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39640" y="4292280"/>
            <a:ext cx="180036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16000" y="623736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5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403280" y="6021000"/>
            <a:ext cx="216072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172360" y="184464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6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028000" y="375120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7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028000" y="551664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8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516720" y="2060640"/>
            <a:ext cx="144000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372000" y="3933720"/>
            <a:ext cx="1584360" cy="142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27640" y="5661000"/>
            <a:ext cx="1657440" cy="73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3120" y="5205240"/>
            <a:ext cx="446040" cy="608040"/>
          </a:xfrm>
          <a:custGeom>
            <a:avLst/>
            <a:gdLst/>
            <a:ahLst/>
            <a:rect l="l" t="t" r="r" b="b"/>
            <a:pathLst>
              <a:path w="1242" h="1688">
                <a:moveTo>
                  <a:pt x="17611" y="14709"/>
                </a:moveTo>
                <a:lnTo>
                  <a:pt x="17587" y="14709"/>
                </a:lnTo>
                <a:lnTo>
                  <a:pt x="17587" y="14709"/>
                </a:lnTo>
                <a:lnTo>
                  <a:pt x="17562" y="14709"/>
                </a:lnTo>
                <a:lnTo>
                  <a:pt x="17562" y="14709"/>
                </a:lnTo>
                <a:lnTo>
                  <a:pt x="17537" y="14709"/>
                </a:lnTo>
                <a:lnTo>
                  <a:pt x="17537" y="14709"/>
                </a:lnTo>
                <a:lnTo>
                  <a:pt x="17487" y="14709"/>
                </a:lnTo>
                <a:lnTo>
                  <a:pt x="17487" y="14709"/>
                </a:lnTo>
                <a:lnTo>
                  <a:pt x="17462" y="14684"/>
                </a:lnTo>
                <a:lnTo>
                  <a:pt x="17438" y="14684"/>
                </a:lnTo>
                <a:lnTo>
                  <a:pt x="17438" y="14684"/>
                </a:lnTo>
                <a:lnTo>
                  <a:pt x="17388" y="14684"/>
                </a:lnTo>
                <a:lnTo>
                  <a:pt x="17388" y="14660"/>
                </a:lnTo>
                <a:lnTo>
                  <a:pt x="17363" y="14660"/>
                </a:lnTo>
                <a:lnTo>
                  <a:pt x="17314" y="14660"/>
                </a:lnTo>
                <a:lnTo>
                  <a:pt x="17314" y="14660"/>
                </a:lnTo>
                <a:lnTo>
                  <a:pt x="17289" y="14660"/>
                </a:lnTo>
                <a:lnTo>
                  <a:pt x="17289" y="14660"/>
                </a:lnTo>
                <a:lnTo>
                  <a:pt x="17264" y="14660"/>
                </a:lnTo>
                <a:lnTo>
                  <a:pt x="17264" y="14635"/>
                </a:lnTo>
                <a:lnTo>
                  <a:pt x="17289" y="14635"/>
                </a:lnTo>
                <a:lnTo>
                  <a:pt x="17289" y="14635"/>
                </a:lnTo>
                <a:lnTo>
                  <a:pt x="17314" y="14635"/>
                </a:lnTo>
                <a:lnTo>
                  <a:pt x="17338" y="14660"/>
                </a:lnTo>
                <a:lnTo>
                  <a:pt x="17363" y="14684"/>
                </a:lnTo>
                <a:lnTo>
                  <a:pt x="17413" y="14684"/>
                </a:lnTo>
                <a:lnTo>
                  <a:pt x="17438" y="14684"/>
                </a:lnTo>
                <a:lnTo>
                  <a:pt x="17462" y="14684"/>
                </a:lnTo>
                <a:lnTo>
                  <a:pt x="17512" y="14684"/>
                </a:lnTo>
                <a:lnTo>
                  <a:pt x="17537" y="14684"/>
                </a:lnTo>
                <a:lnTo>
                  <a:pt x="17562" y="14684"/>
                </a:lnTo>
                <a:lnTo>
                  <a:pt x="17587" y="14684"/>
                </a:lnTo>
                <a:lnTo>
                  <a:pt x="17587" y="14684"/>
                </a:lnTo>
                <a:lnTo>
                  <a:pt x="17587" y="14684"/>
                </a:lnTo>
                <a:lnTo>
                  <a:pt x="17537" y="14684"/>
                </a:lnTo>
                <a:lnTo>
                  <a:pt x="17512" y="14684"/>
                </a:lnTo>
                <a:lnTo>
                  <a:pt x="17438" y="14635"/>
                </a:lnTo>
                <a:lnTo>
                  <a:pt x="17388" y="14610"/>
                </a:lnTo>
                <a:lnTo>
                  <a:pt x="17338" y="14610"/>
                </a:lnTo>
                <a:lnTo>
                  <a:pt x="17338" y="14585"/>
                </a:lnTo>
                <a:lnTo>
                  <a:pt x="17314" y="14585"/>
                </a:lnTo>
                <a:lnTo>
                  <a:pt x="17289" y="14585"/>
                </a:lnTo>
                <a:lnTo>
                  <a:pt x="17289" y="14585"/>
                </a:lnTo>
                <a:lnTo>
                  <a:pt x="17289" y="14585"/>
                </a:lnTo>
                <a:lnTo>
                  <a:pt x="17314" y="14585"/>
                </a:lnTo>
                <a:lnTo>
                  <a:pt x="17314" y="14585"/>
                </a:lnTo>
                <a:lnTo>
                  <a:pt x="17338" y="14585"/>
                </a:lnTo>
                <a:lnTo>
                  <a:pt x="17363" y="14585"/>
                </a:lnTo>
                <a:lnTo>
                  <a:pt x="17388" y="14585"/>
                </a:lnTo>
                <a:lnTo>
                  <a:pt x="17413" y="14585"/>
                </a:lnTo>
                <a:lnTo>
                  <a:pt x="17413" y="14585"/>
                </a:lnTo>
                <a:lnTo>
                  <a:pt x="17438" y="14585"/>
                </a:lnTo>
                <a:lnTo>
                  <a:pt x="17413" y="14560"/>
                </a:lnTo>
                <a:lnTo>
                  <a:pt x="17413" y="14560"/>
                </a:lnTo>
                <a:lnTo>
                  <a:pt x="17363" y="14536"/>
                </a:lnTo>
                <a:lnTo>
                  <a:pt x="17338" y="14536"/>
                </a:lnTo>
                <a:lnTo>
                  <a:pt x="17289" y="14511"/>
                </a:lnTo>
                <a:lnTo>
                  <a:pt x="17239" y="14486"/>
                </a:lnTo>
                <a:lnTo>
                  <a:pt x="17190" y="14461"/>
                </a:lnTo>
                <a:lnTo>
                  <a:pt x="17190" y="14461"/>
                </a:lnTo>
                <a:lnTo>
                  <a:pt x="17165" y="14461"/>
                </a:lnTo>
                <a:lnTo>
                  <a:pt x="17165" y="14461"/>
                </a:lnTo>
                <a:lnTo>
                  <a:pt x="17140" y="14461"/>
                </a:lnTo>
                <a:lnTo>
                  <a:pt x="17165" y="14461"/>
                </a:lnTo>
                <a:lnTo>
                  <a:pt x="17165" y="14461"/>
                </a:lnTo>
                <a:lnTo>
                  <a:pt x="17190" y="14461"/>
                </a:lnTo>
                <a:lnTo>
                  <a:pt x="17239" y="14461"/>
                </a:lnTo>
                <a:lnTo>
                  <a:pt x="17264" y="14461"/>
                </a:lnTo>
                <a:lnTo>
                  <a:pt x="17289" y="14461"/>
                </a:lnTo>
                <a:lnTo>
                  <a:pt x="17314" y="14461"/>
                </a:lnTo>
                <a:lnTo>
                  <a:pt x="17338" y="14461"/>
                </a:lnTo>
                <a:lnTo>
                  <a:pt x="17363" y="14461"/>
                </a:lnTo>
                <a:lnTo>
                  <a:pt x="17363" y="14461"/>
                </a:lnTo>
                <a:lnTo>
                  <a:pt x="17363" y="14486"/>
                </a:lnTo>
                <a:lnTo>
                  <a:pt x="17338" y="14486"/>
                </a:lnTo>
                <a:lnTo>
                  <a:pt x="17314" y="14486"/>
                </a:lnTo>
                <a:lnTo>
                  <a:pt x="17314" y="14486"/>
                </a:lnTo>
                <a:lnTo>
                  <a:pt x="17314" y="14511"/>
                </a:lnTo>
                <a:lnTo>
                  <a:pt x="17289" y="14511"/>
                </a:lnTo>
                <a:lnTo>
                  <a:pt x="17289" y="14511"/>
                </a:lnTo>
                <a:lnTo>
                  <a:pt x="17264" y="14511"/>
                </a:lnTo>
                <a:lnTo>
                  <a:pt x="17264" y="14511"/>
                </a:lnTo>
                <a:lnTo>
                  <a:pt x="17239" y="14511"/>
                </a:lnTo>
                <a:lnTo>
                  <a:pt x="17214" y="14511"/>
                </a:lnTo>
                <a:lnTo>
                  <a:pt x="17214" y="14511"/>
                </a:lnTo>
                <a:lnTo>
                  <a:pt x="17190" y="14511"/>
                </a:lnTo>
                <a:lnTo>
                  <a:pt x="17190" y="14511"/>
                </a:lnTo>
                <a:lnTo>
                  <a:pt x="17165" y="14511"/>
                </a:lnTo>
                <a:lnTo>
                  <a:pt x="17165" y="14511"/>
                </a:lnTo>
                <a:lnTo>
                  <a:pt x="17140" y="14511"/>
                </a:lnTo>
                <a:lnTo>
                  <a:pt x="17115" y="14511"/>
                </a:lnTo>
                <a:lnTo>
                  <a:pt x="17115" y="14511"/>
                </a:lnTo>
                <a:lnTo>
                  <a:pt x="17090" y="14511"/>
                </a:lnTo>
                <a:lnTo>
                  <a:pt x="17090" y="14486"/>
                </a:lnTo>
                <a:lnTo>
                  <a:pt x="17115" y="14486"/>
                </a:lnTo>
                <a:lnTo>
                  <a:pt x="17115" y="14486"/>
                </a:lnTo>
                <a:lnTo>
                  <a:pt x="17115" y="14461"/>
                </a:lnTo>
                <a:lnTo>
                  <a:pt x="17140" y="14461"/>
                </a:lnTo>
                <a:lnTo>
                  <a:pt x="17165" y="14461"/>
                </a:lnTo>
                <a:lnTo>
                  <a:pt x="17165" y="14461"/>
                </a:lnTo>
                <a:lnTo>
                  <a:pt x="17165" y="14461"/>
                </a:lnTo>
                <a:lnTo>
                  <a:pt x="17165" y="14461"/>
                </a:lnTo>
                <a:lnTo>
                  <a:pt x="17165" y="14486"/>
                </a:lnTo>
                <a:lnTo>
                  <a:pt x="17190" y="14511"/>
                </a:lnTo>
                <a:lnTo>
                  <a:pt x="17190" y="14511"/>
                </a:lnTo>
                <a:lnTo>
                  <a:pt x="17190" y="14536"/>
                </a:lnTo>
                <a:lnTo>
                  <a:pt x="17214" y="14536"/>
                </a:lnTo>
                <a:lnTo>
                  <a:pt x="17214" y="14560"/>
                </a:lnTo>
                <a:lnTo>
                  <a:pt x="17214" y="14560"/>
                </a:lnTo>
                <a:lnTo>
                  <a:pt x="17239" y="14560"/>
                </a:lnTo>
                <a:lnTo>
                  <a:pt x="17239" y="14560"/>
                </a:lnTo>
                <a:lnTo>
                  <a:pt x="17264" y="14560"/>
                </a:lnTo>
                <a:lnTo>
                  <a:pt x="17264" y="14560"/>
                </a:lnTo>
                <a:lnTo>
                  <a:pt x="17264" y="14585"/>
                </a:lnTo>
                <a:lnTo>
                  <a:pt x="17289" y="14585"/>
                </a:lnTo>
                <a:lnTo>
                  <a:pt x="17289" y="14610"/>
                </a:lnTo>
                <a:lnTo>
                  <a:pt x="17289" y="14610"/>
                </a:lnTo>
                <a:lnTo>
                  <a:pt x="17314" y="14610"/>
                </a:lnTo>
                <a:lnTo>
                  <a:pt x="17314" y="14610"/>
                </a:lnTo>
                <a:lnTo>
                  <a:pt x="17314" y="14610"/>
                </a:lnTo>
                <a:lnTo>
                  <a:pt x="17314" y="14635"/>
                </a:lnTo>
                <a:lnTo>
                  <a:pt x="17338" y="14635"/>
                </a:lnTo>
                <a:lnTo>
                  <a:pt x="17338" y="14635"/>
                </a:lnTo>
                <a:lnTo>
                  <a:pt x="17363" y="14635"/>
                </a:lnTo>
                <a:lnTo>
                  <a:pt x="17363" y="14660"/>
                </a:lnTo>
                <a:lnTo>
                  <a:pt x="17363" y="14660"/>
                </a:lnTo>
                <a:lnTo>
                  <a:pt x="17363" y="14660"/>
                </a:lnTo>
                <a:lnTo>
                  <a:pt x="17363" y="14684"/>
                </a:lnTo>
                <a:lnTo>
                  <a:pt x="17363" y="14709"/>
                </a:lnTo>
                <a:lnTo>
                  <a:pt x="17363" y="14709"/>
                </a:lnTo>
                <a:lnTo>
                  <a:pt x="17314" y="14709"/>
                </a:lnTo>
                <a:lnTo>
                  <a:pt x="17264" y="14709"/>
                </a:lnTo>
                <a:lnTo>
                  <a:pt x="17214" y="14709"/>
                </a:lnTo>
                <a:lnTo>
                  <a:pt x="17214" y="14709"/>
                </a:lnTo>
                <a:lnTo>
                  <a:pt x="17190" y="14709"/>
                </a:lnTo>
                <a:lnTo>
                  <a:pt x="17140" y="14709"/>
                </a:lnTo>
                <a:lnTo>
                  <a:pt x="17165" y="14709"/>
                </a:lnTo>
                <a:lnTo>
                  <a:pt x="17165" y="14709"/>
                </a:lnTo>
                <a:lnTo>
                  <a:pt x="17214" y="14734"/>
                </a:lnTo>
                <a:lnTo>
                  <a:pt x="17239" y="14734"/>
                </a:lnTo>
                <a:lnTo>
                  <a:pt x="17289" y="14759"/>
                </a:lnTo>
                <a:lnTo>
                  <a:pt x="17314" y="14759"/>
                </a:lnTo>
                <a:lnTo>
                  <a:pt x="17388" y="14759"/>
                </a:lnTo>
                <a:lnTo>
                  <a:pt x="17413" y="14759"/>
                </a:lnTo>
                <a:lnTo>
                  <a:pt x="17462" y="14759"/>
                </a:lnTo>
                <a:lnTo>
                  <a:pt x="17487" y="14759"/>
                </a:lnTo>
                <a:lnTo>
                  <a:pt x="17487" y="14784"/>
                </a:lnTo>
                <a:lnTo>
                  <a:pt x="17462" y="14784"/>
                </a:lnTo>
                <a:lnTo>
                  <a:pt x="17438" y="14784"/>
                </a:lnTo>
                <a:lnTo>
                  <a:pt x="17413" y="14784"/>
                </a:lnTo>
                <a:lnTo>
                  <a:pt x="17413" y="14784"/>
                </a:lnTo>
                <a:lnTo>
                  <a:pt x="17363" y="14784"/>
                </a:lnTo>
                <a:lnTo>
                  <a:pt x="17363" y="14784"/>
                </a:lnTo>
                <a:lnTo>
                  <a:pt x="17363" y="14808"/>
                </a:lnTo>
                <a:lnTo>
                  <a:pt x="17338" y="14808"/>
                </a:lnTo>
                <a:lnTo>
                  <a:pt x="17363" y="14808"/>
                </a:lnTo>
                <a:lnTo>
                  <a:pt x="17363" y="14808"/>
                </a:lnTo>
                <a:lnTo>
                  <a:pt x="17388" y="14808"/>
                </a:lnTo>
                <a:lnTo>
                  <a:pt x="17413" y="14808"/>
                </a:lnTo>
                <a:lnTo>
                  <a:pt x="17462" y="14808"/>
                </a:lnTo>
                <a:lnTo>
                  <a:pt x="17487" y="14808"/>
                </a:lnTo>
                <a:lnTo>
                  <a:pt x="17512" y="14808"/>
                </a:lnTo>
                <a:lnTo>
                  <a:pt x="17537" y="14808"/>
                </a:lnTo>
                <a:lnTo>
                  <a:pt x="17537" y="14808"/>
                </a:lnTo>
                <a:lnTo>
                  <a:pt x="17562" y="14808"/>
                </a:lnTo>
                <a:lnTo>
                  <a:pt x="17537" y="14808"/>
                </a:lnTo>
                <a:lnTo>
                  <a:pt x="17537" y="14808"/>
                </a:lnTo>
                <a:lnTo>
                  <a:pt x="17512" y="14808"/>
                </a:lnTo>
                <a:lnTo>
                  <a:pt x="17487" y="14808"/>
                </a:lnTo>
                <a:lnTo>
                  <a:pt x="17438" y="14808"/>
                </a:lnTo>
                <a:lnTo>
                  <a:pt x="17388" y="14808"/>
                </a:lnTo>
                <a:lnTo>
                  <a:pt x="17338" y="14808"/>
                </a:lnTo>
                <a:lnTo>
                  <a:pt x="17314" y="14808"/>
                </a:lnTo>
                <a:lnTo>
                  <a:pt x="17289" y="14808"/>
                </a:lnTo>
                <a:lnTo>
                  <a:pt x="17314" y="14808"/>
                </a:lnTo>
                <a:lnTo>
                  <a:pt x="17338" y="14833"/>
                </a:lnTo>
                <a:lnTo>
                  <a:pt x="17388" y="14833"/>
                </a:lnTo>
                <a:lnTo>
                  <a:pt x="17438" y="14883"/>
                </a:lnTo>
                <a:lnTo>
                  <a:pt x="17487" y="14883"/>
                </a:lnTo>
                <a:lnTo>
                  <a:pt x="17512" y="14908"/>
                </a:lnTo>
                <a:lnTo>
                  <a:pt x="17587" y="14957"/>
                </a:lnTo>
                <a:lnTo>
                  <a:pt x="17611" y="14957"/>
                </a:lnTo>
                <a:lnTo>
                  <a:pt x="17636" y="14957"/>
                </a:lnTo>
                <a:lnTo>
                  <a:pt x="17661" y="14957"/>
                </a:lnTo>
                <a:lnTo>
                  <a:pt x="17636" y="14957"/>
                </a:lnTo>
                <a:lnTo>
                  <a:pt x="17636" y="14957"/>
                </a:lnTo>
                <a:lnTo>
                  <a:pt x="17587" y="14957"/>
                </a:lnTo>
                <a:lnTo>
                  <a:pt x="17537" y="14957"/>
                </a:lnTo>
                <a:lnTo>
                  <a:pt x="17487" y="14957"/>
                </a:lnTo>
                <a:lnTo>
                  <a:pt x="17462" y="14957"/>
                </a:lnTo>
                <a:lnTo>
                  <a:pt x="17438" y="14957"/>
                </a:lnTo>
                <a:lnTo>
                  <a:pt x="17413" y="14957"/>
                </a:lnTo>
                <a:lnTo>
                  <a:pt x="17413" y="14957"/>
                </a:lnTo>
                <a:lnTo>
                  <a:pt x="17413" y="14957"/>
                </a:lnTo>
                <a:lnTo>
                  <a:pt x="17438" y="14957"/>
                </a:lnTo>
                <a:lnTo>
                  <a:pt x="17462" y="14982"/>
                </a:lnTo>
                <a:lnTo>
                  <a:pt x="17487" y="14982"/>
                </a:lnTo>
                <a:lnTo>
                  <a:pt x="17537" y="15007"/>
                </a:lnTo>
                <a:lnTo>
                  <a:pt x="17587" y="15007"/>
                </a:lnTo>
                <a:lnTo>
                  <a:pt x="17611" y="15007"/>
                </a:lnTo>
                <a:lnTo>
                  <a:pt x="17636" y="15032"/>
                </a:lnTo>
                <a:lnTo>
                  <a:pt x="17661" y="15032"/>
                </a:lnTo>
                <a:lnTo>
                  <a:pt x="17661" y="15032"/>
                </a:lnTo>
                <a:lnTo>
                  <a:pt x="17636" y="15032"/>
                </a:lnTo>
                <a:lnTo>
                  <a:pt x="17636" y="15032"/>
                </a:lnTo>
                <a:lnTo>
                  <a:pt x="17611" y="15032"/>
                </a:lnTo>
                <a:lnTo>
                  <a:pt x="17611" y="15032"/>
                </a:lnTo>
                <a:lnTo>
                  <a:pt x="17587" y="15056"/>
                </a:lnTo>
                <a:lnTo>
                  <a:pt x="17587" y="15056"/>
                </a:lnTo>
                <a:lnTo>
                  <a:pt x="17537" y="15056"/>
                </a:lnTo>
                <a:lnTo>
                  <a:pt x="17537" y="15056"/>
                </a:lnTo>
                <a:lnTo>
                  <a:pt x="17537" y="15081"/>
                </a:lnTo>
                <a:lnTo>
                  <a:pt x="17537" y="15081"/>
                </a:lnTo>
                <a:lnTo>
                  <a:pt x="17562" y="15081"/>
                </a:lnTo>
                <a:lnTo>
                  <a:pt x="17587" y="15081"/>
                </a:lnTo>
                <a:lnTo>
                  <a:pt x="17587" y="15081"/>
                </a:lnTo>
                <a:lnTo>
                  <a:pt x="17611" y="15106"/>
                </a:lnTo>
                <a:lnTo>
                  <a:pt x="17636" y="15106"/>
                </a:lnTo>
                <a:lnTo>
                  <a:pt x="17636" y="15106"/>
                </a:lnTo>
                <a:lnTo>
                  <a:pt x="17636" y="15106"/>
                </a:lnTo>
                <a:lnTo>
                  <a:pt x="17611" y="15106"/>
                </a:lnTo>
                <a:lnTo>
                  <a:pt x="17611" y="15106"/>
                </a:lnTo>
                <a:lnTo>
                  <a:pt x="17587" y="15106"/>
                </a:lnTo>
                <a:lnTo>
                  <a:pt x="17537" y="15106"/>
                </a:lnTo>
                <a:lnTo>
                  <a:pt x="17487" y="15106"/>
                </a:lnTo>
                <a:lnTo>
                  <a:pt x="17462" y="15106"/>
                </a:lnTo>
                <a:lnTo>
                  <a:pt x="17438" y="15106"/>
                </a:lnTo>
                <a:lnTo>
                  <a:pt x="17413" y="15106"/>
                </a:lnTo>
                <a:lnTo>
                  <a:pt x="17413" y="15131"/>
                </a:lnTo>
                <a:lnTo>
                  <a:pt x="17438" y="15131"/>
                </a:lnTo>
                <a:lnTo>
                  <a:pt x="17438" y="15131"/>
                </a:lnTo>
                <a:lnTo>
                  <a:pt x="17462" y="15156"/>
                </a:lnTo>
                <a:lnTo>
                  <a:pt x="17512" y="15180"/>
                </a:lnTo>
                <a:lnTo>
                  <a:pt x="17562" y="15180"/>
                </a:lnTo>
                <a:lnTo>
                  <a:pt x="17587" y="15205"/>
                </a:lnTo>
                <a:lnTo>
                  <a:pt x="17661" y="15230"/>
                </a:lnTo>
                <a:lnTo>
                  <a:pt x="17686" y="15255"/>
                </a:lnTo>
                <a:lnTo>
                  <a:pt x="17711" y="15255"/>
                </a:lnTo>
                <a:lnTo>
                  <a:pt x="17711" y="15255"/>
                </a:lnTo>
                <a:lnTo>
                  <a:pt x="17711" y="15280"/>
                </a:lnTo>
                <a:lnTo>
                  <a:pt x="17686" y="15280"/>
                </a:lnTo>
                <a:lnTo>
                  <a:pt x="17661" y="15280"/>
                </a:lnTo>
                <a:lnTo>
                  <a:pt x="17661" y="15280"/>
                </a:lnTo>
                <a:lnTo>
                  <a:pt x="17636" y="15280"/>
                </a:lnTo>
                <a:lnTo>
                  <a:pt x="17587" y="15280"/>
                </a:lnTo>
                <a:lnTo>
                  <a:pt x="17587" y="15280"/>
                </a:lnTo>
                <a:lnTo>
                  <a:pt x="17562" y="15280"/>
                </a:lnTo>
                <a:lnTo>
                  <a:pt x="17562" y="15280"/>
                </a:lnTo>
                <a:lnTo>
                  <a:pt x="17587" y="15280"/>
                </a:lnTo>
                <a:lnTo>
                  <a:pt x="17611" y="15304"/>
                </a:lnTo>
                <a:lnTo>
                  <a:pt x="17636" y="15329"/>
                </a:lnTo>
                <a:lnTo>
                  <a:pt x="17686" y="15329"/>
                </a:lnTo>
                <a:lnTo>
                  <a:pt x="17711" y="15354"/>
                </a:lnTo>
                <a:lnTo>
                  <a:pt x="17760" y="15354"/>
                </a:lnTo>
                <a:lnTo>
                  <a:pt x="17810" y="15379"/>
                </a:lnTo>
                <a:lnTo>
                  <a:pt x="17835" y="15379"/>
                </a:lnTo>
                <a:lnTo>
                  <a:pt x="17859" y="15404"/>
                </a:lnTo>
                <a:lnTo>
                  <a:pt x="17884" y="15429"/>
                </a:lnTo>
                <a:lnTo>
                  <a:pt x="17909" y="15429"/>
                </a:lnTo>
                <a:lnTo>
                  <a:pt x="17909" y="15429"/>
                </a:lnTo>
                <a:lnTo>
                  <a:pt x="17884" y="15429"/>
                </a:lnTo>
                <a:lnTo>
                  <a:pt x="17859" y="15429"/>
                </a:lnTo>
                <a:lnTo>
                  <a:pt x="17859" y="15429"/>
                </a:lnTo>
                <a:lnTo>
                  <a:pt x="17835" y="15453"/>
                </a:lnTo>
                <a:lnTo>
                  <a:pt x="17835" y="15453"/>
                </a:lnTo>
                <a:lnTo>
                  <a:pt x="17810" y="15453"/>
                </a:lnTo>
                <a:lnTo>
                  <a:pt x="17810" y="15453"/>
                </a:lnTo>
                <a:lnTo>
                  <a:pt x="17785" y="15453"/>
                </a:lnTo>
                <a:lnTo>
                  <a:pt x="17785" y="15453"/>
                </a:lnTo>
                <a:lnTo>
                  <a:pt x="17760" y="15453"/>
                </a:lnTo>
                <a:lnTo>
                  <a:pt x="17785" y="15453"/>
                </a:lnTo>
                <a:lnTo>
                  <a:pt x="17810" y="15478"/>
                </a:lnTo>
                <a:lnTo>
                  <a:pt x="17835" y="15478"/>
                </a:lnTo>
                <a:lnTo>
                  <a:pt x="17835" y="15478"/>
                </a:lnTo>
                <a:lnTo>
                  <a:pt x="17884" y="15478"/>
                </a:lnTo>
                <a:lnTo>
                  <a:pt x="17884" y="15503"/>
                </a:lnTo>
                <a:lnTo>
                  <a:pt x="17884" y="15528"/>
                </a:lnTo>
                <a:lnTo>
                  <a:pt x="17884" y="15528"/>
                </a:lnTo>
                <a:lnTo>
                  <a:pt x="17835" y="15528"/>
                </a:lnTo>
                <a:lnTo>
                  <a:pt x="17810" y="15528"/>
                </a:lnTo>
                <a:lnTo>
                  <a:pt x="17760" y="15528"/>
                </a:lnTo>
                <a:lnTo>
                  <a:pt x="17711" y="15528"/>
                </a:lnTo>
                <a:lnTo>
                  <a:pt x="17686" y="15528"/>
                </a:lnTo>
                <a:lnTo>
                  <a:pt x="17636" y="15528"/>
                </a:lnTo>
                <a:lnTo>
                  <a:pt x="17636" y="15528"/>
                </a:lnTo>
                <a:lnTo>
                  <a:pt x="17611" y="15528"/>
                </a:lnTo>
                <a:lnTo>
                  <a:pt x="17611" y="15528"/>
                </a:lnTo>
                <a:lnTo>
                  <a:pt x="17611" y="15553"/>
                </a:lnTo>
                <a:lnTo>
                  <a:pt x="17636" y="15553"/>
                </a:lnTo>
                <a:lnTo>
                  <a:pt x="17636" y="15553"/>
                </a:lnTo>
                <a:lnTo>
                  <a:pt x="17686" y="15577"/>
                </a:lnTo>
                <a:lnTo>
                  <a:pt x="17711" y="15577"/>
                </a:lnTo>
                <a:lnTo>
                  <a:pt x="17735" y="15602"/>
                </a:lnTo>
                <a:lnTo>
                  <a:pt x="17760" y="15602"/>
                </a:lnTo>
                <a:lnTo>
                  <a:pt x="17785" y="15602"/>
                </a:lnTo>
                <a:lnTo>
                  <a:pt x="17785" y="15602"/>
                </a:lnTo>
                <a:lnTo>
                  <a:pt x="17810" y="15627"/>
                </a:lnTo>
                <a:lnTo>
                  <a:pt x="17810" y="15627"/>
                </a:lnTo>
                <a:lnTo>
                  <a:pt x="17810" y="15652"/>
                </a:lnTo>
                <a:lnTo>
                  <a:pt x="17835" y="15652"/>
                </a:lnTo>
                <a:lnTo>
                  <a:pt x="17859" y="15652"/>
                </a:lnTo>
                <a:lnTo>
                  <a:pt x="17859" y="15652"/>
                </a:lnTo>
                <a:lnTo>
                  <a:pt x="17884" y="15652"/>
                </a:lnTo>
                <a:lnTo>
                  <a:pt x="17909" y="15652"/>
                </a:lnTo>
                <a:lnTo>
                  <a:pt x="17909" y="15652"/>
                </a:lnTo>
                <a:lnTo>
                  <a:pt x="17909" y="15677"/>
                </a:lnTo>
                <a:lnTo>
                  <a:pt x="17909" y="15701"/>
                </a:lnTo>
                <a:lnTo>
                  <a:pt x="17909" y="15701"/>
                </a:lnTo>
                <a:lnTo>
                  <a:pt x="17909" y="15701"/>
                </a:lnTo>
                <a:lnTo>
                  <a:pt x="17909" y="15726"/>
                </a:lnTo>
                <a:lnTo>
                  <a:pt x="17884" y="15726"/>
                </a:lnTo>
                <a:lnTo>
                  <a:pt x="17884" y="15726"/>
                </a:lnTo>
                <a:lnTo>
                  <a:pt x="17884" y="15751"/>
                </a:lnTo>
                <a:lnTo>
                  <a:pt x="17859" y="15751"/>
                </a:lnTo>
                <a:lnTo>
                  <a:pt x="17859" y="15751"/>
                </a:lnTo>
                <a:lnTo>
                  <a:pt x="17859" y="15751"/>
                </a:lnTo>
                <a:lnTo>
                  <a:pt x="17859" y="15776"/>
                </a:lnTo>
                <a:lnTo>
                  <a:pt x="17859" y="15776"/>
                </a:lnTo>
                <a:lnTo>
                  <a:pt x="17884" y="15776"/>
                </a:lnTo>
                <a:lnTo>
                  <a:pt x="17909" y="15776"/>
                </a:lnTo>
                <a:lnTo>
                  <a:pt x="17909" y="15776"/>
                </a:lnTo>
                <a:lnTo>
                  <a:pt x="17934" y="15776"/>
                </a:lnTo>
                <a:lnTo>
                  <a:pt x="17934" y="15776"/>
                </a:lnTo>
                <a:lnTo>
                  <a:pt x="17959" y="15776"/>
                </a:lnTo>
                <a:lnTo>
                  <a:pt x="17959" y="15776"/>
                </a:lnTo>
                <a:lnTo>
                  <a:pt x="17983" y="15776"/>
                </a:lnTo>
                <a:lnTo>
                  <a:pt x="17959" y="15776"/>
                </a:lnTo>
                <a:lnTo>
                  <a:pt x="17959" y="15776"/>
                </a:lnTo>
                <a:lnTo>
                  <a:pt x="17934" y="15776"/>
                </a:lnTo>
                <a:lnTo>
                  <a:pt x="17934" y="15776"/>
                </a:lnTo>
                <a:lnTo>
                  <a:pt x="17909" y="15776"/>
                </a:lnTo>
                <a:lnTo>
                  <a:pt x="17909" y="15776"/>
                </a:lnTo>
                <a:lnTo>
                  <a:pt x="17884" y="15776"/>
                </a:lnTo>
                <a:lnTo>
                  <a:pt x="17859" y="15751"/>
                </a:lnTo>
                <a:lnTo>
                  <a:pt x="17859" y="15751"/>
                </a:lnTo>
                <a:lnTo>
                  <a:pt x="17859" y="15751"/>
                </a:lnTo>
                <a:lnTo>
                  <a:pt x="17835" y="15751"/>
                </a:lnTo>
                <a:lnTo>
                  <a:pt x="17835" y="15726"/>
                </a:lnTo>
                <a:lnTo>
                  <a:pt x="17835" y="15726"/>
                </a:lnTo>
                <a:lnTo>
                  <a:pt x="17835" y="15726"/>
                </a:lnTo>
                <a:lnTo>
                  <a:pt x="17810" y="15726"/>
                </a:lnTo>
                <a:lnTo>
                  <a:pt x="17810" y="15701"/>
                </a:lnTo>
                <a:lnTo>
                  <a:pt x="17810" y="15701"/>
                </a:lnTo>
                <a:lnTo>
                  <a:pt x="17810" y="15677"/>
                </a:lnTo>
                <a:lnTo>
                  <a:pt x="17785" y="15677"/>
                </a:lnTo>
                <a:lnTo>
                  <a:pt x="17785" y="15652"/>
                </a:lnTo>
                <a:lnTo>
                  <a:pt x="17785" y="15652"/>
                </a:lnTo>
                <a:lnTo>
                  <a:pt x="17760" y="15652"/>
                </a:lnTo>
                <a:lnTo>
                  <a:pt x="17760" y="15627"/>
                </a:lnTo>
                <a:lnTo>
                  <a:pt x="17760" y="15627"/>
                </a:lnTo>
                <a:lnTo>
                  <a:pt x="17760" y="15627"/>
                </a:lnTo>
                <a:lnTo>
                  <a:pt x="17735" y="15602"/>
                </a:lnTo>
                <a:lnTo>
                  <a:pt x="17735" y="15602"/>
                </a:lnTo>
                <a:lnTo>
                  <a:pt x="17735" y="15602"/>
                </a:lnTo>
                <a:lnTo>
                  <a:pt x="17735" y="15577"/>
                </a:lnTo>
                <a:lnTo>
                  <a:pt x="17711" y="15553"/>
                </a:lnTo>
                <a:lnTo>
                  <a:pt x="17711" y="15553"/>
                </a:lnTo>
                <a:lnTo>
                  <a:pt x="17711" y="15528"/>
                </a:lnTo>
                <a:lnTo>
                  <a:pt x="17711" y="15528"/>
                </a:lnTo>
                <a:lnTo>
                  <a:pt x="17711" y="15503"/>
                </a:lnTo>
                <a:lnTo>
                  <a:pt x="17686" y="15503"/>
                </a:lnTo>
                <a:lnTo>
                  <a:pt x="17686" y="15503"/>
                </a:lnTo>
                <a:lnTo>
                  <a:pt x="17686" y="15478"/>
                </a:lnTo>
                <a:lnTo>
                  <a:pt x="17661" y="15478"/>
                </a:lnTo>
                <a:lnTo>
                  <a:pt x="17661" y="15453"/>
                </a:lnTo>
                <a:lnTo>
                  <a:pt x="17661" y="15453"/>
                </a:lnTo>
                <a:lnTo>
                  <a:pt x="17661" y="15429"/>
                </a:lnTo>
                <a:lnTo>
                  <a:pt x="17636" y="15429"/>
                </a:lnTo>
                <a:lnTo>
                  <a:pt x="17636" y="15429"/>
                </a:lnTo>
                <a:lnTo>
                  <a:pt x="17636" y="15404"/>
                </a:lnTo>
                <a:lnTo>
                  <a:pt x="17636" y="15404"/>
                </a:lnTo>
                <a:lnTo>
                  <a:pt x="17636" y="15404"/>
                </a:lnTo>
                <a:lnTo>
                  <a:pt x="17636" y="15379"/>
                </a:lnTo>
                <a:lnTo>
                  <a:pt x="17636" y="15354"/>
                </a:lnTo>
                <a:lnTo>
                  <a:pt x="17636" y="15354"/>
                </a:lnTo>
                <a:lnTo>
                  <a:pt x="17611" y="15329"/>
                </a:lnTo>
                <a:lnTo>
                  <a:pt x="17611" y="15329"/>
                </a:lnTo>
                <a:lnTo>
                  <a:pt x="17611" y="15304"/>
                </a:lnTo>
                <a:lnTo>
                  <a:pt x="17587" y="15304"/>
                </a:lnTo>
                <a:lnTo>
                  <a:pt x="17587" y="15280"/>
                </a:lnTo>
                <a:lnTo>
                  <a:pt x="17587" y="15280"/>
                </a:lnTo>
                <a:lnTo>
                  <a:pt x="17562" y="15280"/>
                </a:lnTo>
                <a:lnTo>
                  <a:pt x="17562" y="15255"/>
                </a:lnTo>
                <a:lnTo>
                  <a:pt x="17562" y="15255"/>
                </a:lnTo>
                <a:lnTo>
                  <a:pt x="17562" y="15230"/>
                </a:lnTo>
                <a:lnTo>
                  <a:pt x="17537" y="15230"/>
                </a:lnTo>
                <a:lnTo>
                  <a:pt x="17537" y="15230"/>
                </a:lnTo>
                <a:lnTo>
                  <a:pt x="17537" y="15230"/>
                </a:lnTo>
                <a:lnTo>
                  <a:pt x="17537" y="15205"/>
                </a:lnTo>
                <a:lnTo>
                  <a:pt x="17512" y="15205"/>
                </a:lnTo>
                <a:lnTo>
                  <a:pt x="17512" y="15205"/>
                </a:lnTo>
                <a:lnTo>
                  <a:pt x="17512" y="15180"/>
                </a:lnTo>
                <a:lnTo>
                  <a:pt x="17512" y="15180"/>
                </a:lnTo>
                <a:lnTo>
                  <a:pt x="17487" y="15180"/>
                </a:lnTo>
                <a:lnTo>
                  <a:pt x="17487" y="15156"/>
                </a:lnTo>
                <a:lnTo>
                  <a:pt x="17462" y="15131"/>
                </a:lnTo>
                <a:lnTo>
                  <a:pt x="17462" y="15106"/>
                </a:lnTo>
                <a:lnTo>
                  <a:pt x="17462" y="15106"/>
                </a:lnTo>
                <a:lnTo>
                  <a:pt x="17438" y="15106"/>
                </a:lnTo>
                <a:lnTo>
                  <a:pt x="17438" y="15081"/>
                </a:lnTo>
                <a:lnTo>
                  <a:pt x="17438" y="15056"/>
                </a:lnTo>
                <a:lnTo>
                  <a:pt x="17438" y="15056"/>
                </a:lnTo>
                <a:lnTo>
                  <a:pt x="17413" y="15032"/>
                </a:lnTo>
                <a:lnTo>
                  <a:pt x="17413" y="15032"/>
                </a:lnTo>
                <a:lnTo>
                  <a:pt x="17413" y="15007"/>
                </a:lnTo>
                <a:lnTo>
                  <a:pt x="17413" y="15007"/>
                </a:lnTo>
                <a:lnTo>
                  <a:pt x="17413" y="14982"/>
                </a:lnTo>
                <a:lnTo>
                  <a:pt x="17388" y="14957"/>
                </a:lnTo>
                <a:lnTo>
                  <a:pt x="17388" y="14957"/>
                </a:lnTo>
                <a:lnTo>
                  <a:pt x="17388" y="14932"/>
                </a:lnTo>
                <a:lnTo>
                  <a:pt x="17388" y="14932"/>
                </a:lnTo>
                <a:lnTo>
                  <a:pt x="17388" y="14932"/>
                </a:lnTo>
                <a:lnTo>
                  <a:pt x="17363" y="14908"/>
                </a:lnTo>
                <a:lnTo>
                  <a:pt x="17363" y="14908"/>
                </a:lnTo>
                <a:lnTo>
                  <a:pt x="17363" y="14883"/>
                </a:lnTo>
                <a:lnTo>
                  <a:pt x="17363" y="14883"/>
                </a:lnTo>
                <a:lnTo>
                  <a:pt x="17338" y="14858"/>
                </a:lnTo>
                <a:lnTo>
                  <a:pt x="17338" y="14833"/>
                </a:lnTo>
                <a:lnTo>
                  <a:pt x="17338" y="14833"/>
                </a:lnTo>
                <a:lnTo>
                  <a:pt x="17338" y="14833"/>
                </a:lnTo>
              </a:path>
              <a:path w="1242" h="1688">
                <a:moveTo>
                  <a:pt x="18256" y="16123"/>
                </a:moveTo>
                <a:cubicBezTo>
                  <a:pt x="18200" y="16123"/>
                  <a:pt x="18223" y="16103"/>
                  <a:pt x="18182" y="16098"/>
                </a:cubicBezTo>
                <a:cubicBezTo>
                  <a:pt x="18158" y="16095"/>
                  <a:pt x="18131" y="16098"/>
                  <a:pt x="18107" y="16098"/>
                </a:cubicBezTo>
                <a:cubicBezTo>
                  <a:pt x="18180" y="16098"/>
                  <a:pt x="18138" y="16116"/>
                  <a:pt x="18107" y="16098"/>
                </a:cubicBezTo>
                <a:cubicBezTo>
                  <a:pt x="18055" y="16068"/>
                  <a:pt x="18139" y="16075"/>
                  <a:pt x="18058" y="16049"/>
                </a:cubicBezTo>
                <a:cubicBezTo>
                  <a:pt x="18033" y="16049"/>
                  <a:pt x="18025" y="16049"/>
                  <a:pt x="18008" y="16049"/>
                </a:cubicBezTo>
                <a:cubicBezTo>
                  <a:pt x="18021" y="16009"/>
                  <a:pt x="18120" y="16018"/>
                  <a:pt x="18083" y="15999"/>
                </a:cubicBezTo>
                <a:cubicBezTo>
                  <a:pt x="18068" y="15992"/>
                  <a:pt x="18025" y="15999"/>
                  <a:pt x="18008" y="15999"/>
                </a:cubicBezTo>
                <a:cubicBezTo>
                  <a:pt x="18032" y="16005"/>
                  <a:pt x="18086" y="16012"/>
                  <a:pt x="18107" y="16024"/>
                </a:cubicBezTo>
                <a:cubicBezTo>
                  <a:pt x="18149" y="16047"/>
                  <a:pt x="18180" y="16079"/>
                  <a:pt x="18207" y="16098"/>
                </a:cubicBezTo>
                <a:cubicBezTo>
                  <a:pt x="18234" y="16117"/>
                  <a:pt x="18251" y="16108"/>
                  <a:pt x="18281" y="16123"/>
                </a:cubicBezTo>
                <a:cubicBezTo>
                  <a:pt x="18314" y="16140"/>
                  <a:pt x="18295" y="16136"/>
                  <a:pt x="18331" y="1614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03280" y="2492280"/>
            <a:ext cx="13399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Hol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  <p:sp>
        <p:nvSpPr>
          <p:cNvPr id="74" name=""/>
          <p:cNvSpPr txBox="1"/>
          <p:nvPr/>
        </p:nvSpPr>
        <p:spPr>
          <a:xfrm rot="1074000">
            <a:off x="5855760" y="5300640"/>
            <a:ext cx="216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sto MT"/>
              </a:rPr>
              <a:t>Österre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sto MT"/>
              <a:ea typeface="Calisto M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5445000"/>
            <a:ext cx="287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4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4360" y="5300280"/>
            <a:ext cx="216036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24000" y="5877000"/>
            <a:ext cx="1555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sto MT"/>
              </a:rPr>
              <a:t>die Schwe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sto MT"/>
              <a:ea typeface="Calisto M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47640" y="4869000"/>
            <a:ext cx="133992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Frankrei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  <p:sp>
        <p:nvSpPr>
          <p:cNvPr id="79" name=""/>
          <p:cNvSpPr txBox="1"/>
          <p:nvPr/>
        </p:nvSpPr>
        <p:spPr>
          <a:xfrm rot="2301600">
            <a:off x="333360" y="3134880"/>
            <a:ext cx="1555920" cy="9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sto MT"/>
              </a:rPr>
              <a:t>Belgi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sto MT"/>
              <a:ea typeface="Calisto MT"/>
            </a:endParaRPr>
          </a:p>
        </p:txBody>
      </p:sp>
      <p:sp>
        <p:nvSpPr>
          <p:cNvPr id="80" name=""/>
          <p:cNvSpPr txBox="1"/>
          <p:nvPr/>
        </p:nvSpPr>
        <p:spPr>
          <a:xfrm rot="474000">
            <a:off x="568080" y="4149720"/>
            <a:ext cx="1699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sto MT"/>
              </a:rPr>
              <a:t>Luxembur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sto MT"/>
              <a:ea typeface="Calisto M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72080" y="2205000"/>
            <a:ext cx="1555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sto MT"/>
              </a:rPr>
              <a:t>Pol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sto MT"/>
              <a:ea typeface="Calisto MT"/>
            </a:endParaRPr>
          </a:p>
        </p:txBody>
      </p:sp>
      <p:sp>
        <p:nvSpPr>
          <p:cNvPr id="82" name=""/>
          <p:cNvSpPr txBox="1"/>
          <p:nvPr/>
        </p:nvSpPr>
        <p:spPr>
          <a:xfrm rot="966000">
            <a:off x="6200280" y="3502080"/>
            <a:ext cx="2390760" cy="18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Unicode MS"/>
              </a:rPr>
              <a:t>die Tschechisc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Unicode MS"/>
              </a:rPr>
              <a:t>Republi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Unicode MS"/>
              <a:ea typeface="Arial Unicode MS"/>
            </a:endParaRPr>
          </a:p>
        </p:txBody>
      </p:sp>
      <p:sp>
        <p:nvSpPr>
          <p:cNvPr id="83" name=""/>
          <p:cNvSpPr/>
          <p:nvPr/>
        </p:nvSpPr>
        <p:spPr>
          <a:xfrm>
            <a:off x="8028000" y="63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649116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©MFL Sunderland 2007 ELA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 rot="21391200">
            <a:off x="262080" y="232920"/>
            <a:ext cx="5113080" cy="247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Wo wohnst du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52760" y="2828880"/>
            <a:ext cx="58384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This week we will be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Saying where we live in more deta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619280" y="4389480"/>
            <a:ext cx="612144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Giving and recognising Germ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addresses and telephone numb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33544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4289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68360" y="1268280"/>
            <a:ext cx="8207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Schwarzwälderkirschtort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98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50920" y="333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 he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en die Deutschen 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ädte 1-1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24360" y="1484280"/>
            <a:ext cx="288720" cy="2872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060640"/>
            <a:ext cx="431640" cy="3603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522936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4000" y="451008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213000"/>
            <a:ext cx="21564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85264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5280" y="393372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5280" y="1700280"/>
            <a:ext cx="14472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3284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2276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1413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2565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3357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40360" y="155736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2997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528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4292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4365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3716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4292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84360" y="1773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55280" y="292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26560" y="33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55640" y="4076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84000" y="465300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3440" y="1197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18921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7640" y="299736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7440" y="400536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9080" y="5013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14778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42920" y="26305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ö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3068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ankf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43578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idel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3640" y="12621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88000" y="19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964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res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54560" y="4076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ür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5084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ün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271600" y="2227320"/>
            <a:ext cx="46008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159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9606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308320" y="1795320"/>
            <a:ext cx="452592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268360" y="2011320"/>
            <a:ext cx="39592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Alsterrundfahrt Hamburg"/>
          <p:cNvPicPr/>
          <p:nvPr/>
        </p:nvPicPr>
        <p:blipFill>
          <a:blip r:embed="rId2"/>
          <a:stretch/>
        </p:blipFill>
        <p:spPr>
          <a:xfrm>
            <a:off x="2556000" y="2276640"/>
            <a:ext cx="381636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1438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71640" y="1700280"/>
          <a:ext cx="2811240" cy="4556160"/>
        </p:xfrm>
        <a:graphic>
          <a:graphicData uri="http://schemas.openxmlformats.org/drawingml/2006/table">
            <a:tbl>
              <a:tblPr/>
              <a:tblGrid>
                <a:gridCol w="2811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r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o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Frankfu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Hambu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</a:rPr>
                        <a:t>Mün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erl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Dres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Nürnbe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Heidelbe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68360" y="692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empus Sans ITC"/>
              </a:rPr>
              <a:t>Kannst du die deutschen St</a:t>
            </a:r>
            <a:r>
              <a:rPr b="0" lang="en-US" sz="2800" spc="-1" strike="noStrike">
                <a:solidFill>
                  <a:srgbClr val="333399"/>
                </a:solidFill>
                <a:latin typeface="Tempus Sans ITC"/>
                <a:ea typeface="Arial"/>
              </a:rPr>
              <a:t>ädte alphabetisch ord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00720" y="1700280"/>
          <a:ext cx="2808000" cy="4556160"/>
        </p:xfrm>
        <a:graphic>
          <a:graphicData uri="http://schemas.openxmlformats.org/drawingml/2006/table">
            <a:tbl>
              <a:tblPr/>
              <a:tblGrid>
                <a:gridCol w="280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erl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o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Br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Dres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Frankfu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Hambu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Heidelbe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Mün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empus Sans ITC"/>
                          <a:ea typeface="Times New Roman"/>
                        </a:rPr>
                        <a:t>Nürnbe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83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ch wohne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403280" y="1749600"/>
            <a:ext cx="626436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68360" y="549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ch woh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934920" cy="6177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936720" cy="6526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95280" y="2924280"/>
            <a:ext cx="936720" cy="625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95280" y="3860640"/>
            <a:ext cx="936720" cy="625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936720" cy="6256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Alsterrundfahrt Hamburg"/>
          <p:cNvPicPr/>
          <p:nvPr/>
        </p:nvPicPr>
        <p:blipFill>
          <a:blip r:embed="rId6"/>
          <a:stretch/>
        </p:blipFill>
        <p:spPr>
          <a:xfrm>
            <a:off x="5219640" y="1268280"/>
            <a:ext cx="1008000" cy="671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5148360" y="2060640"/>
            <a:ext cx="1166760" cy="4921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5219640" y="3068640"/>
            <a:ext cx="1008000" cy="6681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19280" y="134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uf dem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19280" y="2349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r St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19280" y="306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r Wo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19280" y="393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m 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465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m 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16720" y="134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16720" y="213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K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ö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16720" y="32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n der K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ü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8360" y="549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Ich woh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934920" cy="617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936720" cy="652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395280" y="2924280"/>
            <a:ext cx="936720" cy="625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95280" y="3860640"/>
            <a:ext cx="936720" cy="625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936720" cy="625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Alsterrundfahrt Hamburg"/>
          <p:cNvPicPr/>
          <p:nvPr/>
        </p:nvPicPr>
        <p:blipFill>
          <a:blip r:embed="rId6"/>
          <a:stretch/>
        </p:blipFill>
        <p:spPr>
          <a:xfrm>
            <a:off x="5219640" y="1197000"/>
            <a:ext cx="1008000" cy="6714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5148360" y="2060640"/>
            <a:ext cx="1166760" cy="4921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5219640" y="3068640"/>
            <a:ext cx="1008000" cy="668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19280" y="134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uf dem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19280" y="2349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r St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306864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r Wo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19280" y="393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m 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9280" y="465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einem 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16720" y="134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16720" y="213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 K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ö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16720" y="32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n der K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ü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1989000"/>
            <a:ext cx="43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3716280"/>
            <a:ext cx="43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98100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78136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as sagen diese Kin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79280" y="1197000"/>
            <a:ext cx="1526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1125360"/>
            <a:ext cx="2880000" cy="1079640"/>
          </a:xfrm>
          <a:prstGeom prst="wedgeRoundRectCallout">
            <a:avLst>
              <a:gd name="adj1" fmla="val -58101"/>
              <a:gd name="adj2" fmla="val 64999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35280" y="1628640"/>
            <a:ext cx="792360" cy="287640"/>
          </a:xfrm>
          <a:prstGeom prst="rightArrow">
            <a:avLst>
              <a:gd name="adj1" fmla="val 50000"/>
              <a:gd name="adj2" fmla="val 688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141300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wohne an der 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üste in einem 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50920" y="2781360"/>
            <a:ext cx="152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2637000"/>
            <a:ext cx="2592360" cy="936360"/>
          </a:xfrm>
          <a:prstGeom prst="wedgeRoundRectCallout">
            <a:avLst>
              <a:gd name="adj1" fmla="val -49203"/>
              <a:gd name="adj2" fmla="val 69828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43000" y="4113360"/>
            <a:ext cx="152280" cy="46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4005360"/>
            <a:ext cx="2592360" cy="936360"/>
          </a:xfrm>
          <a:prstGeom prst="wedgeRoundRectCallout">
            <a:avLst>
              <a:gd name="adj1" fmla="val -49203"/>
              <a:gd name="adj2" fmla="val 69828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1166760" cy="492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2195640" y="4076640"/>
            <a:ext cx="936360" cy="696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324000" y="5589720"/>
            <a:ext cx="152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5373720"/>
            <a:ext cx="2592360" cy="936720"/>
          </a:xfrm>
          <a:prstGeom prst="wedgeRoundRectCallout">
            <a:avLst>
              <a:gd name="adj1" fmla="val -49203"/>
              <a:gd name="adj2" fmla="val 69828"/>
              <a:gd name="adj3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35280" y="292428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35280" y="4221000"/>
            <a:ext cx="792360" cy="287640"/>
          </a:xfrm>
          <a:prstGeom prst="rightArrow">
            <a:avLst>
              <a:gd name="adj1" fmla="val 50000"/>
              <a:gd name="adj2" fmla="val 688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64000" y="566100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278136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wohne in einem Dorf in einer Wo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418464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wohne in 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öln in einem 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544500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wohne auf dem Land an der 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ü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684360" y="1125360"/>
            <a:ext cx="1728720" cy="1008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8"/>
          <a:stretch/>
        </p:blipFill>
        <p:spPr>
          <a:xfrm>
            <a:off x="2124000" y="1125360"/>
            <a:ext cx="1150920" cy="10558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755640" y="2637000"/>
            <a:ext cx="1255680" cy="906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0"/>
          <a:stretch/>
        </p:blipFill>
        <p:spPr>
          <a:xfrm>
            <a:off x="1979640" y="2637000"/>
            <a:ext cx="1152360" cy="930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1"/>
          <a:stretch/>
        </p:blipFill>
        <p:spPr>
          <a:xfrm>
            <a:off x="826920" y="5445000"/>
            <a:ext cx="1508400" cy="787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2"/>
          <a:stretch/>
        </p:blipFill>
        <p:spPr>
          <a:xfrm>
            <a:off x="2050920" y="5516640"/>
            <a:ext cx="100836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808360" cy="2376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11600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o wohnst 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1628640"/>
            <a:ext cx="4681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ch wohne in einer kleinen Stadt auf dem Land. Die Stadt ist in Sudostdeutsch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ch wohne in einem Haus. Es ist alt und toll. Ich liebe mein Ha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89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50920" y="333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 he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en die Deutschen 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ädte 1-1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1484280"/>
            <a:ext cx="288720" cy="2872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2060640"/>
            <a:ext cx="431640" cy="3603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522936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451008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3213000"/>
            <a:ext cx="21564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285264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393372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1700280"/>
            <a:ext cx="14472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3284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2276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7080" y="14778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2630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3357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155736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3068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528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4292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4365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3789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7080" y="4365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84360" y="1773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55280" y="292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26560" y="33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55640" y="4076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84000" y="465300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126216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1982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3068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4076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50785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13874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254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ö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997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71628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ankf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idel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1171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1916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2997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res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4560" y="3979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ür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ün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 rot="394800">
            <a:off x="323640" y="-243000"/>
            <a:ext cx="43099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Wo wohnst du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3640" y="404640"/>
            <a:ext cx="360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Your Homework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484280"/>
            <a:ext cx="8136000" cy="52599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out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3 pieces of information for 3 of the town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we have looked at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m in your books, under the titl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“German Towns Investigated”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se the Internet, Encyclopaedias, travel guides, and other reference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You have a lot of books in the library to use if you do not have the internet at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You have a week to complete the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38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995640" y="299736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2060640"/>
            <a:ext cx="217440" cy="936720"/>
          </a:xfrm>
          <a:prstGeom prst="upArrow">
            <a:avLst>
              <a:gd name="adj1" fmla="val 50000"/>
              <a:gd name="adj2" fmla="val 107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987640" y="1341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84720" y="134136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47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995640" y="2924280"/>
            <a:ext cx="28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572000" y="2636640"/>
            <a:ext cx="215640" cy="936720"/>
          </a:xfrm>
          <a:prstGeom prst="upArrow">
            <a:avLst>
              <a:gd name="adj1" fmla="val 50000"/>
              <a:gd name="adj2" fmla="val 1085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292720" y="2781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16720" y="278136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56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995640" y="2924280"/>
            <a:ext cx="28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3995280" y="3213000"/>
            <a:ext cx="250920" cy="936720"/>
          </a:xfrm>
          <a:prstGeom prst="upArrow">
            <a:avLst>
              <a:gd name="adj1" fmla="val 50000"/>
              <a:gd name="adj2" fmla="val 933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56000" y="4797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u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479736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65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995640" y="2924280"/>
            <a:ext cx="28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475800" y="2653560"/>
            <a:ext cx="249120" cy="936720"/>
          </a:xfrm>
          <a:prstGeom prst="upArrow">
            <a:avLst>
              <a:gd name="adj1" fmla="val 50000"/>
              <a:gd name="adj2" fmla="val 9400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32000" y="328464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8000" y="328464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174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95640" y="2924280"/>
            <a:ext cx="28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475800" y="2653560"/>
            <a:ext cx="249120" cy="936720"/>
          </a:xfrm>
          <a:prstGeom prst="upArrow">
            <a:avLst>
              <a:gd name="adj1" fmla="val 50000"/>
              <a:gd name="adj2" fmla="val 9400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32000" y="328464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8000" y="328464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2060640"/>
            <a:ext cx="289080" cy="936720"/>
          </a:xfrm>
          <a:prstGeom prst="upArrow">
            <a:avLst>
              <a:gd name="adj1" fmla="val 50000"/>
              <a:gd name="adj2" fmla="val 810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4572720" y="2635920"/>
            <a:ext cx="214200" cy="936720"/>
          </a:xfrm>
          <a:prstGeom prst="upArrow">
            <a:avLst>
              <a:gd name="adj1" fmla="val 50000"/>
              <a:gd name="adj2" fmla="val 1093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3995280" y="3213000"/>
            <a:ext cx="289080" cy="936720"/>
          </a:xfrm>
          <a:prstGeom prst="upArrow">
            <a:avLst>
              <a:gd name="adj1" fmla="val 50000"/>
              <a:gd name="adj2" fmla="val 810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556000" y="4797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u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92720" y="2781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43280" y="11970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067280" y="119700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516720" y="278136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52720" y="479736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utsch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5:03:11Z</dcterms:created>
  <dc:creator>Eleanor Abrahams </dc:creator>
  <dc:description/>
  <dc:language>en-US</dc:language>
  <cp:lastModifiedBy>CSeccombe</cp:lastModifiedBy>
  <dcterms:modified xsi:type="dcterms:W3CDTF">2007-07-11T08:38:20Z</dcterms:modified>
  <cp:revision>36</cp:revision>
  <dc:subject/>
  <dc:title>Slide 1</dc:title>
</cp:coreProperties>
</file>