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D49-2B55-4E57-8B0E-9943DA90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830-5069-4C42-ABDB-3D60F9D5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E74-D1AB-45AA-B50E-664EA141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8B0-C2D4-410A-9E20-FCEF89A1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BEF-00F1-4335-850C-52F09236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634-EDD3-4FF2-A869-A323F2E9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400-CD59-468B-9306-32BA8C4A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140-A13D-46C5-881D-B40BFD8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FD3-8E0A-4C34-91E9-4BF9559D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FB0-F894-4FE0-A58F-1D4E0E2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35B-0F6B-48DB-B434-BB2AB90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4E5-B43E-4320-A90F-E2C2A1F1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56E8-CCB9-487F-A60D-7E77724A56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E-M@ail" TargetMode="External"/><Relationship Id="rId3" Type="http://schemas.openxmlformats.org/officeDocument/2006/relationships/hyperlink" Target="mailto:CarinaArlt@gmx.net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arolina-Burger-Realsch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chule mit He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e Ort unserer Schu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ndenhe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u_mu_karte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5257800" cy="444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2438280"/>
            <a:ext cx="3124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e Straße unserer Schule ist die Karolina-Burger-Straß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e wurde so genannt, weil das St.Anastift auch ihr gehö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!My Family!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ei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 Bruder heißt Chris und ist 20 Jahre alt. Er ist noch in der schule und hängt grad an seinem Ab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e Mum Regina, ist  52 Jahre alt und arbeitet bei meinem Dad in der Firma auf dem Flugplatz in W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 Dad heißt Erwin, ist 53 Jahre alt und arbeitet auf dem Flugplatz in Worms als Flugmechani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e Oma heißt Elisabetha, ist 83 Jahre jung und geht fast jeden 2. Tag in die Stad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!My Family!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i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 Kater heißt Tommy, ist 2 Jahre alt und ist den ganzen Mittag im Bett und abends geht er auf Jag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e Katze heißt Mizie, ist 7 Jahre alt und liegt den ganzen Tag im bett, geht nur raus zum essen und für aufs Klo. Sie ist sehr faul gew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sere Lehr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kollegium_2002_a" descr=""/>
          <p:cNvPicPr/>
          <p:nvPr/>
        </p:nvPicPr>
        <p:blipFill>
          <a:blip r:embed="rId1"/>
          <a:stretch/>
        </p:blipFill>
        <p:spPr>
          <a:xfrm>
            <a:off x="685800" y="1249200"/>
            <a:ext cx="7391520" cy="5608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ser Schulleiter Herrn DR. Wag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ist unser Dire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unterrichtet auch selbst wie z.b. Erdkunde, I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wagner1" descr=""/>
          <p:cNvPicPr/>
          <p:nvPr/>
        </p:nvPicPr>
        <p:blipFill>
          <a:blip r:embed="rId1"/>
          <a:stretch/>
        </p:blipFill>
        <p:spPr>
          <a:xfrm>
            <a:off x="746280" y="1981080"/>
            <a:ext cx="36874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olina Bur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boren:    01.09.18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ben: 09.12.19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h ihr wurde die Schule benan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karoline" descr=""/>
          <p:cNvPicPr/>
          <p:nvPr/>
        </p:nvPicPr>
        <p:blipFill>
          <a:blip r:embed="rId1"/>
          <a:stretch/>
        </p:blipFill>
        <p:spPr>
          <a:xfrm>
            <a:off x="1062000" y="1981080"/>
            <a:ext cx="30574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as bin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Name: Carina Ar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Geburtsdatum: 21.03.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Adresse: 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Ludwigstraße 20 67141 Neuho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Hobbys: Formationslauf/Eis-kunstlauf, Kino, Shoppen, Freund/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ld" descr=""/>
          <p:cNvPicPr/>
          <p:nvPr/>
        </p:nvPicPr>
        <p:blipFill>
          <a:blip r:embed="rId1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n virtueller Rundgang durch unserer Sch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Wir fangen im Keller an: Hier befinden sich der Bioraum, ein Bili-Raum, der Werkraum, die Toiletten und Räume der Haupt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rdgeschoss: Hier befinden sich Klassenzimmer, Sekretariat , Hausmeister, Toilette, Aufenthaltsraum, Küche und Kopierra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1. Stock: Hier befinden sich unter anderem Klassenzimmer, Toiletten und ein Raum für die Atlan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 Rundgang Teil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r 2. Stock: Hier befinden sich Klassenzimmer, Toiletten und ein Raum für die Besprechungen mit einem Videosch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r 3. Stock: befinden sich Klassenzim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in Lieblingsfa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Klasse Fach mit ‘nem klasse Lehrer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iel Fun in den zwei Stunden am Freitag morgen.  Klasse Themen z.b. Basketbal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e erreicht man mi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eine Telefonnummer von zuhause: 06236/4157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ein Handynummer: 0171/89195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eine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E-M@ail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 Adresse: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CarinaArlt@gmx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Über ICQ: Hasenpu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sere Wahlpflichtfächer 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iles Gestalten/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ingualer Unterr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sches Zeich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zös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ähen; Perlentiere, Sägen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rdkunde auf Engl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metrie, Dimitri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orie &amp; Pr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thenaturwissensc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öglichkeiten zur Schule zu k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raßenba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Zu Fu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Mein Weg,wie ich zur Schule komme: Meine Mum fährt mich jeden morgen zur 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ller/Motor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s unsere Schule biet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le Wander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fahren in der 6. nach Öster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r 8. nach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r 10. Abschlussfah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ulpartnerscha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S00554_" descr=""/>
          <p:cNvPicPr/>
          <p:nvPr/>
        </p:nvPicPr>
        <p:blipFill>
          <a:blip r:embed="rId2"/>
          <a:stretch/>
        </p:blipFill>
        <p:spPr>
          <a:xfrm>
            <a:off x="4648320" y="23763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09:04:37Z</dcterms:created>
  <dc:creator>49_Schueler12</dc:creator>
  <dc:description/>
  <dc:language>en-US</dc:language>
  <cp:lastModifiedBy>Miss E Abrahams</cp:lastModifiedBy>
  <dcterms:modified xsi:type="dcterms:W3CDTF">2003-12-10T16:46:05Z</dcterms:modified>
  <cp:revision>11</cp:revision>
  <dc:subject/>
  <dc:title>Karolina-Burger-Realschule</dc:title>
</cp:coreProperties>
</file>