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6580-3D47-40AE-BE2C-A7FD214E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C96-40DE-428B-BE64-94F9841C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5AF-AA3D-43AF-8CDC-0B55A149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D4A-73C1-4CEE-9CE0-8FF1CE52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DB2F-82CA-44DE-B8AE-B235A0FE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0BE-B6A9-4E2A-A239-1F76C0EE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44B-6CE4-439E-A79E-E1A3E7C4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9F8-FDAE-4357-B4C0-DE61B6B7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DA0-A4CE-4CDD-B249-E6445C69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11B6-8268-4E33-A09F-52BC46E2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7611-A4D5-4768-A034-7E78EE7D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46C-2AD2-4E05-BBE6-F121895B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AE69-AC86-4F7D-8919-60DB3C958B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E-M@ail" TargetMode="External"/><Relationship Id="rId3" Type="http://schemas.openxmlformats.org/officeDocument/2006/relationships/hyperlink" Target="mailto:CarinaArlt@gmx.net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Karolina-Burger-Realsch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Schule mit Her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e Ort unserer Schu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ndenhe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lu_mu_karte2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5257800" cy="4443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867280" y="2438280"/>
            <a:ext cx="31244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e Straße unserer Schule ist die Karolina-Burger-Straß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e wurde so genannt, weil das St.Anastift auch ihr gehö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!My Family!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eil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ein Bruder heißt Chris und ist 20 Jahre alt. Er ist noch in der schule und hängt grad an seinem Ab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eine Mum Regina, ist  52 Jahre alt und arbeitet bei meinem Dad in der Firma auf dem Flugplatz in W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ein Dad heißt Erwin, ist 53 Jahre alt und arbeitet auf dem Flugplatz in Worms als Flugmechani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eine Oma heißt Elisabetha, ist 83 Jahre jung und geht fast jeden 2. Tag in die Stad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!My Family!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i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ein Kater heißt Tommy, ist 2 Jahre alt und ist den ganzen Mittag im Bett und abends geht er auf Jag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eine Katze heißt Mizie, ist 7 Jahre alt und liegt den ganzen Tag im bett, geht nur raus zum essen und für aufs Klo. Sie ist sehr faul gewo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sere Lehr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kollegium_2002_a" descr=""/>
          <p:cNvPicPr/>
          <p:nvPr/>
        </p:nvPicPr>
        <p:blipFill>
          <a:blip r:embed="rId1"/>
          <a:stretch/>
        </p:blipFill>
        <p:spPr>
          <a:xfrm>
            <a:off x="685800" y="1249200"/>
            <a:ext cx="7391520" cy="5608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ser Schulleiter Herrn DR. Wag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 ist unser Direk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 unterrichtet auch selbst wie z.b. Erdkunde, I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wagner1" descr=""/>
          <p:cNvPicPr/>
          <p:nvPr/>
        </p:nvPicPr>
        <p:blipFill>
          <a:blip r:embed="rId1"/>
          <a:stretch/>
        </p:blipFill>
        <p:spPr>
          <a:xfrm>
            <a:off x="746280" y="1981080"/>
            <a:ext cx="368748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rolina Bur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boren:    01.09.18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ben: 09.12.19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ch ihr wurde die Schule benan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karoline" descr=""/>
          <p:cNvPicPr/>
          <p:nvPr/>
        </p:nvPicPr>
        <p:blipFill>
          <a:blip r:embed="rId1"/>
          <a:stretch/>
        </p:blipFill>
        <p:spPr>
          <a:xfrm>
            <a:off x="1062000" y="1981080"/>
            <a:ext cx="305748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as bin i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omic Sans MS"/>
              </a:rPr>
              <a:t>Name: Carina Ar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omic Sans MS"/>
              </a:rPr>
              <a:t>Geburtsdatum: 21.03.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omic Sans MS"/>
              </a:rPr>
              <a:t>Adresse: 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Comic Sans MS"/>
              </a:rPr>
              <a:t>Ludwigstraße 20 67141 Neuho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omic Sans MS"/>
              </a:rPr>
              <a:t>Hobbys: Formationslauf/Eis-kunstlauf, Kino, Shoppen, Freund/i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ild" descr=""/>
          <p:cNvPicPr/>
          <p:nvPr/>
        </p:nvPicPr>
        <p:blipFill>
          <a:blip r:embed="rId1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in virtueller Rundgang durch unserer Sch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Wir fangen im Keller an: Hier befinden sich der Bioraum, ein Bili-Raum, der Werkraum, die Toiletten und Räume der Hauptsch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as Erdgeschoss: Hier befinden sich Klassenzimmer, Sekretariat , Hausmeister, Toilette, Aufenthaltsraum, Küche und Kopierra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er 1. Stock: Hier befinden sich unter anderem Klassenzimmer, Toiletten und ein Raum für die Atlan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 Rundgang Teil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r 2. Stock: Hier befinden sich Klassenzimmer, Toiletten und ein Raum für die Besprechungen mit einem Videoschr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r 3. Stock: befinden sich Klassenzimm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in Lieblingsfa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S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Klasse Fach mit ‘nem klasse Lehrer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Viel Fun in den zwei Stunden am Freitag morgen.  Klasse Themen z.b. Basketbal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e erreicht man mi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Meine Telefonnummer von zuhause: 06236/4157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Mein Handynummer: 0171/89195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Meine </a:t>
            </a:r>
            <a:r>
              <a:rPr b="0" lang="de-DE" sz="32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E-M@ail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 Adresse: </a:t>
            </a:r>
            <a:r>
              <a:rPr b="0" lang="de-DE" sz="32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CarinaArlt@gmx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Über ICQ: Hasenpup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sere Wahlpflichtfächer 7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iles Gestalten/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ingualer Unterr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sches Zeich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zös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ähen; Perlentiere, Sägen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rdkunde auf Engl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sometrie, Dimitri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heorie &amp; Pr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athenaturwissensc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öglichkeiten zur Schule zu kom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Straßenbah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Zu Fu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Mein Weg,wie ich zur Schule komme: Meine Mum fährt mich jeden morgen zur Sch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ller/Motorr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s unsere Schule biete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le Wander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fahren in der 6. nach Öster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er 8. nach En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er 10. Abschlussfah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ulpartnerschaf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t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BS00554_" descr=""/>
          <p:cNvPicPr/>
          <p:nvPr/>
        </p:nvPicPr>
        <p:blipFill>
          <a:blip r:embed="rId2"/>
          <a:stretch/>
        </p:blipFill>
        <p:spPr>
          <a:xfrm>
            <a:off x="4648320" y="2376360"/>
            <a:ext cx="3809880" cy="33242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09:04:37Z</dcterms:created>
  <dc:creator>49_Schueler12</dc:creator>
  <dc:description/>
  <dc:language>en-US</dc:language>
  <cp:lastModifiedBy>Miss E Abrahams</cp:lastModifiedBy>
  <dcterms:modified xsi:type="dcterms:W3CDTF">2003-12-10T16:46:05Z</dcterms:modified>
  <cp:revision>11</cp:revision>
  <dc:subject/>
  <dc:title>Karolina-Burger-Realschule</dc:title>
</cp:coreProperties>
</file>