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7DD-43CB-4150-A40C-45F1CEDA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0B7-DFF8-47AD-8CB0-4DA33D2F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10E-FA3B-4ED7-B8D0-A0A3599C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7BA-6537-46C9-BBD7-6F375C20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84D-8121-4BC2-806E-B8AADA4B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778-15A9-436A-BEE5-697DDCE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54E-1763-4FB5-A0AF-CF6E5D83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569-9170-48B7-B4B5-A356620D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644-A1BA-493D-94F2-253B70A5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FD2-CB92-4E2F-8ECD-1C36B36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7EB-D377-468C-BCC8-F91CE85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1BB-6C15-4949-B1B9-43B7A21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C404-E46C-466E-8475-26D67ACE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</a:rPr>
              <a:t>Today’s The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ie s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ät ist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What time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87640" y="2238480"/>
          <a:ext cx="338472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238480"/>
                    <a:ext cx="33847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59280" y="2060640"/>
          <a:ext cx="324144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060640"/>
                    <a:ext cx="324144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987640" y="2205000"/>
          <a:ext cx="324000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205000"/>
                    <a:ext cx="32400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59280" y="2162160"/>
          <a:ext cx="309528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162160"/>
                    <a:ext cx="309528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59280" y="2205000"/>
          <a:ext cx="295092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205000"/>
                    <a:ext cx="295092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16360" y="2455920"/>
          <a:ext cx="331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455920"/>
                    <a:ext cx="331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89440" y="2133720"/>
          <a:ext cx="309528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30952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56000" y="2205000"/>
          <a:ext cx="4032000" cy="22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205000"/>
                    <a:ext cx="40320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084720" y="981000"/>
            <a:ext cx="2735280" cy="1943280"/>
          </a:xfrm>
          <a:prstGeom prst="wedgeEllipseCallout">
            <a:avLst>
              <a:gd name="adj1" fmla="val 25509"/>
              <a:gd name="adj2" fmla="val 81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 is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eunzeh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Uh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84360" y="2463840"/>
          <a:ext cx="46087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63840"/>
                    <a:ext cx="4608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84360" y="465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8: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465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65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65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661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8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5661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557360"/>
            <a:ext cx="42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</a:rPr>
              <a:t>Es ist neun Uhr f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ünfundzwa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Es ist zehn Uhr f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ünf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Eastenders endet um acht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1484280"/>
            <a:ext cx="424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</a:rPr>
              <a:t>Es ist drei Uhr f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ünfundfünf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Die Schule beginnt um acht Uhr </a:t>
            </a:r>
            <a:r>
              <a:rPr b="0" lang="en-GB" sz="2400" spc="-1" strike="noStrike">
                <a:solidFill>
                  <a:srgbClr val="003300"/>
                </a:solidFill>
                <a:latin typeface="Arial Rounded MT Bold"/>
              </a:rPr>
              <a:t>f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ünfunddrei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 Rounded MT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Rounded MT Bold"/>
                <a:ea typeface="Arial"/>
              </a:rPr>
              <a:t>Ich gehe um vier uhr zehn nach H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98560" y="62064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620640"/>
            <a:ext cx="129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155736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1557360"/>
            <a:ext cx="129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1280" y="549360"/>
            <a:ext cx="129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1280" y="1484280"/>
            <a:ext cx="1296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54936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88000" y="148428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314172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314172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407664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8920" y="4076640"/>
            <a:ext cx="12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8000" y="5445000"/>
            <a:ext cx="561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Wir spielen BIN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63640" y="2637000"/>
            <a:ext cx="943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1-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300720" y="2565360"/>
            <a:ext cx="943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21-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067280" y="5084640"/>
            <a:ext cx="9428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41-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34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27664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21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339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27664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321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134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27664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321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1339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227664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321300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404640"/>
            <a:ext cx="7848360" cy="5904000"/>
          </a:xfrm>
          <a:custGeom>
            <a:avLst/>
            <a:gdLst>
              <a:gd name="textAreaLeft" fmla="*/ 1791720 w 7848360"/>
              <a:gd name="textAreaRight" fmla="*/ 6056640 w 784836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57440" y="1413000"/>
            <a:ext cx="43196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: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5: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1: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8: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7: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: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2: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3: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5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6: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7672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06064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549360"/>
            <a:ext cx="0" cy="5545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4365720"/>
            <a:ext cx="6119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1: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: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9079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4: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9: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2: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278136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3: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0: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4: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941720"/>
            <a:ext cx="15843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18: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8915000">
            <a:off x="179280" y="188640"/>
            <a:ext cx="719280" cy="720720"/>
          </a:xfrm>
          <a:prstGeom prst="plus">
            <a:avLst>
              <a:gd name="adj" fmla="val 408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72360" y="189000"/>
            <a:ext cx="647640" cy="647640"/>
          </a:xfrm>
          <a:prstGeom prst="donut">
            <a:avLst>
              <a:gd name="adj" fmla="val 13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1928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: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1268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249228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3718080"/>
            <a:ext cx="1440000" cy="1223640"/>
          </a:xfrm>
          <a:prstGeom prst="hexagon">
            <a:avLst>
              <a:gd name="adj" fmla="val 29420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0360" y="494172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: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80000" y="620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844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3068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0" y="429264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: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61080" y="1268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61080" y="2492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61080" y="371628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1080" y="494172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620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: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1844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: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3068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: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4292640"/>
            <a:ext cx="1440000" cy="1224000"/>
          </a:xfrm>
          <a:prstGeom prst="hexagon">
            <a:avLst>
              <a:gd name="adj" fmla="val 29412"/>
              <a:gd name="vf" fmla="val 115470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: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914400" cy="72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11280" y="692280"/>
            <a:ext cx="7632720" cy="45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Wir spiel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Nummertenn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C 0.02413 -0.0213 0.04844 -0.04236 0.06944 0.00208 C 0.09045 0.04653 0.10955 0.26319 0.12587 0.26667 C 0.14219 0.27014 0.1434 0.03079 0.16788 0.02361 C 0.19236 0.01643 0.23889 0.22245 0.27274 0.22361 C 0.3066 0.22477 0.33976 0.04329 0.37101 0.03009 C 0.40226 0.0169 0.43333 0.15069 0.45972 0.14398 C 0.48611 0.13727 0.50469 0.00278 0.52917 -0.01088 C 0.55365 -0.02454 0.59045 0.06597 0.6066 0.06227 C 0.62274 0.05856 0.60937 -0.02477 0.62587 -0.03241 C 0.64236 -0.04005 0.68871 0.00671 0.70521 0.0169 E">
                                      <p:cBhvr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Eine 5-Minute Mathestu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wei, vier, sechs, acht, _____,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i, sechs, neun, z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lf, ______,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ns, zwei, drei, sechs, ______,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ehn, neunzehn, siebenundzwanzig, vierunddrei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g, ______,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ins, zwei,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nf, vierzehn, __________,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162864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162864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ö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220500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n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220500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781360"/>
            <a:ext cx="11509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ö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59640" y="2781360"/>
            <a:ext cx="23050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erundzwa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3860640"/>
            <a:ext cx="11509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3860640"/>
            <a:ext cx="251928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nfu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4437000"/>
            <a:ext cx="223200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inund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941720"/>
            <a:ext cx="41036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inhundertzweiundzwa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4941720"/>
            <a:ext cx="11509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3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698920" y="2062080"/>
          <a:ext cx="374472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062080"/>
                    <a:ext cx="374472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67280" y="981000"/>
            <a:ext cx="3095640" cy="1584360"/>
          </a:xfrm>
          <a:prstGeom prst="wedgeEllipseCallout">
            <a:avLst>
              <a:gd name="adj1" fmla="val -1078"/>
              <a:gd name="adj2" fmla="val 82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 is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Uh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776680" y="1989000"/>
          <a:ext cx="3450960" cy="33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989000"/>
                    <a:ext cx="3450960" cy="33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87640" y="2374920"/>
          <a:ext cx="331308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374920"/>
                    <a:ext cx="331308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700360" y="2133720"/>
          <a:ext cx="3672000" cy="32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133720"/>
                    <a:ext cx="367200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Wie sp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ät ist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16360" y="2217600"/>
          <a:ext cx="3527280" cy="31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217600"/>
                    <a:ext cx="352728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9:35:28Z</dcterms:created>
  <dc:creator>Eleanor Abrahams </dc:creator>
  <dc:description/>
  <dc:language>en-US</dc:language>
  <cp:lastModifiedBy>CSeccombe</cp:lastModifiedBy>
  <dcterms:modified xsi:type="dcterms:W3CDTF">2007-07-11T13:38:27Z</dcterms:modified>
  <cp:revision>18</cp:revision>
  <dc:subject/>
  <dc:title>Mittwoch den 16ten November</dc:title>
</cp:coreProperties>
</file>