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A66-9E97-4DE5-AABB-94AAD539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E8E-CFD0-405F-9A1D-A1BFC38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492-5DB9-4CEC-AFA6-4C5343A9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698-9EC9-4E7C-B0C8-15F77D25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4B5-CA39-4DC3-AEEF-007D5B6C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F3A-D28B-46AD-A3EB-86DC2BB5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C7A-A467-42C5-84E5-CCF75755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6E1-B9A5-40F1-A2FA-FDBC7CC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26D-53ED-43BF-B390-E0480EED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9A2-8D7E-410F-A6B2-5DCD04E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00A-8CAB-432B-A2CD-479793B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236-FCF2-494E-83F2-FFE46DF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3E1A-5DBA-4912-B93B-1FD55A80A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Today’s The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ie s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ät ist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What time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87640" y="2238480"/>
          <a:ext cx="338472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38480"/>
                    <a:ext cx="33847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59280" y="2060640"/>
          <a:ext cx="324144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060640"/>
                    <a:ext cx="324144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87640" y="2205000"/>
          <a:ext cx="324000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05000"/>
                    <a:ext cx="3240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59280" y="2162160"/>
          <a:ext cx="309528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162160"/>
                    <a:ext cx="309528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59280" y="2205000"/>
          <a:ext cx="295092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205000"/>
                    <a:ext cx="295092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16360" y="2455920"/>
          <a:ext cx="331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455920"/>
                    <a:ext cx="331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89440" y="2133720"/>
          <a:ext cx="309528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30952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56000" y="2205000"/>
          <a:ext cx="4032000" cy="22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05000"/>
                    <a:ext cx="40320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084720" y="981000"/>
            <a:ext cx="2735280" cy="1943280"/>
          </a:xfrm>
          <a:prstGeom prst="wedgeEllipseCallout">
            <a:avLst>
              <a:gd name="adj1" fmla="val 25509"/>
              <a:gd name="adj2" fmla="val 81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 is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eunzeh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Uh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84360" y="2463840"/>
          <a:ext cx="460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63840"/>
                    <a:ext cx="460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8436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661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5661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557360"/>
            <a:ext cx="42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</a:rPr>
              <a:t>Es ist neun Uhr 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ünfundzwa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Es ist zehn Uhr 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ünf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Eastenders endet um acht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1484280"/>
            <a:ext cx="424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</a:rPr>
              <a:t>Es ist drei Uhr 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ünfundfünf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Die Schule beginnt um acht Uhr </a:t>
            </a:r>
            <a:r>
              <a:rPr b="0" lang="en-GB" sz="2400" spc="-1" strike="noStrike">
                <a:solidFill>
                  <a:srgbClr val="003300"/>
                </a:solidFill>
                <a:latin typeface="Arial Rounded MT Bold"/>
              </a:rPr>
              <a:t>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ünfunddrei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Ich gehe um vier uhr zehn nach H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98560" y="62064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62064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155736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155736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1280" y="54936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1280" y="148428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54936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148428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14172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314172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407664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8920" y="407664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8000" y="5445000"/>
            <a:ext cx="561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Wir spielen BIN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63640" y="2637000"/>
            <a:ext cx="943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1-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300720" y="2565360"/>
            <a:ext cx="943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21-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67280" y="5084640"/>
            <a:ext cx="942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41-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34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339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134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1339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404640"/>
            <a:ext cx="7848360" cy="5904000"/>
          </a:xfrm>
          <a:custGeom>
            <a:avLst/>
            <a:gdLst>
              <a:gd name="textAreaLeft" fmla="*/ 1791720 w 7848360"/>
              <a:gd name="textAreaRight" fmla="*/ 6056640 w 784836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57440" y="1413000"/>
            <a:ext cx="43196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7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2: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6: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4: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9: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2: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3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8: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914400" cy="72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11280" y="692280"/>
            <a:ext cx="7632720" cy="45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Wir spiel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Nummertenn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C 0.02413 -0.0213 0.04844 -0.04236 0.06944 0.00208 C 0.09045 0.04653 0.10955 0.26319 0.12587 0.26667 C 0.14219 0.27014 0.1434 0.03079 0.16788 0.02361 C 0.19236 0.01643 0.23889 0.22245 0.27274 0.22361 C 0.3066 0.22477 0.33976 0.04329 0.37101 0.03009 C 0.40226 0.0169 0.43333 0.15069 0.45972 0.14398 C 0.48611 0.13727 0.50469 0.00278 0.52917 -0.01088 C 0.55365 -0.02454 0.59045 0.06597 0.6066 0.06227 C 0.62274 0.05856 0.60937 -0.02477 0.62587 -0.03241 C 0.64236 -0.04005 0.68871 0.00671 0.70521 0.0169 E">
                                      <p:cBhvr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ine 5-Minute Mathest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wei, vier, sechs, acht, _____,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i, sechs, neun, z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lf, ______,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s, zwei, drei, sechs, ______,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ehn, neunzehn, siebenundzwanzig, vierunddre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g, ______,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ins, zwei,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f, vierzehn, __________,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162864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162864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ö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220500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n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220500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781360"/>
            <a:ext cx="11509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ö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59640" y="2781360"/>
            <a:ext cx="23050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erundzwa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386064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3860640"/>
            <a:ext cx="251928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nfu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4437000"/>
            <a:ext cx="223200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inund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941720"/>
            <a:ext cx="4103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inhundertzweiundzwa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4941720"/>
            <a:ext cx="11509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3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698920" y="2062080"/>
          <a:ext cx="374472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062080"/>
                    <a:ext cx="374472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67280" y="981000"/>
            <a:ext cx="3095640" cy="1584360"/>
          </a:xfrm>
          <a:prstGeom prst="wedgeEllipseCallout">
            <a:avLst>
              <a:gd name="adj1" fmla="val -1078"/>
              <a:gd name="adj2" fmla="val 82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 is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Uh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776680" y="1989000"/>
          <a:ext cx="3450960" cy="33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989000"/>
                    <a:ext cx="3450960" cy="33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87640" y="2374920"/>
          <a:ext cx="331308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374920"/>
                    <a:ext cx="331308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700360" y="2133720"/>
          <a:ext cx="3672000" cy="32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133720"/>
                    <a:ext cx="367200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16360" y="2217600"/>
          <a:ext cx="3527280" cy="31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17600"/>
                    <a:ext cx="352728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9:35:28Z</dcterms:created>
  <dc:creator>Eleanor Abrahams </dc:creator>
  <dc:description/>
  <dc:language>en-US</dc:language>
  <cp:lastModifiedBy>CSeccombe</cp:lastModifiedBy>
  <dcterms:modified xsi:type="dcterms:W3CDTF">2007-07-11T13:38:27Z</dcterms:modified>
  <cp:revision>18</cp:revision>
  <dc:subject/>
  <dc:title>Mittwoch den 16ten November</dc:title>
</cp:coreProperties>
</file>