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1.gif" ContentType="image/gif"/>
  <Override PartName="/ppt/media/image9.gif" ContentType="image/gif"/>
  <Override PartName="/ppt/media/image7.gif" ContentType="image/gif"/>
  <Override PartName="/ppt/media/image18.wmf" ContentType="image/x-wmf"/>
  <Override PartName="/ppt/media/image20.wmf" ContentType="image/x-wmf"/>
  <Override PartName="/ppt/media/image8.wmf" ContentType="image/x-wmf"/>
  <Override PartName="/ppt/media/image19.wmf" ContentType="image/x-wmf"/>
  <Override PartName="/ppt/media/image16.gif" ContentType="image/gif"/>
  <Override PartName="/ppt/media/image17.gif" ContentType="image/gif"/>
  <Override PartName="/ppt/media/image14.gif" ContentType="image/gif"/>
  <Override PartName="/ppt/media/image2.gif" ContentType="image/gif"/>
  <Override PartName="/ppt/media/image10.wmf" ContentType="image/x-wmf"/>
  <Override PartName="/ppt/media/image3.gif" ContentType="image/gif"/>
  <Override PartName="/ppt/media/image6.wmf" ContentType="image/x-wmf"/>
  <Override PartName="/ppt/media/image15.wmf" ContentType="image/x-wmf"/>
  <Override PartName="/ppt/media/image4.gif" ContentType="image/gif"/>
  <Override PartName="/ppt/media/image12.wmf" ContentType="image/x-wmf"/>
  <Override PartName="/ppt/media/image1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2BF-A587-454E-895D-3FA976E0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72D7-FF0E-4D1D-A6E5-A544B67B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CF80-5134-4D00-A277-1DA8E77F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07FF-2985-4F90-B917-DC549A49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CEC9-8802-4837-ACAF-C0A5ED4D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839E-301A-4B72-8116-FFA29BA5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9FC6-0594-438E-879B-E1F8A199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FA33-4954-4C3B-9234-D0022C54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59DA-7DEF-42DB-8855-D6B45A5F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12AB-CCFA-4E68-BC22-C6985F5D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5E5-1147-4C59-83D2-4DC53353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4E6C-FD14-4B02-A6AC-2B8033E8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0BD7-3657-4BB0-B691-388AA0031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hyperlink" Target="http://www.sunderlandschools.org/mfl-sunderland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0200" y="4046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Zu H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2000" y="1341360"/>
            <a:ext cx="6769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??? </a:t>
            </a:r>
            <a:r>
              <a:rPr b="1" lang="en-GB" sz="2400" spc="-1" strike="noStrike" u="sng">
                <a:solidFill>
                  <a:srgbClr val="333399"/>
                </a:solidFill>
                <a:uFillTx/>
                <a:latin typeface="Arial"/>
              </a:rPr>
              <a:t>im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oder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333399"/>
                </a:solidFill>
                <a:uFillTx/>
                <a:latin typeface="Arial"/>
              </a:rPr>
              <a:t>in der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ch bin _____ Wohnzim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er Hund ist ______ K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ü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Meine Mutter tanzt _____ Schlafzim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Mein Bruder spielt _____ Gar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Martin liest ______ Toil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18921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19640" y="242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29718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35481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0514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544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869000"/>
            <a:ext cx="799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??? </a:t>
            </a:r>
            <a:r>
              <a:rPr b="1" lang="en-GB" sz="2400" spc="-1" strike="noStrike" u="sng">
                <a:solidFill>
                  <a:srgbClr val="333399"/>
                </a:solidFill>
                <a:uFillTx/>
                <a:latin typeface="Arial"/>
              </a:rPr>
              <a:t>im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oder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333399"/>
                </a:solidFill>
                <a:uFillTx/>
                <a:latin typeface="Arial"/>
              </a:rPr>
              <a:t>in der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= ‘in the’ (for ‘der’ and ‘das’ rooms)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= ‘in the’ (for ‘die’ rooms - Toilette or K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ü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59500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32000" y="333360"/>
            <a:ext cx="63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Zu Hause – was machst du zu Ha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663480" cy="863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782640" cy="798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4360" y="3645000"/>
            <a:ext cx="582480" cy="799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84360" y="4581360"/>
            <a:ext cx="863280" cy="863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35280" y="1413000"/>
            <a:ext cx="58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Im Wohnzimmer mache ich meine Haus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755640" y="5589720"/>
            <a:ext cx="749160" cy="915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08000" y="2637000"/>
            <a:ext cx="58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Im Schlafzimmer sehe ich f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3789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In der Toilette tanze 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72428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Im Garten wasche ich meinen H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79640" y="573408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Im Esszimmer spiele ich Fu</a:t>
            </a:r>
            <a:r>
              <a:rPr b="0" lang="el-GR" sz="2000" spc="-1" strike="noStrike">
                <a:solidFill>
                  <a:srgbClr val="333399"/>
                </a:solidFill>
                <a:latin typeface="Tahoma"/>
                <a:ea typeface="Tahoma"/>
              </a:rPr>
              <a:t>β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Tahoma"/>
              </a:rPr>
              <a:t>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64000" y="649116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6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173400" y="2997360"/>
            <a:ext cx="2766960" cy="3095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32000" y="333360"/>
            <a:ext cx="63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Zu Hause – was machst du zu Ha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573360" y="3141720"/>
            <a:ext cx="2216160" cy="2879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27280" y="170028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In der K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ahoma"/>
              </a:rPr>
              <a:t>üche koche 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32000" y="333360"/>
            <a:ext cx="63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Zu Hause – was machst du zu Ha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84360" y="17002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Im Badezimmer tanze 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4824360" cy="3268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635280" y="3500280"/>
            <a:ext cx="223380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32000" y="333360"/>
            <a:ext cx="63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Zu Hause – was machst du zu Ha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84360" y="17002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Im Wohnzimmer lese 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688000" cy="3591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2360" y="3789360"/>
            <a:ext cx="194472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32000" y="333360"/>
            <a:ext cx="63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Zu Hause – was machst du zu Ha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360" y="170028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Im Schlafzimmer spiele ich 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4105080" cy="2905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64000" y="4653000"/>
            <a:ext cx="20163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0000"/>
                </a:solidFill>
                <a:uFillTx/>
                <a:latin typeface="Arial"/>
              </a:rPr>
              <a:t>So helfe ich zu H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In today’s lesson you will be learning phrases in German to say how you help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The focus is </a:t>
            </a:r>
            <a:r>
              <a:rPr b="0" lang="en-GB" sz="3200" spc="-1" strike="noStrike" u="sng">
                <a:solidFill>
                  <a:srgbClr val="cc0000"/>
                </a:solidFill>
                <a:uFillTx/>
                <a:latin typeface="Arial"/>
              </a:rPr>
              <a:t>separable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378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16000" y="4581360"/>
            <a:ext cx="7058160" cy="2128320"/>
          </a:xfrm>
          <a:prstGeom prst="rect">
            <a:avLst/>
          </a:prstGeom>
          <a:noFill/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in English we have separabl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I wash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I dry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I tidy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0000"/>
                </a:solidFill>
                <a:uFillTx/>
                <a:latin typeface="Arial"/>
              </a:rPr>
              <a:t>So helfe ich zu H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1700280"/>
            <a:ext cx="7058160" cy="3796920"/>
          </a:xfrm>
          <a:prstGeom prst="rect">
            <a:avLst/>
          </a:prstGeom>
          <a:noFill/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0000"/>
                </a:solidFill>
                <a:latin typeface="Comic Sans MS"/>
              </a:rPr>
              <a:t>Ich wasche das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0000"/>
                </a:solidFill>
                <a:latin typeface="Comic Sans MS"/>
              </a:rPr>
              <a:t>Ich mache das B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0000"/>
                </a:solidFill>
                <a:latin typeface="Comic Sans MS"/>
              </a:rPr>
              <a:t>Ich gehe in Basingstoke einkau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0000"/>
                </a:solidFill>
                <a:latin typeface="Comic Sans MS"/>
              </a:rPr>
              <a:t>Ich räume mein Schlafzimmer a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0000"/>
                </a:solidFill>
                <a:latin typeface="Comic Sans MS"/>
              </a:rPr>
              <a:t>Ich trockne in der Küche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0000"/>
                </a:solidFill>
                <a:latin typeface="Comic Sans MS"/>
              </a:rPr>
              <a:t>Ich koche mein Abende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0000"/>
                </a:solidFill>
                <a:latin typeface="Comic Sans MS"/>
              </a:rPr>
              <a:t>Ich wasche oft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5734080"/>
            <a:ext cx="720720" cy="701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58920" y="5805360"/>
            <a:ext cx="987480" cy="649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692360" y="5877000"/>
            <a:ext cx="1371600" cy="795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635280" y="5516640"/>
            <a:ext cx="768600" cy="1058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003640" y="5589720"/>
            <a:ext cx="841680" cy="903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372360" y="5734080"/>
            <a:ext cx="1014120" cy="807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7740720" y="5734080"/>
            <a:ext cx="8478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7:48:10Z</dcterms:created>
  <dc:creator>Eleanor Abrahams </dc:creator>
  <dc:description/>
  <dc:language>en-US</dc:language>
  <cp:lastModifiedBy>CSeccombe</cp:lastModifiedBy>
  <dcterms:modified xsi:type="dcterms:W3CDTF">2007-07-11T08:43:14Z</dcterms:modified>
  <cp:revision>17</cp:revision>
  <dc:subject/>
  <dc:title>Slide 1</dc:title>
</cp:coreProperties>
</file>