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9.gif" ContentType="image/gif"/>
  <Override PartName="/ppt/media/image7.gif" ContentType="image/gif"/>
  <Override PartName="/ppt/media/image18.wmf" ContentType="image/x-wmf"/>
  <Override PartName="/ppt/media/image20.wmf" ContentType="image/x-wmf"/>
  <Override PartName="/ppt/media/image8.wmf" ContentType="image/x-wmf"/>
  <Override PartName="/ppt/media/image19.wmf" ContentType="image/x-wmf"/>
  <Override PartName="/ppt/media/image16.gif" ContentType="image/gif"/>
  <Override PartName="/ppt/media/image17.gif" ContentType="image/gif"/>
  <Override PartName="/ppt/media/image14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6.wmf" ContentType="image/x-wmf"/>
  <Override PartName="/ppt/media/image15.wmf" ContentType="image/x-wmf"/>
  <Override PartName="/ppt/media/image4.gif" ContentType="image/gif"/>
  <Override PartName="/ppt/media/image12.wmf" ContentType="image/x-wmf"/>
  <Override PartName="/ppt/media/image1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BF9-C4D8-4429-BB10-E96CEB2F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429-F1B6-4EFD-9173-657A1525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5AC-5DB7-4EF7-8F8E-2C792D9D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BCF-4D80-4F0E-9EAB-8ADB54E0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D4D-A5E7-41A8-82B0-95887503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893-5AF8-48B8-BC6B-B2D3EFF1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427-0ACC-44CF-99CF-126D25D5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491-559F-4BC3-8308-271D711E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2A9-81C9-48A0-B7FF-809100C6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561-A8C2-44AC-B040-FDBA7D2F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F75-C5A1-4BCE-9FF4-198EF4C5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AA9-C98B-417E-9888-24DC11C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CFEA-1995-4471-9C66-817C7351F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hyperlink" Target="http://www.sunderlandschools.org/mfl-sunderland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0200" y="40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1341360"/>
            <a:ext cx="676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???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im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oder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in der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ch bin _____ Wohnzi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er Hund ist ______ K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ü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ine Mutter tanzt _____ Schlafzi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in Bruder spielt _____ Gar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artin liest ______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18921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242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9718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3548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0514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869000"/>
            <a:ext cx="79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???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im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oder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in der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= ‘in the’ (for ‘der’ and ‘das’ rooms)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= ‘in the’ (for ‘die’ rooms - Toilette or K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ü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950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66348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4360" y="3645000"/>
            <a:ext cx="58248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84360" y="458136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5280" y="141300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m Wohnzimmer mache ich meine Haus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55640" y="5589720"/>
            <a:ext cx="749160" cy="915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263700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m Schlafzimmer sehe ich f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3789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n der Toilette tanze 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72428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m Garten wasche ich meinen 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573408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Im Esszimmer spiele ich Fu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  <a:ea typeface="Tahoma"/>
              </a:rPr>
              <a:t>β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Tahoma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649116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6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73400" y="2997360"/>
            <a:ext cx="2766960" cy="3095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73360" y="3141720"/>
            <a:ext cx="22161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170028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n der K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üche koche 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1700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m Badezimmer tanze 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824360" cy="3268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3500280"/>
            <a:ext cx="22338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1700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m Wohnzimmer lese 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6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19447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32000" y="333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Zu Hause – was machst du zu Ha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170028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m Schlafzimmer spiele ich 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105080" cy="2905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64000" y="4653000"/>
            <a:ext cx="20163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0000"/>
                </a:solidFill>
                <a:uFillTx/>
                <a:latin typeface="Arial"/>
              </a:rPr>
              <a:t>So helfe ich zu H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n today’s lesson you will be learning phrases in German to say how you help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focus is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Arial"/>
              </a:rPr>
              <a:t>separable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378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4581360"/>
            <a:ext cx="7058160" cy="2128320"/>
          </a:xfrm>
          <a:prstGeom prst="rect">
            <a:avLst/>
          </a:prstGeom>
          <a:noFill/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in English we have separabl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I wash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I dry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I tidy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0000"/>
                </a:solidFill>
                <a:uFillTx/>
                <a:latin typeface="Arial"/>
              </a:rPr>
              <a:t>So helfe ich zu H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1700280"/>
            <a:ext cx="7058160" cy="3796920"/>
          </a:xfrm>
          <a:prstGeom prst="rect">
            <a:avLst/>
          </a:prstGeom>
          <a:noFill/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wasche das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mache das 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gehe in Basingstoke ein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räume mein Schlafzimmer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trockne in der Küche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koche mein Abend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Ich wasche oft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5734080"/>
            <a:ext cx="720720" cy="701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58920" y="5805360"/>
            <a:ext cx="987480" cy="64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92360" y="5877000"/>
            <a:ext cx="1371600" cy="795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635280" y="5516640"/>
            <a:ext cx="768600" cy="1058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003640" y="5589720"/>
            <a:ext cx="84168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372360" y="5734080"/>
            <a:ext cx="1014120" cy="80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740720" y="5734080"/>
            <a:ext cx="8478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7:48:10Z</dcterms:created>
  <dc:creator>Eleanor Abrahams </dc:creator>
  <dc:description/>
  <dc:language>en-US</dc:language>
  <cp:lastModifiedBy>CSeccombe</cp:lastModifiedBy>
  <dcterms:modified xsi:type="dcterms:W3CDTF">2007-07-11T08:43:14Z</dcterms:modified>
  <cp:revision>17</cp:revision>
  <dc:subject/>
  <dc:title>Slide 1</dc:title>
</cp:coreProperties>
</file>