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693-3AE9-4ECC-81E9-9C2F8A2A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3A5-1454-47F0-9B5C-E405EC52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45B-8684-4CA6-A2C9-F7B07D3A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2B4-1458-44F0-8429-65E703E3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22B-A9BB-4E30-9204-C42787DF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EC0-C5A2-4D86-8442-4661A972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BDA-4A05-481F-9A5D-138A05BB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7EB-D2E9-4344-A47B-154A6DDC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68A-77E2-41A4-B1CB-5928A2DD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407-6DFC-4DCE-9CD5-18BAB3C6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1EF-4445-4D19-A492-89668FC9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7C9-BC82-492A-B665-5FB0D8F0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BAF9-49F4-4D40-ACC6-C683F82E7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Today’s Lesson Objective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 reinforce prepositions and to describe our rooms</a:t>
            </a:r>
            <a:br>
              <a:rPr sz="4400"/>
            </a:br>
            <a:br>
              <a:rPr sz="4400"/>
            </a:b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4419720"/>
            <a:ext cx="2095560" cy="206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75360" y="5384880"/>
            <a:ext cx="1989360" cy="1139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64000" y="64911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059120" cy="871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1409760" cy="138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2305080" cy="1515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122724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18137400">
            <a:off x="1547640" y="2817720"/>
            <a:ext cx="985680" cy="81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84360" y="5388120"/>
            <a:ext cx="718920" cy="65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68360" y="148428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Der Ball ist unter dem T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31258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er Ball ist auf dem B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501336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Der Ball ist neben dem Stu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33360"/>
            <a:ext cx="38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o ist der 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557360"/>
            <a:ext cx="100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141720"/>
            <a:ext cx="648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5084640"/>
            <a:ext cx="935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Quick reca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re the 5 prepositions we learnt last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we need to remember to change after a prepos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following words in Germ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hest of drawer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71640" y="260280"/>
            <a:ext cx="720072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Logo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Seite 78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Ex. 1a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Wir lese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260280"/>
            <a:ext cx="720072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Logo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Seite 78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Ex. 1b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ristina"/>
              </a:rPr>
              <a:t>Wir höre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ristina"/>
              <a:ea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Arbeitseck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my work corn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e ist sehr klein aber sehr prak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 habe ich einen Tisch und auf dem Tisch steht ein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ben dem Computer ist ein 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örterbuch und zwei Ku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Zwischen dem Wörterbuch und dem Computer sind drei Disketten, sie sind blau, rot und grü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Auf dem Computer ist eine C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ch habe einen Stuhl und auf dem Stuhl sind zwei T-Shirts und eine g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ne H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ine Katze schläft unter dem Stuh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0360" y="189000"/>
            <a:ext cx="8532720" cy="619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4365720"/>
            <a:ext cx="1058760" cy="988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708360" y="2205000"/>
            <a:ext cx="936720" cy="924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rot="17674200">
            <a:off x="6687000" y="4680360"/>
            <a:ext cx="792000" cy="73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 rot="20011200">
            <a:off x="1763640" y="2636640"/>
            <a:ext cx="1492200" cy="93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012000" y="1695600"/>
            <a:ext cx="2184120" cy="134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067280" y="3200400"/>
            <a:ext cx="1269720" cy="1165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991200">
            <a:off x="6963840" y="4603680"/>
            <a:ext cx="503280" cy="287280"/>
          </a:xfrm>
          <a:prstGeom prst="rect">
            <a:avLst/>
          </a:prstGeom>
          <a:solidFill>
            <a:srgbClr val="ff80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4795920"/>
            <a:ext cx="649080" cy="217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19:16:17Z</dcterms:created>
  <dc:creator>Eleanor Abrahams </dc:creator>
  <dc:description/>
  <dc:language>en-US</dc:language>
  <cp:lastModifiedBy>CSeccombe</cp:lastModifiedBy>
  <dcterms:modified xsi:type="dcterms:W3CDTF">2007-07-11T08:44:08Z</dcterms:modified>
  <cp:revision>8</cp:revision>
  <dc:subject/>
  <dc:title>Slide 1</dc:title>
</cp:coreProperties>
</file>