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A07-566D-442A-99FA-8DB1782C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DC7-070C-4A3E-94A6-DAB2CF5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37F-5C3B-4627-A501-325A9B1B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86C-21E5-4D6B-A90D-DD495EE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25D-D2FC-4677-91A2-CFEB3DB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B68-5F69-4D99-AA5B-D6024E0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AC7-86D0-418D-8ECA-2041E47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01C-8923-42D9-96F2-CAA42B5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6A6-4B16-42C4-AA8C-037DC52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F22-19D1-4394-8068-EC28B6D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1A1-02CC-47B3-A237-E7C9731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4B0-C1C6-48D2-9428-EF721E3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1B72-2997-4C04-959F-AA4AE8AD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Today’s Lesson Objective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reinforce prepositions and to describe our rooms</a:t>
            </a:r>
            <a:br>
              <a:rPr sz="4400"/>
            </a:b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2095560" cy="206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75360" y="5384880"/>
            <a:ext cx="1989360" cy="113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05912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409760" cy="138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305080" cy="15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122724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8137400">
            <a:off x="1547640" y="2817720"/>
            <a:ext cx="985680" cy="81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4360" y="5388120"/>
            <a:ext cx="718920" cy="65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48428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Der Ball ist unter dem 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1258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er Ball ist auf dem B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501336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Der Ball ist neben dem Stu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33360"/>
            <a:ext cx="38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o ist d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557360"/>
            <a:ext cx="10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141720"/>
            <a:ext cx="648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5084640"/>
            <a:ext cx="93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Quick 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the 5 prepositions we learnt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we need to remember to change after a pre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following words in Germ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est of drawer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71640" y="260280"/>
            <a:ext cx="720072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Logo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Seite 78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Ex. 1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Wir lese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260280"/>
            <a:ext cx="720072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Logo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Seite 78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Ex. 1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Wir höre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Arbeitseck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my work corn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ist sehr klein aber sehr prak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habe ich einen Tisch und auf dem Tisch steht ein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ben dem Computer ist ein 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örterbuch und zwei Ku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Zwischen dem Wörterbuch und dem Computer sind drei Disketten, sie sind blau, rot und grü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Auf dem Computer ist eine C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ch habe einen Stuhl und auf dem Stuhl sind zwei T-Shirts und eine 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e H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ine Katze schläft unter dem Stuh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360" y="189000"/>
            <a:ext cx="8532720" cy="619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1058760" cy="98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2205000"/>
            <a:ext cx="936720" cy="9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rot="17674200">
            <a:off x="6687000" y="4680360"/>
            <a:ext cx="792000" cy="73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 rot="20011200">
            <a:off x="1763640" y="2636640"/>
            <a:ext cx="149220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012000" y="1695600"/>
            <a:ext cx="218412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067280" y="3200400"/>
            <a:ext cx="1269720" cy="116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991200">
            <a:off x="6963840" y="4603680"/>
            <a:ext cx="503280" cy="287280"/>
          </a:xfrm>
          <a:prstGeom prst="rect">
            <a:avLst/>
          </a:prstGeom>
          <a:solidFill>
            <a:srgbClr val="ff8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4795920"/>
            <a:ext cx="649080" cy="21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9:16:17Z</dcterms:created>
  <dc:creator>Eleanor Abrahams </dc:creator>
  <dc:description/>
  <dc:language>en-US</dc:language>
  <cp:lastModifiedBy>CSeccombe</cp:lastModifiedBy>
  <dcterms:modified xsi:type="dcterms:W3CDTF">2007-07-11T08:44:08Z</dcterms:modified>
  <cp:revision>8</cp:revision>
  <dc:subject/>
  <dc:title>Slide 1</dc:title>
</cp:coreProperties>
</file>