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DA5A-932A-4DBD-BE9C-FC011A24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9379-BCBB-4559-B380-AAEFAB10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1FA3-602B-4E4E-8191-E81B12FA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A5FA-7DAD-45BD-A9A8-A73AB179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FDEA-D64C-4675-A590-000491FC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B07A-20AE-4117-AF35-3353664E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B7C8-181A-422D-9ACE-81EDBE43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2CCC-B1F7-42BE-BB6F-45858743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5646-1028-424A-9CE3-C76661A5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4D61-1296-4F48-AF30-1FC0AC5C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16FF-7150-40AD-9D5D-A48537D6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E0A5-1102-46DF-A600-113B370E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4806-8AA8-4198-A46B-13CD30CA0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920" y="1828800"/>
            <a:ext cx="6324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Times New Roman"/>
              </a:rPr>
              <a:t>Today’s Language Objectiv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Der Film beginnt um 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Times New Roman"/>
              </a:rPr>
              <a:t>Today’s Them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sking and giving the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3640" y="649116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ELA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76720" y="549360"/>
            <a:ext cx="0" cy="5545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2060640"/>
            <a:ext cx="6119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549360"/>
            <a:ext cx="0" cy="5545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4365720"/>
            <a:ext cx="6119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:3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5: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9:4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1:2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400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8:0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0: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0328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2:5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6400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4:5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3:4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8915000">
            <a:off x="179280" y="188640"/>
            <a:ext cx="719280" cy="720720"/>
          </a:xfrm>
          <a:prstGeom prst="plus">
            <a:avLst>
              <a:gd name="adj" fmla="val 408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172360" y="189000"/>
            <a:ext cx="647640" cy="647640"/>
          </a:xfrm>
          <a:prstGeom prst="donut">
            <a:avLst>
              <a:gd name="adj" fmla="val 138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76720" y="549360"/>
            <a:ext cx="0" cy="5545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2060640"/>
            <a:ext cx="6119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80000" y="549360"/>
            <a:ext cx="0" cy="5545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32000" y="4365720"/>
            <a:ext cx="6119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9:4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6400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7: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2:0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0328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4: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6400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0: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2: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0328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3: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6400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5:5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4036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6:3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8915000">
            <a:off x="179280" y="188640"/>
            <a:ext cx="719280" cy="720720"/>
          </a:xfrm>
          <a:prstGeom prst="plus">
            <a:avLst>
              <a:gd name="adj" fmla="val 408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72360" y="189000"/>
            <a:ext cx="647640" cy="647640"/>
          </a:xfrm>
          <a:prstGeom prst="donut">
            <a:avLst>
              <a:gd name="adj" fmla="val 138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76720" y="549360"/>
            <a:ext cx="0" cy="5545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2060640"/>
            <a:ext cx="6119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80000" y="549360"/>
            <a:ext cx="0" cy="5545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32000" y="4365720"/>
            <a:ext cx="6119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1:3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6400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9: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4: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0328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9: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6400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22:4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23: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328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0:5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6400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4:2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8:4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8915000">
            <a:off x="179280" y="188640"/>
            <a:ext cx="719280" cy="720720"/>
          </a:xfrm>
          <a:prstGeom prst="plus">
            <a:avLst>
              <a:gd name="adj" fmla="val 408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72360" y="189000"/>
            <a:ext cx="647640" cy="647640"/>
          </a:xfrm>
          <a:prstGeom prst="donut">
            <a:avLst>
              <a:gd name="adj" fmla="val 138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4360" y="404640"/>
            <a:ext cx="7848360" cy="5904000"/>
          </a:xfrm>
          <a:custGeom>
            <a:avLst/>
            <a:gdLst>
              <a:gd name="textAreaLeft" fmla="*/ 1791720 w 7848360"/>
              <a:gd name="textAreaRight" fmla="*/ 6056640 w 7848360"/>
              <a:gd name="textAreaTop" fmla="*/ 1347840 h 5904000"/>
              <a:gd name="textAreaBottom" fmla="*/ 4556160 h 590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0047ff"/>
              </a:gs>
              <a:gs pos="100000">
                <a:srgbClr val="000082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57440" y="1413000"/>
            <a:ext cx="431964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g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i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19280" y="620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: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19280" y="1844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9: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3068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: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19280" y="4292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: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00360" y="126828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: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49228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4: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3718080"/>
            <a:ext cx="1440000" cy="1223640"/>
          </a:xfrm>
          <a:prstGeom prst="hexagon">
            <a:avLst>
              <a:gd name="adj" fmla="val 29420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9: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494172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6:5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80000" y="62064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3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80000" y="184464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3: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306864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: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80000" y="429264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: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61080" y="126828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2: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61080" y="249228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5: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61080" y="371628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1: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61080" y="494172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: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0360" y="620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3: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1844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: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3068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: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0360" y="4292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: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19280" y="620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: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19280" y="1844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9: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19280" y="3068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: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9280" y="4292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: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126828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: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00360" y="249228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4: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3718080"/>
            <a:ext cx="1440000" cy="1223640"/>
          </a:xfrm>
          <a:prstGeom prst="hexagon">
            <a:avLst>
              <a:gd name="adj" fmla="val 29420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9: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0360" y="494172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6:5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62064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3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80000" y="184464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3: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306864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: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80000" y="429264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: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61080" y="126828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2: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61080" y="249228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5: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61080" y="371628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1: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61080" y="494172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: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0360" y="620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3: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40360" y="1844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: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0360" y="3068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: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40360" y="4292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: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619280" y="620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: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19280" y="1844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9: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3068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: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4292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: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126828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: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00360" y="249228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4: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0360" y="3718080"/>
            <a:ext cx="1440000" cy="1223640"/>
          </a:xfrm>
          <a:prstGeom prst="hexagon">
            <a:avLst>
              <a:gd name="adj" fmla="val 29420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9: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00360" y="494172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6:5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62064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3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80000" y="184464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3: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80000" y="306864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: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80000" y="429264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: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61080" y="126828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2: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61080" y="249228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5: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61080" y="371628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1: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61080" y="494172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: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0360" y="620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3: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40360" y="1844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: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40360" y="3068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: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4292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: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07:50:35Z</dcterms:created>
  <dc:creator>Eleanor Abrahams</dc:creator>
  <dc:description/>
  <dc:language>en-US</dc:language>
  <cp:lastModifiedBy>CSeccombe</cp:lastModifiedBy>
  <dcterms:modified xsi:type="dcterms:W3CDTF">2007-07-11T13:40:28Z</dcterms:modified>
  <cp:revision>4</cp:revision>
  <dc:subject/>
  <dc:title>Freitag den 18ten November</dc:title>
</cp:coreProperties>
</file>