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E59-B3A5-40B8-8687-A946ABB8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BAA-1BEA-4EE7-AB7E-2BBBF78C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0E2-18E5-4C1D-A3C3-83581EFE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1E0-8B26-44DF-8395-86734FE6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03B7-C427-47EE-8D4B-6D8B1EBA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989A-F17D-49B5-9D8E-E2D263B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A964-F8F9-4C2D-9C9B-1DFC240B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7CD7-D038-4DD7-AFF0-CADF36C0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5F69-00AC-47AF-8D40-BE109105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9F54-EDAE-42E3-9D10-DF183EC5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E9AE-9EA6-403E-8FBD-74F859A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EE1-5C37-4157-975C-AF7E0E6A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0FD-AA23-43F0-9E02-67FD40B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E4F2-F009-4A18-9078-E3201EB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4FB1-865F-4948-BF19-6B990E75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400A-BB3A-4F2C-AA79-63FBEE01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0ACD-5684-4BCC-A9F6-488CEC1C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C7D-009A-40E3-8CDB-BC058BEE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43C-926D-4230-9E6D-F6101D72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CAC-62CA-4868-9D6A-0D195194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B7B-D28C-43BA-A212-3F4113ED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76A-3D2F-469F-946E-D4E254F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776-9DEA-4C9A-8B84-F798F38C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DF5-0C9F-40BF-BF43-19C0FFBC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A318-5BE9-4F45-83D5-EB9ADDC12C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D18C-AC11-4671-B6CB-6B1E5B1F1A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addamsfamily.com/addams/afmama1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979800" cy="5211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319280" y="476280"/>
            <a:ext cx="482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Meine Familie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Hier is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mein Vater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, Gomez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Hier is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meine Mutter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ortic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ier i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meine Gro</a:t>
            </a:r>
            <a:r>
              <a:rPr b="0" lang="el-GR" sz="2800" spc="-1" strike="noStrike" u="sng">
                <a:solidFill>
                  <a:srgbClr val="ffffcc"/>
                </a:solidFill>
                <a:uFillTx/>
                <a:latin typeface="Comic Sans MS"/>
              </a:rPr>
              <a:t>β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mutte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am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ier i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mein Onkel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Onkel Feste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©MFL Sunderland 2007 </a:t>
            </a:r>
            <a:r>
              <a:rPr b="0" lang="en-US" sz="1000" spc="-1" strike="noStrike" u="sng">
                <a:solidFill>
                  <a:srgbClr val="a3c145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Mein Familienalb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ing your family tree, your task is to make a photo album of your fami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826920" y="2205000"/>
            <a:ext cx="7417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cide which person in your family tree you are going to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ork out the relationship of everyone in the family to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pictures in magazines/internet/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ke your alb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627280" y="2708280"/>
            <a:ext cx="151308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Pat Butc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00720" y="2708280"/>
            <a:ext cx="165564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ack Charl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00000" y="3500280"/>
            <a:ext cx="1295640" cy="50508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David Beckh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Brad P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16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Ca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4364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or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140360" y="29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84720" y="292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332000" y="3284640"/>
            <a:ext cx="58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64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6436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24720" y="4292640"/>
            <a:ext cx="1619280" cy="50472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Peter And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67640" y="371628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56360" y="4869000"/>
            <a:ext cx="1224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32000" y="4221000"/>
            <a:ext cx="1619280" cy="50508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ulia Rob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19640" y="3933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659280" y="400536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59640" y="4365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124000" y="4797360"/>
            <a:ext cx="12240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Dy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55640" y="4076640"/>
            <a:ext cx="8636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556000" y="4365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7129400">
            <a:off x="1930680" y="4989960"/>
            <a:ext cx="847800" cy="1182600"/>
          </a:xfrm>
          <a:custGeom>
            <a:avLst/>
            <a:gdLst>
              <a:gd name="textAreaLeft" fmla="*/ 0 w 847800"/>
              <a:gd name="textAreaRight" fmla="*/ 848160 w 847800"/>
              <a:gd name="textAreaTop" fmla="*/ 0 h 1182600"/>
              <a:gd name="textAreaBottom" fmla="*/ 118296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56000" y="5589720"/>
            <a:ext cx="2592360" cy="792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ch bin Dyla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4000" y="47628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ein Vater hei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404640"/>
            <a:ext cx="1295280" cy="43200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Brad P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476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eine Tanten hei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64360" y="26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Ca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4360" y="76500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or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1052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eine Mutter hei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16360" y="981000"/>
            <a:ext cx="1619280" cy="50508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ulia Rob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Meine Familie auf Deutsch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01680" y="1600200"/>
          <a:ext cx="8540640" cy="4498920"/>
        </p:xfrm>
        <a:graphic>
          <a:graphicData uri="http://schemas.openxmlformats.org/drawingml/2006/table">
            <a:tbl>
              <a:tblPr/>
              <a:tblGrid>
                <a:gridCol w="2746440"/>
                <a:gridCol w="3047760"/>
                <a:gridCol w="274644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 Vate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Großmutte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 Großvate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 Cousi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Cousin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Mutte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Tant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 Onkel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ne Elter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3200400" y="3200400"/>
            <a:ext cx="2808360" cy="13701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1676520"/>
            <a:ext cx="2808360" cy="136980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5880" y="3124080"/>
            <a:ext cx="2808360" cy="13701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4648320"/>
            <a:ext cx="2808000" cy="136980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556000" y="5157720"/>
            <a:ext cx="865080" cy="1224000"/>
          </a:xfrm>
          <a:prstGeom prst="can">
            <a:avLst>
              <a:gd name="adj" fmla="val 25000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ie Objektive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the end of this lesson we will be able t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ive a description of different members of our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rite a family tree for your own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979640" y="4292640"/>
            <a:ext cx="2087640" cy="151272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345240 h 1512720"/>
              <a:gd name="textAreaBottom" fmla="*/ 1167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Tempus Sans ITC"/>
              </a:rPr>
              <a:t>Stamm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Mein V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ier ist mein V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in Vater hei</a:t>
            </a:r>
            <a:r>
              <a:rPr b="0" lang="el-GR" sz="28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 Gom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is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5 Jahre a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wohnt i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ooksvi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hat kurze schwarze Ha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nd braune Au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in Vater ist super!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9900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Meine Mu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ier ist meine Mut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Comic Sans MS"/>
              </a:rPr>
              <a:t>Meine Mutter hei</a:t>
            </a:r>
            <a:r>
              <a:rPr b="0" lang="el-GR" sz="31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31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 Mortic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e ist 44 Jahre 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e wohnt i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e hat sehr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ng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latte Ha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ine Mutter ist sehr intelligent!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97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empus Sans ITC"/>
              </a:rPr>
              <a:t>Hast du einen Bruder</a:t>
            </a:r>
            <a:r>
              <a:rPr b="0" lang="en-US" sz="4400" spc="-1" strike="noStrike">
                <a:solidFill>
                  <a:srgbClr val="ffffcc"/>
                </a:solidFill>
                <a:latin typeface="Tempus Sans ITC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464360" cy="334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95280" y="1341360"/>
            <a:ext cx="2592360" cy="115092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ch habe einen Bru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40360" y="1197000"/>
            <a:ext cx="460836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in Bruder hei</a:t>
            </a:r>
            <a:r>
              <a:rPr b="0" lang="el-GR" sz="28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ugs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3068640"/>
            <a:ext cx="23749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in Bruder ist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4941720"/>
            <a:ext cx="46087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wohnt mit unseren Eltern in Spooksvi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40360" y="278136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 hat sehr kurze braune Haar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Er ist gro</a:t>
            </a:r>
            <a:r>
              <a:rPr b="0" lang="el-GR" sz="2800" spc="-1" strike="noStrike">
                <a:solidFill>
                  <a:srgbClr val="ffffcc"/>
                </a:solidFill>
                <a:latin typeface="Comic Sans MS"/>
              </a:rPr>
              <a:t>β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und ist ziemlich d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Und jetzt bist du dran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ier ist _______________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r/sie hei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 ____________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r/sie ist ______ Jahre a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r/sie wohnt in  _________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r/sie hat__________________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_____________ ist __________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Mein Stammba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820880" cy="13651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Grandmama Addams #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125360"/>
            <a:ext cx="1439640" cy="1081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5219640" y="4581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2556000" y="458136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859280" y="220500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84720" y="3213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95640" y="393372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788000" y="3933720"/>
            <a:ext cx="72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84360" y="436572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6360" y="4365720"/>
            <a:ext cx="432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43280" y="4292640"/>
            <a:ext cx="216000" cy="1443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4005360"/>
            <a:ext cx="2592360" cy="2519280"/>
          </a:xfrm>
          <a:prstGeom prst="wedgeRoundRectCallout">
            <a:avLst>
              <a:gd name="adj1" fmla="val 65490"/>
              <a:gd name="adj2" fmla="val -12759"/>
              <a:gd name="adj3" fmla="val 16667"/>
            </a:avLst>
          </a:prstGeom>
          <a:solidFill>
            <a:srgbClr val="9966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Ich hei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e Wednesday. Ich bin 13. Hier ist meine Famil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80000" y="1123920"/>
            <a:ext cx="3140280" cy="1319400"/>
          </a:xfrm>
          <a:prstGeom prst="roundRect">
            <a:avLst>
              <a:gd name="adj" fmla="val 16667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ier ist meine Gro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ut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e hei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m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Und jetzt bist du dran!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ign you own celebrity-family tree using famous peo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27280" y="2708280"/>
            <a:ext cx="151308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Pat Butc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2708280"/>
            <a:ext cx="165564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ack Charl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00000" y="3500280"/>
            <a:ext cx="1295640" cy="50508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David Beckh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00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Brad P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Ca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44364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or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40360" y="29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292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32000" y="3284640"/>
            <a:ext cx="58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32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400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4360" y="3284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24720" y="4292640"/>
            <a:ext cx="1619280" cy="50472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Peter And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667640" y="371628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56360" y="4869000"/>
            <a:ext cx="1224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32000" y="4221000"/>
            <a:ext cx="1619280" cy="50508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Julia Rob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19640" y="3933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659280" y="400536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59640" y="43657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4000" y="4797360"/>
            <a:ext cx="1224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Tahoma"/>
              </a:rPr>
              <a:t>Dy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555640" y="4076640"/>
            <a:ext cx="8636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56000" y="4365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627280" y="2708280"/>
            <a:ext cx="151308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00720" y="2708280"/>
            <a:ext cx="1655640" cy="433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3500280"/>
            <a:ext cx="1295640" cy="50508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00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1636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443640" y="3500280"/>
            <a:ext cx="1224000" cy="43344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24720" y="4292640"/>
            <a:ext cx="1619280" cy="50472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32000" y="4221000"/>
            <a:ext cx="1619280" cy="505080"/>
          </a:xfrm>
          <a:prstGeom prst="ellipse">
            <a:avLst/>
          </a:prstGeom>
          <a:solidFill>
            <a:srgbClr val="1aac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56360" y="4869000"/>
            <a:ext cx="1224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24000" y="4797360"/>
            <a:ext cx="1224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7:42Z</dcterms:created>
  <dc:creator>Chris Harte</dc:creator>
  <dc:description/>
  <dc:language>en-US</dc:language>
  <cp:lastModifiedBy>CSeccombe</cp:lastModifiedBy>
  <dcterms:modified xsi:type="dcterms:W3CDTF">2007-07-11T13:31:29Z</dcterms:modified>
  <cp:revision>13</cp:revision>
  <dc:subject/>
  <dc:title>Ma famille  Gomez c’est mon père Morticia c’est ma mère Friday c’est ma soeur Pugsley c’est mon frère  </dc:title>
</cp:coreProperties>
</file>