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359-153F-452A-9D56-9B7350E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838-8FA0-4DB0-BD73-A3B9573F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EC2-34E4-49AC-AABA-FA109635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883-76D8-47A3-8BFD-C2119CFB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971-A08E-4BAD-8B60-BC01FE26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E60C-C43A-496D-8A77-97FCE6D9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B716-54E9-41D0-B60A-FA5FF43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99FA-EA0F-40C4-9A11-ADC1632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FB46-3B88-4379-9E60-02E40FC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81D3-E3B6-4DE7-9471-E1C5957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516-2FD3-44BB-B399-EF7BB39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C84-9E14-4386-A446-A0E0AEB5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8DDD-2356-4386-BC11-122B37E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D29-B6BC-4F78-8DEB-1D883D0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2CC-E3C6-4167-9B67-408E808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BFF5-1F22-48CC-A764-8DFAD5D8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FB8-8735-45D1-9FAD-2B13BE0A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438-AEA4-42BC-BFC4-5B1754AF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011-8208-4EF7-B871-1E85C36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56C-76E8-4BCA-8A8B-05D1E0D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568-51C5-4764-B0DB-D23C27D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557-1659-4EE7-BF69-B3A5FE0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A43-6551-464B-9182-FBBBDD5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44A-665C-4C2A-AED9-4D8E563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4A1E-CC2C-450D-B913-E1357405E3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DF99-2C8D-4BF1-92B7-F5E14BF4AB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979800" cy="5211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19280" y="476280"/>
            <a:ext cx="482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Meine Famili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 Vater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, Gomez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e Mutter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rtic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e Gro</a:t>
            </a:r>
            <a:r>
              <a:rPr b="0" lang="el-GR" sz="2800" spc="-1" strike="noStrike" u="sng">
                <a:solidFill>
                  <a:srgbClr val="ffffcc"/>
                </a:solidFill>
                <a:uFillTx/>
                <a:latin typeface="Comic Sans MS"/>
              </a:rPr>
              <a:t>β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utte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am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 Onke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nkel Feste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</a:t>
            </a:r>
            <a:r>
              <a:rPr b="0" lang="en-US" sz="1000" spc="-1" strike="noStrike" u="sng">
                <a:solidFill>
                  <a:srgbClr val="a3c145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Mein Familienalb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ing your family tree, your task is to make a photo album of your fami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2205000"/>
            <a:ext cx="7417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cide which person in your family tree you are going to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rk out the relationship of everyone in the family to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pictures in magazines/internet/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ke your alb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at Bu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ack Char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avid Beck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40360" y="29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3284640"/>
            <a:ext cx="58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64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eter And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67640" y="371628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1964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659280" y="400536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59640" y="4365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y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55640" y="4076640"/>
            <a:ext cx="8636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7129400">
            <a:off x="1930680" y="4989960"/>
            <a:ext cx="847800" cy="1182600"/>
          </a:xfrm>
          <a:custGeom>
            <a:avLst/>
            <a:gdLst>
              <a:gd name="textAreaLeft" fmla="*/ 0 w 847800"/>
              <a:gd name="textAreaRight" fmla="*/ 848160 w 847800"/>
              <a:gd name="textAreaTop" fmla="*/ 0 h 1182600"/>
              <a:gd name="textAreaBottom" fmla="*/ 11829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56000" y="5589720"/>
            <a:ext cx="2592360" cy="792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ch bin Dyl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476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 Vater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404640"/>
            <a:ext cx="1295280" cy="43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476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e Tanten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4360" y="26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76500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105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e Mutter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16360" y="98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Meine Familie auf Deutsch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746440"/>
                <a:gridCol w="3047760"/>
                <a:gridCol w="274644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Va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Großmut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Großva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Mut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Tant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Onkel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Elter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3200400" y="3200400"/>
            <a:ext cx="2808360" cy="13701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676520"/>
            <a:ext cx="2808360" cy="136980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5880" y="3124080"/>
            <a:ext cx="2808360" cy="13701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4648320"/>
            <a:ext cx="2808000" cy="136980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56000" y="5157720"/>
            <a:ext cx="865080" cy="122400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ie Objektiv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979640" y="4292640"/>
            <a:ext cx="2087640" cy="151272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Tempus Sans ITC"/>
              </a:rPr>
              <a:t>Stamm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Mein V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ier ist mein V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Vater hei</a:t>
            </a: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 Gom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is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Jahre 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wohnt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ooksvi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hat kurze schwarze Ha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nd braune Au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in Vater ist super!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990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Meine Mu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er ist meine Mut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Comic Sans MS"/>
              </a:rPr>
              <a:t>Meine Mutter hei</a:t>
            </a:r>
            <a:r>
              <a:rPr b="0" lang="el-GR" sz="31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1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 Morti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 ist 44 Jahre 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 wohnt 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e hat sehr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ng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latte Ha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ine Mutter ist sehr intelligent!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9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empus Sans ITC"/>
              </a:rPr>
              <a:t>Hast du einen Bruder</a:t>
            </a:r>
            <a:r>
              <a:rPr b="0" lang="en-US" sz="4400" spc="-1" strike="noStrike">
                <a:solidFill>
                  <a:srgbClr val="ffffcc"/>
                </a:solidFill>
                <a:latin typeface="Tempus Sans ITC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5280" y="1341360"/>
            <a:ext cx="2592360" cy="115092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ch habe einen Bru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Bruder hei</a:t>
            </a: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ug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Bruder ist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wohnt mit unseren Eltern in Spooksv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hat sehr kurze braune Haar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Er ist gro</a:t>
            </a:r>
            <a:r>
              <a:rPr b="0" lang="el-GR" sz="2800" spc="-1" strike="noStrike">
                <a:solidFill>
                  <a:srgbClr val="ffffcc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und ist ziemlich d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Und jetzt bist du dran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er ist ___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hei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 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ist ______ Jahre a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wohnt in  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hat______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_____________ ist __________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Mein Stammba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4005360"/>
            <a:ext cx="2592360" cy="2519280"/>
          </a:xfrm>
          <a:prstGeom prst="wedgeRoundRectCallout">
            <a:avLst>
              <a:gd name="adj1" fmla="val 65490"/>
              <a:gd name="adj2" fmla="val -12759"/>
              <a:gd name="adj3" fmla="val 16667"/>
            </a:avLst>
          </a:prstGeom>
          <a:solidFill>
            <a:srgbClr val="99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Ich hei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e Wednesday. Ich bin 13. Hier ist meine Famil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1123920"/>
            <a:ext cx="3140280" cy="131940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er ist meine Gro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u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e hei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Und jetzt bist du dran!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celebrity-family tree using famous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at Bu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ack Char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avid Beck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40360" y="29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32000" y="3284640"/>
            <a:ext cx="58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32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4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436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eter And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67640" y="371628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1964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659280" y="400536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4365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y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555640" y="4076640"/>
            <a:ext cx="8636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4365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CSeccombe</cp:lastModifiedBy>
  <dcterms:modified xsi:type="dcterms:W3CDTF">2007-07-11T13:31:29Z</dcterms:modified>
  <cp:revision>13</cp:revision>
  <dc:subject/>
  <dc:title>Ma famille  Gomez c’est mon père Morticia c’est ma mère Friday c’est ma soeur Pugsley c’est mon frère  </dc:title>
</cp:coreProperties>
</file>