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4D1-E417-4C92-A5A4-45108709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64F-7799-4F4D-9445-6C62F53C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F8B-E499-4B4F-8EAA-4CF2E61D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D67-BFEE-45F9-AB36-7E382405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462-62A7-4969-8999-C6B05F9F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25A-6AEA-4CB2-A0E2-B3154644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B68-A83E-4740-A372-6C9C10F6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E89-F650-43F5-96F5-E15F3185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AB9-69F7-412C-A291-FC809991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8A7-9072-440B-90E5-14157BD7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454-78B2-4C11-98E4-9CA92889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AC5-D7F0-4A0A-95B4-EB9FCF13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E304-6ED0-4FE2-86E5-79CEFA6DB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196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ittwoch den 22sten 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är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7200720" cy="3816360"/>
          </a:xfrm>
          <a:prstGeom prst="rect">
            <a:avLst/>
          </a:prstGeom>
          <a:noFill/>
          <a:ln cap="rnd" w="60480">
            <a:solidFill>
              <a:srgbClr val="ff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99"/>
                </a:solidFill>
                <a:uFillTx/>
                <a:latin typeface="Arial"/>
              </a:rPr>
              <a:t>Today’s Language Focu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öchtest du +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Today’s Them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Arranging to go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1655640" cy="1038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8000"/>
                </a:solidFill>
                <a:uFillTx/>
                <a:latin typeface="Comic Sans MS"/>
              </a:rPr>
              <a:t>Ihr schreibt jetzt Rollenspiel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564000" y="3646440"/>
            <a:ext cx="1722240" cy="3167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88000" y="1700280"/>
            <a:ext cx="3960720" cy="1873080"/>
          </a:xfrm>
          <a:prstGeom prst="wedgeEllipseCallout">
            <a:avLst>
              <a:gd name="adj1" fmla="val -48958"/>
              <a:gd name="adj2" fmla="val 1046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Ja, bis dann! Tsch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üs!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844640"/>
            <a:ext cx="3600720" cy="2376360"/>
          </a:xfrm>
          <a:prstGeom prst="wedgeEllipseCallout">
            <a:avLst>
              <a:gd name="adj1" fmla="val 36199"/>
              <a:gd name="adj2" fmla="val 582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Comic Sans MS"/>
              </a:rPr>
              <a:t>Alles klar! Bis Monta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empus Sans ITC"/>
              </a:rPr>
              <a:t>Was machen wir heu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Tempus Sans ITC"/>
              </a:rPr>
              <a:t>Use the new phrases by categorising 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Tempus Sans ITC"/>
              </a:rPr>
              <a:t>Accessing new text by finding German phr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Tempus Sans ITC"/>
              </a:rPr>
              <a:t>Writing and performing a role play with a part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99"/>
                </a:solidFill>
                <a:uFillTx/>
                <a:latin typeface="Arial Rounded MT Bold"/>
              </a:rPr>
              <a:t>Put these in order of your pre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84280"/>
            <a:ext cx="417672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1. 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öchtest du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schwimmen ge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1484280"/>
            <a:ext cx="417672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2. 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öchtest du tanz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ge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2565360"/>
            <a:ext cx="417672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3. 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öchtest du zur Schul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ge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2565360"/>
            <a:ext cx="417672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4. 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öchtest du ins Ki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ge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3716280"/>
            <a:ext cx="417672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5. 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öchtest du Radfahr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3716280"/>
            <a:ext cx="417672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6. 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öchtest du Fuß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spiel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4797360"/>
            <a:ext cx="417672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7. 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öchtest du 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Computer spiel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3280" y="4797360"/>
            <a:ext cx="417672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8. 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öchtest du fernse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Arial Rounded MT Bold"/>
              </a:rPr>
              <a:t>Wie hei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Rounded MT Bold"/>
                <a:ea typeface="Arial"/>
              </a:rPr>
              <a:t>ßt es auf Deutsch?</a:t>
            </a:r>
            <a:br>
              <a:rPr sz="3200"/>
            </a:b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Rounded MT Bold"/>
                <a:ea typeface="Arial"/>
              </a:rPr>
              <a:t>Findet die Phrasen auf Seite 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uld you like to play tenn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en shall we m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 Saturday at seven o’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il th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ve you got plans on Satu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8000" y="20606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Arial"/>
              </a:rPr>
              <a:t>öchtest du Tennis spi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314172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Wann treffen wir u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42926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Am Samstag um sieben Uh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8000" y="522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Bis dan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62784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Hast du am Samstag Zeit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8000"/>
                </a:solidFill>
                <a:uFillTx/>
                <a:latin typeface="Comic Sans MS"/>
              </a:rPr>
              <a:t>Ihr schreibt jetzt Rollenspiel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564000" y="3646440"/>
            <a:ext cx="1722240" cy="31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1700280"/>
            <a:ext cx="3960720" cy="1873080"/>
          </a:xfrm>
          <a:prstGeom prst="wedgeEllipseCallout">
            <a:avLst>
              <a:gd name="adj1" fmla="val -48958"/>
              <a:gd name="adj2" fmla="val 1046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Nein, Fu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ßball mag ich n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844640"/>
            <a:ext cx="3456000" cy="2232000"/>
          </a:xfrm>
          <a:prstGeom prst="wedgeEllipseCallout">
            <a:avLst>
              <a:gd name="adj1" fmla="val 35620"/>
              <a:gd name="adj2" fmla="val 65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Comic Sans MS"/>
              </a:rPr>
              <a:t>Hallo Stefan! M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Arial"/>
              </a:rPr>
              <a:t>öchtest du Fußball spi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8000"/>
                </a:solidFill>
                <a:uFillTx/>
                <a:latin typeface="Comic Sans MS"/>
              </a:rPr>
              <a:t>Ihr schreibt jetzt Rollenspiel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564000" y="3646440"/>
            <a:ext cx="1722240" cy="3167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788000" y="1700280"/>
            <a:ext cx="3960720" cy="1873080"/>
          </a:xfrm>
          <a:prstGeom prst="wedgeEllipseCallout">
            <a:avLst>
              <a:gd name="adj1" fmla="val -48958"/>
              <a:gd name="adj2" fmla="val 1046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Nein, Rugb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 finde ich anstreng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1844640"/>
            <a:ext cx="3456000" cy="2232000"/>
          </a:xfrm>
          <a:prstGeom prst="wedgeEllipseCallout">
            <a:avLst>
              <a:gd name="adj1" fmla="val 35620"/>
              <a:gd name="adj2" fmla="val 65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Comic Sans MS"/>
              </a:rPr>
              <a:t>Ach ja! M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Arial"/>
              </a:rPr>
              <a:t>öchtest du Rugby spi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8000"/>
                </a:solidFill>
                <a:uFillTx/>
                <a:latin typeface="Comic Sans MS"/>
              </a:rPr>
              <a:t>Ihr schreibt jetzt Rollenspiel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564000" y="3646440"/>
            <a:ext cx="1722240" cy="3167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88000" y="1700280"/>
            <a:ext cx="3960720" cy="1873080"/>
          </a:xfrm>
          <a:prstGeom prst="wedgeEllipseCallout">
            <a:avLst>
              <a:gd name="adj1" fmla="val -48958"/>
              <a:gd name="adj2" fmla="val 1046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Nein, Karte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 finde ich langweil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1844640"/>
            <a:ext cx="3456000" cy="2232000"/>
          </a:xfrm>
          <a:prstGeom prst="wedgeEllipseCallout">
            <a:avLst>
              <a:gd name="adj1" fmla="val 35620"/>
              <a:gd name="adj2" fmla="val 65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Comic Sans MS"/>
              </a:rPr>
              <a:t>Oh Mann! M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Arial"/>
              </a:rPr>
              <a:t>öchtest du Karten spi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8000"/>
                </a:solidFill>
                <a:uFillTx/>
                <a:latin typeface="Comic Sans MS"/>
              </a:rPr>
              <a:t>Ihr schreibt jetzt Rollenspiel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564000" y="3646440"/>
            <a:ext cx="1722240" cy="3167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788000" y="1700280"/>
            <a:ext cx="3960720" cy="1873080"/>
          </a:xfrm>
          <a:prstGeom prst="wedgeEllipseCallout">
            <a:avLst>
              <a:gd name="adj1" fmla="val -48958"/>
              <a:gd name="adj2" fmla="val 1046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Ja, ich liebe fernsehen!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844640"/>
            <a:ext cx="3600720" cy="2376360"/>
          </a:xfrm>
          <a:prstGeom prst="wedgeEllipseCallout">
            <a:avLst>
              <a:gd name="adj1" fmla="val 36199"/>
              <a:gd name="adj2" fmla="val 582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Comic Sans MS"/>
              </a:rPr>
              <a:t>Du bist schwierig! M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Arial"/>
              </a:rPr>
              <a:t>öchtest du fernse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8000"/>
                </a:solidFill>
                <a:uFillTx/>
                <a:latin typeface="Comic Sans MS"/>
              </a:rPr>
              <a:t>Ihr schreibt jetzt Rollenspiel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564000" y="3646440"/>
            <a:ext cx="1722240" cy="3167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788000" y="1700280"/>
            <a:ext cx="3960720" cy="1873080"/>
          </a:xfrm>
          <a:prstGeom prst="wedgeEllipseCallout">
            <a:avLst>
              <a:gd name="adj1" fmla="val -48958"/>
              <a:gd name="adj2" fmla="val 1046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m Montag um vier Uhr?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844640"/>
            <a:ext cx="3600720" cy="2376360"/>
          </a:xfrm>
          <a:prstGeom prst="wedgeEllipseCallout">
            <a:avLst>
              <a:gd name="adj1" fmla="val 36199"/>
              <a:gd name="adj2" fmla="val 582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Comic Sans MS"/>
              </a:rPr>
              <a:t>Super! Wann treffen wir u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9:11:41Z</dcterms:created>
  <dc:creator>Eleanor Abrahams </dc:creator>
  <dc:description/>
  <dc:language>en-US</dc:language>
  <cp:lastModifiedBy>CSeccombe</cp:lastModifiedBy>
  <dcterms:modified xsi:type="dcterms:W3CDTF">2007-07-11T13:42:18Z</dcterms:modified>
  <cp:revision>8</cp:revision>
  <dc:subject/>
  <dc:title>Dienstag den 21sten März</dc:title>
</cp:coreProperties>
</file>