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0.wmf" ContentType="image/x-wmf"/>
  <Override PartName="/ppt/media/image22.gif" ContentType="image/gif"/>
  <Override PartName="/ppt/media/image12.gif" ContentType="image/gif"/>
  <Override PartName="/ppt/media/image7.gif" ContentType="image/gif"/>
  <Override PartName="/ppt/media/image18.wmf" ContentType="image/x-wmf"/>
  <Override PartName="/ppt/media/image20.wmf" ContentType="image/x-wmf"/>
  <Override PartName="/ppt/media/image9.wmf" ContentType="image/x-wmf"/>
  <Override PartName="/ppt/media/image14.png" ContentType="image/png"/>
  <Override PartName="/ppt/media/image6.gif" ContentType="image/gif"/>
  <Override PartName="/ppt/media/image8.wmf" ContentType="image/x-wmf"/>
  <Override PartName="/ppt/media/image5.gif" ContentType="image/gif"/>
  <Override PartName="/ppt/media/image16.wmf" ContentType="image/x-wmf"/>
  <Override PartName="/ppt/media/image26.wmf" ContentType="image/x-wmf"/>
  <Override PartName="/ppt/media/image25.gif" ContentType="image/gif"/>
  <Override PartName="/ppt/media/image24.gif" ContentType="image/gif"/>
  <Override PartName="/ppt/media/image21.gif" ContentType="image/gif"/>
  <Override PartName="/ppt/media/image15.wmf" ContentType="image/x-wmf"/>
  <Override PartName="/ppt/media/image4.gif" ContentType="image/gif"/>
  <Override PartName="/ppt/media/image19.wmf" ContentType="image/x-wmf"/>
  <Override PartName="/ppt/media/image1.wmf" ContentType="image/x-wmf"/>
  <Override PartName="/ppt/media/image17.gif" ContentType="image/gif"/>
  <Override PartName="/ppt/media/image2.wmf" ContentType="image/x-wmf"/>
  <Override PartName="/ppt/media/image3.gif" ContentType="image/gif"/>
  <Override PartName="/ppt/media/image23.gif" ContentType="image/gif"/>
  <Override PartName="/ppt/media/image11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D51-4977-44B0-A154-5783516A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824-FA8C-47D1-8EAD-33E957CE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467-1382-49B7-B2A0-8D4E50B1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346-4223-46E1-A227-6122DED7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3872-FED5-4D67-97A1-1D50F450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A64F-4227-453D-B4FE-ACC0048E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283F-2CAF-42C4-BC68-742A9F92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0A0-8048-48BB-984D-786052A7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D7B-D2A3-493F-9B18-82E90ED6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6F18-8482-4452-AFF0-D8AAC489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22F-EE3A-4070-ABC6-C183163F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F7E9-F0D5-4CD0-9179-A3B801C1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7967-48C3-4279-BD0A-28B315DA0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image" Target="../media/image14.png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hyperlink" Target="http://www.sunderlandschools.org/mfl-sunderland" TargetMode="External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15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8.wmf"/><Relationship Id="rId12" Type="http://schemas.openxmlformats.org/officeDocument/2006/relationships/image" Target="../media/image18.wmf"/><Relationship Id="rId13" Type="http://schemas.openxmlformats.org/officeDocument/2006/relationships/image" Target="../media/image18.wmf"/><Relationship Id="rId14" Type="http://schemas.openxmlformats.org/officeDocument/2006/relationships/image" Target="../media/image16.wmf"/><Relationship Id="rId15" Type="http://schemas.openxmlformats.org/officeDocument/2006/relationships/image" Target="../media/image16.wmf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9.wmf"/><Relationship Id="rId3" Type="http://schemas.openxmlformats.org/officeDocument/2006/relationships/image" Target="../media/image3.gif"/><Relationship Id="rId4" Type="http://schemas.openxmlformats.org/officeDocument/2006/relationships/image" Target="../media/image11.wmf"/><Relationship Id="rId5" Type="http://schemas.openxmlformats.org/officeDocument/2006/relationships/image" Target="../media/image20.wm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4.gif"/><Relationship Id="rId11" Type="http://schemas.openxmlformats.org/officeDocument/2006/relationships/image" Target="../media/image6.gif"/><Relationship Id="rId12" Type="http://schemas.openxmlformats.org/officeDocument/2006/relationships/image" Target="../media/image25.gif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9.wmf"/><Relationship Id="rId3" Type="http://schemas.openxmlformats.org/officeDocument/2006/relationships/image" Target="../media/image3.gif"/><Relationship Id="rId4" Type="http://schemas.openxmlformats.org/officeDocument/2006/relationships/image" Target="../media/image11.wmf"/><Relationship Id="rId5" Type="http://schemas.openxmlformats.org/officeDocument/2006/relationships/image" Target="../media/image20.wm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4.gif"/><Relationship Id="rId11" Type="http://schemas.openxmlformats.org/officeDocument/2006/relationships/image" Target="../media/image6.gif"/><Relationship Id="rId12" Type="http://schemas.openxmlformats.org/officeDocument/2006/relationships/image" Target="../media/image25.gif"/><Relationship Id="rId1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9.wmf"/><Relationship Id="rId3" Type="http://schemas.openxmlformats.org/officeDocument/2006/relationships/image" Target="../media/image3.gif"/><Relationship Id="rId4" Type="http://schemas.openxmlformats.org/officeDocument/2006/relationships/image" Target="../media/image11.wmf"/><Relationship Id="rId5" Type="http://schemas.openxmlformats.org/officeDocument/2006/relationships/image" Target="../media/image20.wm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4.gif"/><Relationship Id="rId11" Type="http://schemas.openxmlformats.org/officeDocument/2006/relationships/image" Target="../media/image6.gif"/><Relationship Id="rId12" Type="http://schemas.openxmlformats.org/officeDocument/2006/relationships/image" Target="../media/image25.gif"/><Relationship Id="rId1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Comic Sans MS"/>
              </a:rPr>
              <a:t>Was ist dein Hobby? - Re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125360"/>
            <a:ext cx="4176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88000" y="1197000"/>
            <a:ext cx="3960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1052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= Ich spiele T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92000" cy="627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1206720" cy="781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00000" y="2276640"/>
            <a:ext cx="768600" cy="676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042920" y="292428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900000" y="58053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900000" y="3716280"/>
            <a:ext cx="9352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900000" y="4941720"/>
            <a:ext cx="630360" cy="839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900000" y="4221000"/>
            <a:ext cx="492120" cy="646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508720" y="981000"/>
            <a:ext cx="939600" cy="71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5580000" y="1700280"/>
            <a:ext cx="662040" cy="725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5580000" y="2421000"/>
            <a:ext cx="598680" cy="596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508720" y="2997360"/>
            <a:ext cx="995400" cy="652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5435640" y="3500280"/>
            <a:ext cx="1441440" cy="88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5508720" y="4292640"/>
            <a:ext cx="645840" cy="620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5"/>
          <a:stretch/>
        </p:blipFill>
        <p:spPr>
          <a:xfrm>
            <a:off x="5508720" y="5013360"/>
            <a:ext cx="576000" cy="515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6"/>
          <a:stretch/>
        </p:blipFill>
        <p:spPr>
          <a:xfrm>
            <a:off x="5508720" y="5661000"/>
            <a:ext cx="477720" cy="641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17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00000" y="260280"/>
            <a:ext cx="7777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Was magst du?</a:t>
            </a:r>
            <a:br>
              <a:rPr sz="3600"/>
            </a:br>
            <a:r>
              <a:rPr b="0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Was magst du nicht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2205000"/>
            <a:ext cx="2764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comic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comic"/>
              <a:ea typeface="comic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640" y="3645000"/>
            <a:ext cx="27648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comic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comic"/>
              <a:ea typeface="comic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640" y="5229360"/>
            <a:ext cx="27648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comic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comic"/>
              <a:ea typeface="comic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716360" y="2133720"/>
            <a:ext cx="27648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comic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comic"/>
              <a:ea typeface="comic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716360" y="3573360"/>
            <a:ext cx="2764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comic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comic"/>
              <a:ea typeface="comic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16360" y="5157720"/>
            <a:ext cx="2764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comic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comic"/>
              <a:ea typeface="comic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2205000"/>
            <a:ext cx="72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3645000"/>
            <a:ext cx="72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58920" y="5157720"/>
            <a:ext cx="72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2133720"/>
            <a:ext cx="72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0" y="3573360"/>
            <a:ext cx="72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4000" y="5157720"/>
            <a:ext cx="72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35280" y="2205000"/>
            <a:ext cx="423720" cy="335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940360" y="2205000"/>
            <a:ext cx="424080" cy="335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012000" y="4149720"/>
            <a:ext cx="423720" cy="33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908000" y="2708280"/>
            <a:ext cx="384480" cy="50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012000" y="5013360"/>
            <a:ext cx="438120" cy="576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516720" y="1916280"/>
            <a:ext cx="792000" cy="707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1763640" y="4221000"/>
            <a:ext cx="936720" cy="60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5940360" y="3500280"/>
            <a:ext cx="936720" cy="606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5940360" y="5661000"/>
            <a:ext cx="720720" cy="500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1835280" y="5084640"/>
            <a:ext cx="720720" cy="500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1835280" y="3573360"/>
            <a:ext cx="649080" cy="563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2"/>
          <a:stretch/>
        </p:blipFill>
        <p:spPr>
          <a:xfrm>
            <a:off x="1835280" y="5589720"/>
            <a:ext cx="649080" cy="563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3"/>
          <a:stretch/>
        </p:blipFill>
        <p:spPr>
          <a:xfrm>
            <a:off x="6516720" y="4076640"/>
            <a:ext cx="649080" cy="563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4"/>
          <a:stretch/>
        </p:blipFill>
        <p:spPr>
          <a:xfrm>
            <a:off x="6012000" y="2637000"/>
            <a:ext cx="37620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5"/>
          <a:stretch/>
        </p:blipFill>
        <p:spPr>
          <a:xfrm>
            <a:off x="2411280" y="2133720"/>
            <a:ext cx="376200" cy="504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6"/>
          <a:stretch/>
        </p:blipFill>
        <p:spPr>
          <a:xfrm>
            <a:off x="2484360" y="5006880"/>
            <a:ext cx="719280" cy="642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12000" y="189000"/>
            <a:ext cx="2952720" cy="1800000"/>
          </a:xfrm>
          <a:custGeom>
            <a:avLst/>
            <a:gdLst>
              <a:gd name="textAreaLeft" fmla="*/ 673920 w 2952720"/>
              <a:gd name="textAreaRight" fmla="*/ 2278800 w 2952720"/>
              <a:gd name="textAreaTop" fmla="*/ 410760 h 1800000"/>
              <a:gd name="textAreaBottom" fmla="*/ 138924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ful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260280"/>
            <a:ext cx="8642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en-GB" sz="3300" spc="-1" strike="noStrike" u="sng">
                <a:solidFill>
                  <a:srgbClr val="ffffff"/>
                </a:solidFill>
                <a:uFillTx/>
                <a:latin typeface="Comic Sans MS"/>
              </a:rPr>
              <a:t>Welche andere Hobbys kann man haben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645000"/>
            <a:ext cx="41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99"/>
                </a:solidFill>
                <a:latin typeface="Comic Sans MS"/>
              </a:rPr>
              <a:t>1. Ich spiele gern Volley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789120" cy="865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1152360" cy="558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419640" y="1484280"/>
            <a:ext cx="912600" cy="804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932360" y="2637000"/>
            <a:ext cx="863640" cy="668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492360" y="2708280"/>
            <a:ext cx="762120" cy="598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6443640" y="14130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1692360" y="1413000"/>
            <a:ext cx="1008000" cy="960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4932360" y="1557360"/>
            <a:ext cx="954000" cy="576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7667640" y="1413000"/>
            <a:ext cx="701640" cy="93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7885080" y="2492280"/>
            <a:ext cx="768240" cy="91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6227640" y="2637000"/>
            <a:ext cx="1309680" cy="664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2360" y="407664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2. Ich gehe gern Eislau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450864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3. Ich gehe gern schw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94172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4. Ich treibe Ka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37372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5. Ich spiele gern Gita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2"/>
          <a:stretch/>
        </p:blipFill>
        <p:spPr>
          <a:xfrm>
            <a:off x="1692360" y="2492280"/>
            <a:ext cx="934920" cy="935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003640" y="3645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7. Ich spiele gern Base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03640" y="407664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8. Ich gehe gern an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450864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9. Ich fahre gern Skate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494172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10. Ich gehe gern k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59280" y="537372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11. Ich gehe gern Rollschuhlau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7340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6. Ich fahre gern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73408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12. Ich gehe gern ta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4000" y="1413000"/>
            <a:ext cx="27288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19280" y="1341360"/>
            <a:ext cx="2728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76720" y="1413000"/>
            <a:ext cx="27288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0" y="1268280"/>
            <a:ext cx="2160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27640" y="1341360"/>
            <a:ext cx="2732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524720" y="1268280"/>
            <a:ext cx="2160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0920" y="2492280"/>
            <a:ext cx="28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692360" y="2492280"/>
            <a:ext cx="27288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03640" y="2565360"/>
            <a:ext cx="14436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0" y="2565360"/>
            <a:ext cx="14436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j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84720" y="2565360"/>
            <a:ext cx="2732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67640" y="2565360"/>
            <a:ext cx="7308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3645000"/>
            <a:ext cx="86364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7360" y="1647720"/>
            <a:ext cx="235080" cy="2202120"/>
          </a:xfrm>
          <a:custGeom>
            <a:avLst/>
            <a:gdLst/>
            <a:ahLst/>
            <a:rect l="l" t="t" r="r" b="b"/>
            <a:pathLst>
              <a:path w="148" h="1387">
                <a:moveTo>
                  <a:pt x="103" y="1387"/>
                </a:moveTo>
                <a:cubicBezTo>
                  <a:pt x="117" y="1343"/>
                  <a:pt x="101" y="1326"/>
                  <a:pt x="84" y="1285"/>
                </a:cubicBezTo>
                <a:cubicBezTo>
                  <a:pt x="61" y="1228"/>
                  <a:pt x="47" y="1167"/>
                  <a:pt x="28" y="1108"/>
                </a:cubicBezTo>
                <a:cubicBezTo>
                  <a:pt x="11" y="967"/>
                  <a:pt x="23" y="810"/>
                  <a:pt x="56" y="671"/>
                </a:cubicBezTo>
                <a:cubicBezTo>
                  <a:pt x="53" y="625"/>
                  <a:pt x="52" y="578"/>
                  <a:pt x="47" y="532"/>
                </a:cubicBezTo>
                <a:cubicBezTo>
                  <a:pt x="45" y="512"/>
                  <a:pt x="32" y="495"/>
                  <a:pt x="28" y="476"/>
                </a:cubicBezTo>
                <a:cubicBezTo>
                  <a:pt x="17" y="424"/>
                  <a:pt x="8" y="370"/>
                  <a:pt x="0" y="318"/>
                </a:cubicBezTo>
                <a:cubicBezTo>
                  <a:pt x="3" y="275"/>
                  <a:pt x="5" y="231"/>
                  <a:pt x="10" y="188"/>
                </a:cubicBezTo>
                <a:cubicBezTo>
                  <a:pt x="15" y="150"/>
                  <a:pt x="43" y="133"/>
                  <a:pt x="65" y="105"/>
                </a:cubicBezTo>
                <a:cubicBezTo>
                  <a:pt x="148" y="0"/>
                  <a:pt x="72" y="82"/>
                  <a:pt x="121" y="3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0920" y="260280"/>
            <a:ext cx="8642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en-GB" sz="3300" spc="-1" strike="noStrike" u="sng">
                <a:solidFill>
                  <a:srgbClr val="ffffff"/>
                </a:solidFill>
                <a:uFillTx/>
                <a:latin typeface="Comic Sans MS"/>
              </a:rPr>
              <a:t>Welche andere Hobbys kann man haben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060640"/>
            <a:ext cx="21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1. Ich spiele gern Volley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788760" cy="865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1152360" cy="558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859280" y="1268280"/>
            <a:ext cx="912960" cy="804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003640" y="4869000"/>
            <a:ext cx="863640" cy="668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468360" y="5013360"/>
            <a:ext cx="762120" cy="598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95280" y="31417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2556000" y="1197000"/>
            <a:ext cx="1008000" cy="960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7093080" y="1413000"/>
            <a:ext cx="954000" cy="57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2556000" y="3068640"/>
            <a:ext cx="701640" cy="93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7308720" y="4724280"/>
            <a:ext cx="768600" cy="916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>
            <a:off x="2700360" y="5013360"/>
            <a:ext cx="1309680" cy="665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8000" y="573408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2. Ich gehe gern Eislau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6920" y="5751360"/>
            <a:ext cx="26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3. Ich gehe gern schw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59640" y="566100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4. Ich treibe gern Ka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206064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5. Ich spiele gern Gita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7236000" y="292428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211640" y="393372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7. Ich spiele gern Base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393372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8. Ich gehe gern an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32720" y="3860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9. Ich fahre gern Skate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59640" y="2060640"/>
            <a:ext cx="22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0. Ich gehe gern k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0360" y="2060640"/>
            <a:ext cx="230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1. Ich gehe gern Rollschuhlau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573408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6. Ich fahre gern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4005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12. Ich gehe gern ta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79280" y="1197000"/>
            <a:ext cx="2732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411280" y="1197000"/>
            <a:ext cx="2732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716360" y="1268280"/>
            <a:ext cx="2732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732720" y="1197000"/>
            <a:ext cx="21564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9280" y="3068640"/>
            <a:ext cx="2732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68360" y="3068640"/>
            <a:ext cx="2160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284720" y="3068640"/>
            <a:ext cx="28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04000" y="2997360"/>
            <a:ext cx="27324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5013360"/>
            <a:ext cx="14472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68360" y="5013360"/>
            <a:ext cx="14472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j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0" y="4869000"/>
            <a:ext cx="27288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77080" y="4797360"/>
            <a:ext cx="7308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0920" y="260280"/>
            <a:ext cx="8642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en-GB" sz="3300" spc="-1" strike="noStrike" u="sng">
                <a:solidFill>
                  <a:srgbClr val="ffffff"/>
                </a:solidFill>
                <a:uFillTx/>
                <a:latin typeface="Comic Sans MS"/>
              </a:rPr>
              <a:t>Welche andere Hobbys kann man haben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0606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788760" cy="865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1152360" cy="558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859280" y="1268280"/>
            <a:ext cx="912960" cy="804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003640" y="4869000"/>
            <a:ext cx="863640" cy="668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68360" y="5013360"/>
            <a:ext cx="76212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395280" y="31417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2556000" y="1197000"/>
            <a:ext cx="1008000" cy="960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7093080" y="1413000"/>
            <a:ext cx="954000" cy="576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2556000" y="3068640"/>
            <a:ext cx="701640" cy="934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7308720" y="4724280"/>
            <a:ext cx="768600" cy="916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2700360" y="5013360"/>
            <a:ext cx="1309680" cy="665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8000" y="57340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66920" y="5751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59640" y="5661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206064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7236000" y="292428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211640" y="3933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0920" y="3933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32720" y="3860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59640" y="2060640"/>
            <a:ext cx="22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40360" y="2060640"/>
            <a:ext cx="23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6360" y="57340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40053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Comic Sans MS"/>
              </a:rPr>
              <a:t>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9280" y="1197000"/>
            <a:ext cx="2732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411280" y="1197000"/>
            <a:ext cx="2732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716360" y="1268280"/>
            <a:ext cx="2732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732720" y="1197000"/>
            <a:ext cx="21564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79280" y="3068640"/>
            <a:ext cx="2732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68360" y="3068640"/>
            <a:ext cx="2160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284720" y="3068640"/>
            <a:ext cx="28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04000" y="2997360"/>
            <a:ext cx="27324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79280" y="5013360"/>
            <a:ext cx="14472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268360" y="5013360"/>
            <a:ext cx="14472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j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0" y="4869000"/>
            <a:ext cx="27288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77080" y="4797360"/>
            <a:ext cx="7308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bby 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245916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ch sp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ch tre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ch 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ö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ich ge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ich fah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6360" y="1773360"/>
            <a:ext cx="251928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/sie spi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/sie trei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/sie 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ö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er/sie ge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er/sie 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ä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h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1773360"/>
            <a:ext cx="295272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r/sie spi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r/sie trei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r/sie 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ö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ir/sie ge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ir/sie 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227640" y="981000"/>
            <a:ext cx="136872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plural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547640" y="1125360"/>
            <a:ext cx="71640" cy="43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564000" y="981000"/>
            <a:ext cx="136836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he/she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4437000"/>
            <a:ext cx="6985080" cy="22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h spiele ger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ike 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h treibe ger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ike 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h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öre ge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 like listening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ich gehe ger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I like 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ich fahre ger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I like going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(wheel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50920" y="260280"/>
            <a:ext cx="8642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en-GB" sz="3300" spc="-1" strike="noStrike" u="sng">
                <a:solidFill>
                  <a:srgbClr val="ffffff"/>
                </a:solidFill>
                <a:uFillTx/>
                <a:latin typeface="Comic Sans MS"/>
              </a:rPr>
              <a:t>Welche andere Hobbys kann man haben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1916280"/>
            <a:ext cx="69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 Und jetzt sehen wir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Wie viel hast du heute geler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780000" y="3789360"/>
          <a:ext cx="1655640" cy="1012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789360"/>
                    <a:ext cx="165564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15:13:31Z</dcterms:created>
  <dc:creator>Eleanor Abrahams </dc:creator>
  <dc:description/>
  <dc:language>en-US</dc:language>
  <cp:lastModifiedBy>CSeccombe</cp:lastModifiedBy>
  <dcterms:modified xsi:type="dcterms:W3CDTF">2007-07-11T13:45:19Z</dcterms:modified>
  <cp:revision>36</cp:revision>
  <dc:subject/>
  <dc:title>Was ist dein Hobby?</dc:title>
</cp:coreProperties>
</file>