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wmf" ContentType="image/x-wmf"/>
  <Override PartName="/ppt/media/image22.gif" ContentType="image/gif"/>
  <Override PartName="/ppt/media/image12.gif" ContentType="image/gif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14.png" ContentType="image/png"/>
  <Override PartName="/ppt/media/image6.gif" ContentType="image/gif"/>
  <Override PartName="/ppt/media/image8.wmf" ContentType="image/x-wmf"/>
  <Override PartName="/ppt/media/image5.gif" ContentType="image/gif"/>
  <Override PartName="/ppt/media/image16.wmf" ContentType="image/x-wmf"/>
  <Override PartName="/ppt/media/image26.wmf" ContentType="image/x-wmf"/>
  <Override PartName="/ppt/media/image25.gif" ContentType="image/gif"/>
  <Override PartName="/ppt/media/image24.gif" ContentType="image/gif"/>
  <Override PartName="/ppt/media/image21.gif" ContentType="image/gif"/>
  <Override PartName="/ppt/media/image15.wmf" ContentType="image/x-wmf"/>
  <Override PartName="/ppt/media/image4.gif" ContentType="image/gif"/>
  <Override PartName="/ppt/media/image19.wmf" ContentType="image/x-wmf"/>
  <Override PartName="/ppt/media/image1.wmf" ContentType="image/x-wmf"/>
  <Override PartName="/ppt/media/image17.gif" ContentType="image/gif"/>
  <Override PartName="/ppt/media/image2.wmf" ContentType="image/x-wmf"/>
  <Override PartName="/ppt/media/image3.gif" ContentType="image/gif"/>
  <Override PartName="/ppt/media/image23.gif" ContentType="image/gif"/>
  <Override PartName="/ppt/media/image1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025-53D6-4DCF-8D0E-022DAC59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EB9-CF16-4203-A0D7-8E86333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254-097F-4CD5-86E7-9B7B1F9D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DE3-ACD2-4C46-8AC8-85740747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03E-6981-494F-91EF-9B9D82D6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1E6-7519-4F2F-B87F-42F49B30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658-50D3-4A1B-B00F-DF422EAD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B8B-FCA8-48D0-A0EE-45CF1B08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6F9-0E37-4DEE-9854-9341F9FC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FAF-91C9-4F60-AA83-38D04ED3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FC3-3E82-408C-91D9-CAC77E4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4DE-691E-48C1-9E70-913ABA1C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7C82-71B0-4171-AB69-7EC4D4546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png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hyperlink" Target="http://www.sunderlandschools.org/mfl-sunderland" TargetMode="External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5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wmf"/><Relationship Id="rId12" Type="http://schemas.openxmlformats.org/officeDocument/2006/relationships/image" Target="../media/image18.wmf"/><Relationship Id="rId13" Type="http://schemas.openxmlformats.org/officeDocument/2006/relationships/image" Target="../media/image18.wmf"/><Relationship Id="rId14" Type="http://schemas.openxmlformats.org/officeDocument/2006/relationships/image" Target="../media/image16.wmf"/><Relationship Id="rId15" Type="http://schemas.openxmlformats.org/officeDocument/2006/relationships/image" Target="../media/image16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9.wmf"/><Relationship Id="rId3" Type="http://schemas.openxmlformats.org/officeDocument/2006/relationships/image" Target="../media/image3.gif"/><Relationship Id="rId4" Type="http://schemas.openxmlformats.org/officeDocument/2006/relationships/image" Target="../media/image11.wmf"/><Relationship Id="rId5" Type="http://schemas.openxmlformats.org/officeDocument/2006/relationships/image" Target="../media/image20.wm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9.wmf"/><Relationship Id="rId3" Type="http://schemas.openxmlformats.org/officeDocument/2006/relationships/image" Target="../media/image3.gif"/><Relationship Id="rId4" Type="http://schemas.openxmlformats.org/officeDocument/2006/relationships/image" Target="../media/image11.wmf"/><Relationship Id="rId5" Type="http://schemas.openxmlformats.org/officeDocument/2006/relationships/image" Target="../media/image20.wm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9.wmf"/><Relationship Id="rId3" Type="http://schemas.openxmlformats.org/officeDocument/2006/relationships/image" Target="../media/image3.gif"/><Relationship Id="rId4" Type="http://schemas.openxmlformats.org/officeDocument/2006/relationships/image" Target="../media/image11.wmf"/><Relationship Id="rId5" Type="http://schemas.openxmlformats.org/officeDocument/2006/relationships/image" Target="../media/image20.wm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Was ist dein Hobby? -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125360"/>
            <a:ext cx="4176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1197000"/>
            <a:ext cx="3960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052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= Ich spiele T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2000" cy="62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1206720" cy="781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768600" cy="67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042920" y="292428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00000" y="58053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900000" y="3716280"/>
            <a:ext cx="9352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900000" y="4941720"/>
            <a:ext cx="630360" cy="83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900000" y="4221000"/>
            <a:ext cx="492120" cy="64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508720" y="981000"/>
            <a:ext cx="939600" cy="71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5580000" y="1700280"/>
            <a:ext cx="662040" cy="72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5580000" y="2421000"/>
            <a:ext cx="598680" cy="59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508720" y="2997360"/>
            <a:ext cx="995400" cy="65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5435640" y="3500280"/>
            <a:ext cx="1441440" cy="88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5508720" y="4292640"/>
            <a:ext cx="645840" cy="62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5508720" y="5013360"/>
            <a:ext cx="576000" cy="51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5508720" y="5661000"/>
            <a:ext cx="477720" cy="641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7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260280"/>
            <a:ext cx="7777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Was magst du?</a:t>
            </a:r>
            <a:br>
              <a:rPr sz="3600"/>
            </a:br>
            <a:r>
              <a:rPr b="0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Was magst du nich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2205000"/>
            <a:ext cx="2764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3645000"/>
            <a:ext cx="2764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5229360"/>
            <a:ext cx="2764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16360" y="2133720"/>
            <a:ext cx="2764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16360" y="3573360"/>
            <a:ext cx="2764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16360" y="5157720"/>
            <a:ext cx="2764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220500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364500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515772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213372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357336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515772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423720" cy="3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424080" cy="335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12000" y="4149720"/>
            <a:ext cx="423720" cy="33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908000" y="2708280"/>
            <a:ext cx="38448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012000" y="5013360"/>
            <a:ext cx="43812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516720" y="1916280"/>
            <a:ext cx="792000" cy="70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763640" y="4221000"/>
            <a:ext cx="936720" cy="6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5940360" y="3500280"/>
            <a:ext cx="936720" cy="606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940360" y="5661000"/>
            <a:ext cx="720720" cy="500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1835280" y="5084640"/>
            <a:ext cx="720720" cy="500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1835280" y="3573360"/>
            <a:ext cx="649080" cy="563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1835280" y="5589720"/>
            <a:ext cx="649080" cy="563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6516720" y="4076640"/>
            <a:ext cx="649080" cy="563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6012000" y="2637000"/>
            <a:ext cx="37620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2411280" y="2133720"/>
            <a:ext cx="376200" cy="50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2484360" y="5006880"/>
            <a:ext cx="719280" cy="642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12000" y="189000"/>
            <a:ext cx="2952720" cy="1800000"/>
          </a:xfrm>
          <a:custGeom>
            <a:avLst/>
            <a:gdLst>
              <a:gd name="textAreaLeft" fmla="*/ 673920 w 2952720"/>
              <a:gd name="textAreaRight" fmla="*/ 2278800 w 2952720"/>
              <a:gd name="textAreaTop" fmla="*/ 410760 h 1800000"/>
              <a:gd name="textAreaBottom" fmla="*/ 138924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ful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26028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Welche andere Hobbys kann man habe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64500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Comic Sans MS"/>
              </a:rPr>
              <a:t>1. Ich spiele gern Volley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89120" cy="86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152360" cy="558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419640" y="1484280"/>
            <a:ext cx="912600" cy="804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932360" y="2637000"/>
            <a:ext cx="863640" cy="6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492360" y="2708280"/>
            <a:ext cx="762120" cy="59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443640" y="14130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692360" y="141300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932360" y="1557360"/>
            <a:ext cx="954000" cy="5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667640" y="1413000"/>
            <a:ext cx="70164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885080" y="2492280"/>
            <a:ext cx="768240" cy="91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6227640" y="2637000"/>
            <a:ext cx="1309680" cy="664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2360" y="4076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2. Ich gehe gern Eis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3. Ich gehe gern schw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941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4. Ich treibe K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373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5. Ich spiele gern Gita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1692360" y="249228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03640" y="3645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7. Ich spiele gern Base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07664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8. Ich gehe gern an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450864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9. Ich fahre gern Ska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9417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0. Ich gehe gern k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9280" y="53737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1. Ich gehe gern Rollschuh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340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6. Ich fahre ger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7340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2. Ich gehe gern t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1413000"/>
            <a:ext cx="2728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19280" y="1341360"/>
            <a:ext cx="272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76720" y="1413000"/>
            <a:ext cx="2728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0" y="1268280"/>
            <a:ext cx="216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27640" y="134136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24720" y="1268280"/>
            <a:ext cx="216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920" y="2492280"/>
            <a:ext cx="28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92360" y="2492280"/>
            <a:ext cx="27288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3640" y="2565360"/>
            <a:ext cx="144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2565360"/>
            <a:ext cx="144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84720" y="256536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67640" y="2565360"/>
            <a:ext cx="7308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645000"/>
            <a:ext cx="8636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360" y="1647720"/>
            <a:ext cx="235080" cy="2202120"/>
          </a:xfrm>
          <a:custGeom>
            <a:avLst/>
            <a:gdLst/>
            <a:ahLst/>
            <a:rect l="l" t="t" r="r" b="b"/>
            <a:pathLst>
              <a:path w="148" h="1387">
                <a:moveTo>
                  <a:pt x="103" y="1387"/>
                </a:moveTo>
                <a:cubicBezTo>
                  <a:pt x="117" y="1343"/>
                  <a:pt x="101" y="1326"/>
                  <a:pt x="84" y="1285"/>
                </a:cubicBezTo>
                <a:cubicBezTo>
                  <a:pt x="61" y="1228"/>
                  <a:pt x="47" y="1167"/>
                  <a:pt x="28" y="1108"/>
                </a:cubicBezTo>
                <a:cubicBezTo>
                  <a:pt x="11" y="967"/>
                  <a:pt x="23" y="810"/>
                  <a:pt x="56" y="671"/>
                </a:cubicBezTo>
                <a:cubicBezTo>
                  <a:pt x="53" y="625"/>
                  <a:pt x="52" y="578"/>
                  <a:pt x="47" y="532"/>
                </a:cubicBezTo>
                <a:cubicBezTo>
                  <a:pt x="45" y="512"/>
                  <a:pt x="32" y="495"/>
                  <a:pt x="28" y="476"/>
                </a:cubicBezTo>
                <a:cubicBezTo>
                  <a:pt x="17" y="424"/>
                  <a:pt x="8" y="370"/>
                  <a:pt x="0" y="318"/>
                </a:cubicBezTo>
                <a:cubicBezTo>
                  <a:pt x="3" y="275"/>
                  <a:pt x="5" y="231"/>
                  <a:pt x="10" y="188"/>
                </a:cubicBezTo>
                <a:cubicBezTo>
                  <a:pt x="15" y="150"/>
                  <a:pt x="43" y="133"/>
                  <a:pt x="65" y="105"/>
                </a:cubicBezTo>
                <a:cubicBezTo>
                  <a:pt x="148" y="0"/>
                  <a:pt x="72" y="82"/>
                  <a:pt x="121" y="3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26028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Welche andere Hobbys kann man habe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06064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1. Ich spiele gern Volley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88760" cy="86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1152360" cy="55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912960" cy="804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003640" y="4869000"/>
            <a:ext cx="863640" cy="668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68360" y="5013360"/>
            <a:ext cx="762120" cy="598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95280" y="31417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556000" y="119700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7093080" y="1413000"/>
            <a:ext cx="954000" cy="57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556000" y="3068640"/>
            <a:ext cx="701640" cy="93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7308720" y="4724280"/>
            <a:ext cx="76860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2700360" y="5013360"/>
            <a:ext cx="1309680" cy="66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8000" y="57340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2. Ich gehe gern Eis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575136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3. Ich gehe gern schw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566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4. Ich treibe gern K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06064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5. Ich spiele gern Gita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7236000" y="292428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11640" y="393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7. Ich spiele gern Base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39337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8. Ich gehe gern an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3860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9. Ich fahre gern Ska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9640" y="206064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0. Ich gehe gern k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2060640"/>
            <a:ext cx="23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1. Ich gehe gern Rollschuh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73408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6. Ich fahre ger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4005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2. Ich gehe gern t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280" y="119700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11280" y="1197000"/>
            <a:ext cx="2732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716360" y="126828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732720" y="1197000"/>
            <a:ext cx="2156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9280" y="306864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68360" y="3068640"/>
            <a:ext cx="216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4720" y="3068640"/>
            <a:ext cx="28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04000" y="2997360"/>
            <a:ext cx="27324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5013360"/>
            <a:ext cx="14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5013360"/>
            <a:ext cx="14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0" y="4869000"/>
            <a:ext cx="2728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77080" y="4797360"/>
            <a:ext cx="7308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26028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Welche andere Hobbys kann man habe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606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88760" cy="86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1152360" cy="558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912960" cy="804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003640" y="4869000"/>
            <a:ext cx="863640" cy="668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68360" y="5013360"/>
            <a:ext cx="76212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95280" y="31417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556000" y="119700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093080" y="1413000"/>
            <a:ext cx="95400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2556000" y="3068640"/>
            <a:ext cx="701640" cy="93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308720" y="4724280"/>
            <a:ext cx="768600" cy="916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2700360" y="5013360"/>
            <a:ext cx="1309680" cy="665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8000" y="57340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6920" y="5751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5661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060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7236000" y="292428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11640" y="3933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393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38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206064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0360" y="206064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57340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005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9280" y="119700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411280" y="1197000"/>
            <a:ext cx="2732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716360" y="126828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732720" y="1197000"/>
            <a:ext cx="2156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306864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68360" y="3068640"/>
            <a:ext cx="216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4720" y="3068640"/>
            <a:ext cx="28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04000" y="2997360"/>
            <a:ext cx="27324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5013360"/>
            <a:ext cx="14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68360" y="5013360"/>
            <a:ext cx="14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0" y="4869000"/>
            <a:ext cx="2728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77080" y="4797360"/>
            <a:ext cx="7308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bby 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245916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h 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h tre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h 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ö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ch ge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ch fah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1773360"/>
            <a:ext cx="251928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/sie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/sie trei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/sie 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ö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r/sie ge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r/sie 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ä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h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1773360"/>
            <a:ext cx="295272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/sie spi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/sie trei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/sie 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ö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ir/sie g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ir/sie 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27640" y="981000"/>
            <a:ext cx="1368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plura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47640" y="1125360"/>
            <a:ext cx="71640" cy="4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64000" y="981000"/>
            <a:ext cx="1368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he/sh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437000"/>
            <a:ext cx="6985080" cy="22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spiele ge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ke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treibe ge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k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öre g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 like listen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ch gehe ger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 like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ch fahre ger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 like going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(wheel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0920" y="26028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Welche andere Hobbys kann man habe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191628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 Und jetzt sehen wir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Wie viel hast du heute geler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780000" y="3789360"/>
          <a:ext cx="1655640" cy="101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789360"/>
                    <a:ext cx="165564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5:13:31Z</dcterms:created>
  <dc:creator>Eleanor Abrahams </dc:creator>
  <dc:description/>
  <dc:language>en-US</dc:language>
  <cp:lastModifiedBy>CSeccombe</cp:lastModifiedBy>
  <dcterms:modified xsi:type="dcterms:W3CDTF">2007-07-11T13:45:19Z</dcterms:modified>
  <cp:revision>36</cp:revision>
  <dc:subject/>
  <dc:title>Was ist dein Hobby?</dc:title>
</cp:coreProperties>
</file>