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0B7-D7F3-46C8-BF80-6804F9AD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ACC-E623-4E6E-93C5-BB796090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404-54A7-4BB9-B263-CA8B605A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BB2-07E6-43BD-8011-117E5822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B85-3414-4711-B49A-B35A7B76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6C0-83F7-404A-A205-F8062C50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7C5-6D38-42C1-9AA6-4FF0FA2D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BF0-776F-4002-ABAC-0C86A57F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788-7E9B-46AF-AEE7-6CD40557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0E0-C135-496F-9202-23FEC65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C26-CBF8-46B2-B440-88676A4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92E-D0C6-438C-9E92-2A1D4BF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CBE2-F999-4B3D-80D8-381B7E30D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Dienstag den 31sten Jan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Today’s Them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ing pers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6524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404640"/>
            <a:ext cx="3382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ie bist du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907920"/>
            <a:ext cx="6264360" cy="1727280"/>
          </a:xfrm>
          <a:prstGeom prst="wedgeEllipseCallout">
            <a:avLst>
              <a:gd name="adj1" fmla="val -53398"/>
              <a:gd name="adj2" fmla="val 61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Ich bin sportlich und kreativ, aber auch l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4000" y="3284640"/>
            <a:ext cx="403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ie ist dein Vat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3860640"/>
            <a:ext cx="6985080" cy="2089440"/>
          </a:xfrm>
          <a:prstGeom prst="wedgeEllipseCallout">
            <a:avLst>
              <a:gd name="adj1" fmla="val 53319"/>
              <a:gd name="adj2" fmla="val 2849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r ist ziemlich s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üchtern und sehr faul. Er ist auch musikali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Meine Fam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97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ie sind diese Personen? Findet </a:t>
            </a:r>
            <a:r>
              <a:rPr b="1" i="1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jektiven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in den Wörterbüchern und im Logo-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286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770040" cy="1046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2057400"/>
            <a:ext cx="1015920" cy="1522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705720" y="2209680"/>
            <a:ext cx="1062000" cy="90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743200" y="3733920"/>
            <a:ext cx="76212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572000" y="3733920"/>
            <a:ext cx="762120" cy="144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400800" y="3657600"/>
            <a:ext cx="990720" cy="1292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362320" y="54864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4495680" y="5410080"/>
            <a:ext cx="8226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609480" y="3657600"/>
            <a:ext cx="10112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Reca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you list the 9 adjectives we learned at the start of the lesson?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do you ask someone what their personality is like? (3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st 5 words that you didn’t know befor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s feh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r ____ lockige _______ und blaue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___ he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ßt Sylvia und ist elf ______ 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Ich ______ in Basingst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Er hat lange, ________, blonde Ha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Meine ________ ist laut und intelli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628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16257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162576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20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22017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h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278136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h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42576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ck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393372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16360" cy="604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356000" y="549360"/>
            <a:ext cx="44640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Beschreib die König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360" y="404640"/>
            <a:ext cx="3600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Viner Hand ITC"/>
              </a:rPr>
              <a:t>kreati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ffffff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692280"/>
            <a:ext cx="4103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risten ITC"/>
              </a:rPr>
              <a:t>intellige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7080" y="278136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net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68720" y="278136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okerman"/>
              </a:rPr>
              <a:t>lusti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26920" y="4149720"/>
            <a:ext cx="374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aiandra GD"/>
              </a:rPr>
              <a:t>schüchter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76720" y="4221000"/>
            <a:ext cx="316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oudy Stout"/>
              </a:rPr>
              <a:t>fa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404640"/>
            <a:ext cx="3600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Viner Hand ITC"/>
              </a:rPr>
              <a:t>kreati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ffffff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692280"/>
            <a:ext cx="4103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risten ITC"/>
              </a:rPr>
              <a:t>intellige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7080" y="278136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net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68720" y="278136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okerman"/>
              </a:rPr>
              <a:t>lusti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4149720"/>
            <a:ext cx="374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aiandra GD"/>
              </a:rPr>
              <a:t>schüchter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76720" y="4221000"/>
            <a:ext cx="316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oudy Stout"/>
              </a:rPr>
              <a:t>fa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4360" y="404640"/>
            <a:ext cx="3600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Viner Hand ITC"/>
              </a:rPr>
              <a:t>kreati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ffffff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56000" y="692280"/>
            <a:ext cx="4103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risten ITC"/>
              </a:rPr>
              <a:t>intellige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7080" y="278136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net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68720" y="278136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okerman"/>
              </a:rPr>
              <a:t>lusti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920" y="4149720"/>
            <a:ext cx="374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aiandra GD"/>
              </a:rPr>
              <a:t>schüchter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76720" y="4221000"/>
            <a:ext cx="316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oudy Stout"/>
              </a:rPr>
              <a:t>fa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4000" y="54936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Rounded MT Bold"/>
              </a:rPr>
              <a:t>sportl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640" y="3716280"/>
            <a:ext cx="453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nformal Roman"/>
              </a:rPr>
              <a:t>musikalisch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nformal Roman"/>
              <a:ea typeface="Informal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56000" y="2205000"/>
            <a:ext cx="345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oudy Stout"/>
              </a:rPr>
              <a:t>la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116000" y="692280"/>
            <a:ext cx="712800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o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ite 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r hö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Neue Adjet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pieren und auf Englisch schrei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Kannst du die 9 Adjektiven alphabetisch li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he Adjektiven sind positi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elche Adjektiven sind negati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8:26:44Z</dcterms:created>
  <dc:creator>Eleanor Abrahams </dc:creator>
  <dc:description/>
  <dc:language>en-US</dc:language>
  <cp:lastModifiedBy>CSeccombe</cp:lastModifiedBy>
  <dcterms:modified xsi:type="dcterms:W3CDTF">2007-07-11T12:58:48Z</dcterms:modified>
  <cp:revision>7</cp:revision>
  <dc:subject/>
  <dc:title>Dienstag den 31sten Januar</dc:title>
</cp:coreProperties>
</file>