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549-46B5-4B09-86A4-048A86E5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CE0-299D-4754-A008-3FC89DA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28D-83CC-43D5-BE83-6704C734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16F-F29A-4E2C-BE79-90E687E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838-66A2-453C-BDC8-F16F0D45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10F-C2A4-42FC-84ED-C73D864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449-8E1B-434F-B6E3-78BDD5FB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5AF-98EB-4772-8850-8E7646FA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B4D-5B2D-4CE9-9E05-A8D76D41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807-40E7-4E59-B5CF-F0DB7FE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DA7-252B-404B-9528-0BCE686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825-73C8-41D0-9C91-685A384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596F-6FC7-4900-BBD8-CED1343B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22.gif"/><Relationship Id="rId6" Type="http://schemas.openxmlformats.org/officeDocument/2006/relationships/image" Target="../media/image21.wmf"/><Relationship Id="rId7" Type="http://schemas.openxmlformats.org/officeDocument/2006/relationships/image" Target="../media/image5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7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20.jpeg"/><Relationship Id="rId8" Type="http://schemas.openxmlformats.org/officeDocument/2006/relationships/image" Target="../media/image12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7.wmf"/><Relationship Id="rId3" Type="http://schemas.openxmlformats.org/officeDocument/2006/relationships/image" Target="../media/image10.wmf"/><Relationship Id="rId4" Type="http://schemas.openxmlformats.org/officeDocument/2006/relationships/image" Target="../media/image15.wmf"/><Relationship Id="rId5" Type="http://schemas.openxmlformats.org/officeDocument/2006/relationships/image" Target="../media/image20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21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Die 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oday’s Language Foc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.g. ‘Was?’ ‘Welches?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20000" y="228600"/>
            <a:ext cx="17431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52520" cy="101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448000" cy="2320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2016000" cy="183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44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2720" y="2738520"/>
            <a:ext cx="51116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2864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58920" y="1628640"/>
            <a:ext cx="57636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1628640"/>
            <a:ext cx="2950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Ku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63280" cy="784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2637000"/>
            <a:ext cx="2951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5440" y="3587760"/>
            <a:ext cx="2950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4653000"/>
            <a:ext cx="2950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5589720"/>
            <a:ext cx="2950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754200" cy="86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1079640" cy="642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50920" y="5373720"/>
            <a:ext cx="934920" cy="86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1700280"/>
            <a:ext cx="1729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ut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dk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4005360"/>
            <a:ext cx="115092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1486080"/>
            <a:ext cx="309564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6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7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8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9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0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1. Das ist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92000" cy="75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936360" cy="80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008000" cy="734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5040360"/>
            <a:ext cx="936720" cy="423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24000" y="5589720"/>
            <a:ext cx="731520" cy="73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79280" y="3005280"/>
            <a:ext cx="936720" cy="85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00720" y="1486080"/>
            <a:ext cx="309564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2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3. Das ist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924360" y="1197000"/>
            <a:ext cx="747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995640" y="2276640"/>
            <a:ext cx="5540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7280" y="3429000"/>
            <a:ext cx="4537080" cy="302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lig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Geschich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nformatik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Theater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 Technolo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turwissenschaf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ranz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ösis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Engl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404640"/>
            <a:ext cx="0" cy="576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04640"/>
            <a:ext cx="0" cy="59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42560" y="213372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42560" y="422100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60280"/>
            <a:ext cx="718920" cy="792360"/>
          </a:xfrm>
          <a:prstGeom prst="donut">
            <a:avLst>
              <a:gd name="adj" fmla="val 1622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781200">
            <a:off x="228960" y="210960"/>
            <a:ext cx="765000" cy="720720"/>
          </a:xfrm>
          <a:prstGeom prst="plus">
            <a:avLst>
              <a:gd name="adj" fmla="val 4007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17080" y="1197000"/>
            <a:ext cx="495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orte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orte"/>
              <a:ea typeface="Fort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052640"/>
            <a:ext cx="360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Franklin Gothic Medium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Franklin Gothic Medium"/>
              <a:ea typeface="Franklin Gothic Medium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1800360" cy="164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1511280" cy="14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76720" y="436572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2089080" cy="1244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940360" y="2349360"/>
            <a:ext cx="158904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203640" y="692280"/>
            <a:ext cx="1873080" cy="1307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826920" y="4365720"/>
            <a:ext cx="1943280" cy="1554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149544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116000" y="620640"/>
            <a:ext cx="1727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59280" y="404640"/>
            <a:ext cx="0" cy="576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04640"/>
            <a:ext cx="0" cy="59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42560" y="213372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42560" y="422100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260280"/>
            <a:ext cx="718920" cy="792360"/>
          </a:xfrm>
          <a:prstGeom prst="donut">
            <a:avLst>
              <a:gd name="adj" fmla="val 1622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781200">
            <a:off x="228960" y="210960"/>
            <a:ext cx="765000" cy="720720"/>
          </a:xfrm>
          <a:prstGeom prst="plus">
            <a:avLst>
              <a:gd name="adj" fmla="val 4007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17080" y="1197000"/>
            <a:ext cx="495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orte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orte"/>
              <a:ea typeface="Fort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052640"/>
            <a:ext cx="360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Franklin Gothic Medium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Franklin Gothic Medium"/>
              <a:ea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64000" y="2349360"/>
            <a:ext cx="1800000" cy="164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0360" y="472428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1589040" cy="17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348000" y="476280"/>
            <a:ext cx="1943280" cy="1554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1495440" cy="165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5867280" y="2276640"/>
            <a:ext cx="2017800" cy="1866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276720" y="4653000"/>
            <a:ext cx="215892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1187280" y="549360"/>
            <a:ext cx="1584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404640"/>
            <a:ext cx="7201080" cy="590400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00360" y="1844640"/>
            <a:ext cx="37432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773440"/>
            <a:ext cx="2592360" cy="2082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16360" y="2739960"/>
            <a:ext cx="3095640" cy="2427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65600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74920" y="3284640"/>
            <a:ext cx="266544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589800" y="3538440"/>
            <a:ext cx="23032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84280"/>
            <a:ext cx="309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952720" cy="215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3862440"/>
            <a:ext cx="2140200" cy="244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176220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30508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2376360" cy="21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2452680" cy="266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2590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44800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2016000" cy="183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44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2720" y="2738520"/>
            <a:ext cx="51116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773440"/>
            <a:ext cx="2592360" cy="2082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739960"/>
            <a:ext cx="3095640" cy="2427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65600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74920" y="3284640"/>
            <a:ext cx="266544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589800" y="3538440"/>
            <a:ext cx="23032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952720" cy="215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5280" y="1700280"/>
            <a:ext cx="2140200" cy="2446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24360" y="4149720"/>
            <a:ext cx="176220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380360" y="4149720"/>
            <a:ext cx="1441440" cy="1871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30508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237672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452680" cy="266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003640" y="1773360"/>
            <a:ext cx="1808280" cy="165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132000" y="4005360"/>
            <a:ext cx="2590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1:19:46Z</dcterms:created>
  <dc:creator>Eleanor Abrahams </dc:creator>
  <dc:description/>
  <dc:language>en-US</dc:language>
  <cp:lastModifiedBy>CSeccombe</cp:lastModifiedBy>
  <dcterms:modified xsi:type="dcterms:W3CDTF">2007-07-11T13:02:49Z</dcterms:modified>
  <cp:revision>12</cp:revision>
  <dc:subject/>
  <dc:title>Die Schule</dc:title>
</cp:coreProperties>
</file>