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4CB-7CD8-4BEE-8CE7-A2D02794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158-0E42-449E-894E-3DEE07BE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BD1-74F4-4C96-A50C-1B51D422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901-C1A7-4B38-B7B3-DB548848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F6F-1E43-4DAF-AF70-3F0F7F2D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B8B-2517-41F1-9B50-9CB7CED8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612-D58A-480F-BE67-2615B4B8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5ED-B3EB-43A9-98B2-F20593F4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E0B-EF28-4926-8095-9A5226C8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ABF-235B-41FE-AA73-24AF8B0F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D27-2E5D-4C74-90E6-6BE9F898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D13-A24A-498C-B9EA-61D02E85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B1F4-2C8A-436D-B846-4356835AC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8.wmf"/><Relationship Id="rId3" Type="http://schemas.openxmlformats.org/officeDocument/2006/relationships/image" Target="../media/image10.wmf"/><Relationship Id="rId4" Type="http://schemas.openxmlformats.org/officeDocument/2006/relationships/image" Target="../media/image6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image" Target="../media/image9.wmf"/><Relationship Id="rId4" Type="http://schemas.openxmlformats.org/officeDocument/2006/relationships/image" Target="../media/image8.wmf"/><Relationship Id="rId5" Type="http://schemas.openxmlformats.org/officeDocument/2006/relationships/image" Target="../media/image22.gif"/><Relationship Id="rId6" Type="http://schemas.openxmlformats.org/officeDocument/2006/relationships/image" Target="../media/image21.wmf"/><Relationship Id="rId7" Type="http://schemas.openxmlformats.org/officeDocument/2006/relationships/image" Target="../media/image5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7.wmf"/><Relationship Id="rId3" Type="http://schemas.openxmlformats.org/officeDocument/2006/relationships/image" Target="../media/image10.wmf"/><Relationship Id="rId4" Type="http://schemas.openxmlformats.org/officeDocument/2006/relationships/image" Target="../media/image6.wmf"/><Relationship Id="rId5" Type="http://schemas.openxmlformats.org/officeDocument/2006/relationships/image" Target="../media/image15.wmf"/><Relationship Id="rId6" Type="http://schemas.openxmlformats.org/officeDocument/2006/relationships/image" Target="../media/image18.wmf"/><Relationship Id="rId7" Type="http://schemas.openxmlformats.org/officeDocument/2006/relationships/image" Target="../media/image20.jpeg"/><Relationship Id="rId8" Type="http://schemas.openxmlformats.org/officeDocument/2006/relationships/image" Target="../media/image12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7.wmf"/><Relationship Id="rId3" Type="http://schemas.openxmlformats.org/officeDocument/2006/relationships/image" Target="../media/image10.wmf"/><Relationship Id="rId4" Type="http://schemas.openxmlformats.org/officeDocument/2006/relationships/image" Target="../media/image15.wmf"/><Relationship Id="rId5" Type="http://schemas.openxmlformats.org/officeDocument/2006/relationships/image" Target="../media/image20.jpeg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8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21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Die Sch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oday’s Language Foc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.g. ‘Was?’ ‘Welches?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20000" y="228600"/>
            <a:ext cx="1743120" cy="1112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352520" cy="101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 Rounded MT Bold"/>
              </a:rPr>
              <a:t>Welche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 Rounded MT Bold"/>
              </a:rPr>
              <a:t> Fach ist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484280"/>
            <a:ext cx="2951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Arial Rounded MT Bold"/>
              </a:rPr>
              <a:t>Das i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2448000" cy="2320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2016000" cy="1830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867280" y="4149720"/>
            <a:ext cx="24498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 Rounded MT Bold"/>
              </a:rPr>
              <a:t>Welche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 Rounded MT Bold"/>
              </a:rPr>
              <a:t> Fach ist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484280"/>
            <a:ext cx="2951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Arial Rounded MT Bold"/>
              </a:rPr>
              <a:t>Das i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2720" y="2738520"/>
            <a:ext cx="51116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Comic Sans MS"/>
              </a:rPr>
              <a:t>Was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Comic Sans MS"/>
              </a:rPr>
              <a:t>lernst du in der Schu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728640" cy="79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58920" y="1628640"/>
            <a:ext cx="57636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1628640"/>
            <a:ext cx="2950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ch lerne </a:t>
            </a:r>
            <a:r>
              <a:rPr b="0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Ku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863280" cy="784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3640" y="2637000"/>
            <a:ext cx="2951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ch lerne </a:t>
            </a:r>
            <a:r>
              <a:rPr b="0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5440" y="3587760"/>
            <a:ext cx="2950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ch lerne </a:t>
            </a:r>
            <a:r>
              <a:rPr b="0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4653000"/>
            <a:ext cx="2950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ch lerne </a:t>
            </a:r>
            <a:r>
              <a:rPr b="0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5589720"/>
            <a:ext cx="2950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ch lerne </a:t>
            </a:r>
            <a:r>
              <a:rPr b="0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754200" cy="861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79280" y="4508640"/>
            <a:ext cx="1079640" cy="642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250920" y="5373720"/>
            <a:ext cx="934920" cy="865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88000" y="1700280"/>
            <a:ext cx="1729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ut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un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dku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4005360"/>
            <a:ext cx="115092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 Rounded MT Bold"/>
              </a:rPr>
              <a:t>Welche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 Rounded MT Bold"/>
              </a:rPr>
              <a:t> Fach ist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1486080"/>
            <a:ext cx="309564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Arial Rounded MT Bold"/>
              </a:rPr>
              <a:t>6. Das ist…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6600"/>
                </a:solidFill>
                <a:latin typeface="Arial Rounded MT Bold"/>
              </a:rPr>
              <a:t>7. Das ist…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6600"/>
                </a:solidFill>
                <a:latin typeface="Arial Rounded MT Bold"/>
              </a:rPr>
              <a:t>8. Das ist…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6600"/>
                </a:solidFill>
                <a:latin typeface="Arial Rounded MT Bold"/>
              </a:rPr>
              <a:t>9. Das ist…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6600"/>
                </a:solidFill>
                <a:latin typeface="Arial Rounded MT Bold"/>
              </a:rPr>
              <a:t>10. Das ist…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6600"/>
                </a:solidFill>
                <a:latin typeface="Arial Rounded MT Bold"/>
              </a:rPr>
              <a:t>11. Das ist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792000" cy="750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936360" cy="809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1008000" cy="734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79280" y="5040360"/>
            <a:ext cx="936720" cy="423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324000" y="5589720"/>
            <a:ext cx="731520" cy="731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179280" y="3005280"/>
            <a:ext cx="936720" cy="85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00720" y="1486080"/>
            <a:ext cx="309564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Arial Rounded MT Bold"/>
              </a:rPr>
              <a:t>12. Das ist…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6600"/>
                </a:solidFill>
                <a:latin typeface="Arial Rounded MT Bold"/>
              </a:rPr>
              <a:t>13. Das ist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3924360" y="1197000"/>
            <a:ext cx="747720" cy="100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995640" y="2276640"/>
            <a:ext cx="554040" cy="720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067280" y="3429000"/>
            <a:ext cx="4537080" cy="302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Religio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Geschich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nformatik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Theater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   Technolog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aturwissenschaf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ranz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ösis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Englis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59280" y="404640"/>
            <a:ext cx="0" cy="576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404640"/>
            <a:ext cx="0" cy="590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042560" y="2133720"/>
            <a:ext cx="65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042560" y="4221000"/>
            <a:ext cx="65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01080" y="260280"/>
            <a:ext cx="718920" cy="792360"/>
          </a:xfrm>
          <a:prstGeom prst="donut">
            <a:avLst>
              <a:gd name="adj" fmla="val 16222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8781200">
            <a:off x="228960" y="210960"/>
            <a:ext cx="765000" cy="720720"/>
          </a:xfrm>
          <a:prstGeom prst="plus">
            <a:avLst>
              <a:gd name="adj" fmla="val 4007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17080" y="1197000"/>
            <a:ext cx="4950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Forte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Forte"/>
              <a:ea typeface="Fort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1052640"/>
            <a:ext cx="36036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Franklin Gothic Medium"/>
              </a:rPr>
              <a:t>J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Franklin Gothic Medium"/>
              <a:ea typeface="Franklin Gothic Medium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1800360" cy="1644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940360" y="620640"/>
            <a:ext cx="1511280" cy="144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276720" y="4365720"/>
            <a:ext cx="2016000" cy="1871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203640" y="2492280"/>
            <a:ext cx="2089080" cy="1244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5940360" y="2349360"/>
            <a:ext cx="1589040" cy="1727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3203640" y="692280"/>
            <a:ext cx="1873080" cy="1307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826920" y="4365720"/>
            <a:ext cx="1943280" cy="1554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5940360" y="4437000"/>
            <a:ext cx="1495440" cy="165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1116000" y="620640"/>
            <a:ext cx="172728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59280" y="404640"/>
            <a:ext cx="0" cy="576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404640"/>
            <a:ext cx="0" cy="590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042560" y="2133720"/>
            <a:ext cx="65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042560" y="4221000"/>
            <a:ext cx="65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01080" y="260280"/>
            <a:ext cx="718920" cy="792360"/>
          </a:xfrm>
          <a:prstGeom prst="donut">
            <a:avLst>
              <a:gd name="adj" fmla="val 16222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8781200">
            <a:off x="228960" y="210960"/>
            <a:ext cx="765000" cy="720720"/>
          </a:xfrm>
          <a:prstGeom prst="plus">
            <a:avLst>
              <a:gd name="adj" fmla="val 4007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17080" y="1197000"/>
            <a:ext cx="4950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Forte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Forte"/>
              <a:ea typeface="Fort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1052640"/>
            <a:ext cx="36036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Franklin Gothic Medium"/>
              </a:rPr>
              <a:t>J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Franklin Gothic Medium"/>
              <a:ea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564000" y="2349360"/>
            <a:ext cx="1800000" cy="1644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940360" y="4724280"/>
            <a:ext cx="1584360" cy="1297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2016360" cy="1871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1589040" cy="1727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348000" y="476280"/>
            <a:ext cx="1943280" cy="1554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1187280" y="4365720"/>
            <a:ext cx="1495440" cy="1655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5867280" y="2276640"/>
            <a:ext cx="2017800" cy="1866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276720" y="4653000"/>
            <a:ext cx="2158920" cy="129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1187280" y="549360"/>
            <a:ext cx="1584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00000" y="404640"/>
            <a:ext cx="7201080" cy="5904000"/>
          </a:xfrm>
          <a:custGeom>
            <a:avLst/>
            <a:gdLst>
              <a:gd name="textAreaLeft" fmla="*/ 1643760 w 7201080"/>
              <a:gd name="textAreaRight" fmla="*/ 5557320 w 7201080"/>
              <a:gd name="textAreaTop" fmla="*/ 1347840 h 5904000"/>
              <a:gd name="textAreaBottom" fmla="*/ 455616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00360" y="1844640"/>
            <a:ext cx="37432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2773440"/>
            <a:ext cx="2592360" cy="2082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916360" y="2739960"/>
            <a:ext cx="3095640" cy="2427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Comic Sans MS"/>
              </a:rPr>
              <a:t>Wa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Comic Sans MS"/>
              </a:rPr>
              <a:t> lernst du in der Schu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1656000" cy="223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1484280"/>
            <a:ext cx="3240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Ich ler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274920" y="3284640"/>
            <a:ext cx="2665440" cy="10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300720" y="2924280"/>
            <a:ext cx="2592360" cy="2089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589800" y="3538440"/>
            <a:ext cx="230328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Comic Sans MS"/>
              </a:rPr>
              <a:t>Wa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Comic Sans MS"/>
              </a:rPr>
              <a:t> lernst du in der Schu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484280"/>
            <a:ext cx="3095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Ich ler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2952720" cy="2151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356000" y="3862440"/>
            <a:ext cx="2140200" cy="244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796000" y="1557360"/>
            <a:ext cx="1762200" cy="201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380360" y="1557360"/>
            <a:ext cx="1441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Comic Sans MS"/>
              </a:rPr>
              <a:t>Wa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Comic Sans MS"/>
              </a:rPr>
              <a:t> lernst du in der Schu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484280"/>
            <a:ext cx="3240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Ich ler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230508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51280" y="1773360"/>
            <a:ext cx="2376360" cy="219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300720" y="3500280"/>
            <a:ext cx="2452680" cy="266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132000" y="4005360"/>
            <a:ext cx="2590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Comic Sans MS"/>
              </a:rPr>
              <a:t>Wa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Comic Sans MS"/>
              </a:rPr>
              <a:t> lernst du in der Schu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484280"/>
            <a:ext cx="3240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Ich ler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2448000" cy="232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2016000" cy="1830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867280" y="4149720"/>
            <a:ext cx="24498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Comic Sans MS"/>
              </a:rPr>
              <a:t>Wa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Comic Sans MS"/>
              </a:rPr>
              <a:t> lernst du in der Schu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3240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Comic Sans MS"/>
              </a:rPr>
              <a:t>Ich ler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52720" y="2738520"/>
            <a:ext cx="51116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2773440"/>
            <a:ext cx="2592360" cy="2082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16360" y="2739960"/>
            <a:ext cx="3095640" cy="2427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 Rounded MT Bold"/>
              </a:rPr>
              <a:t>Welche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 Rounded MT Bold"/>
              </a:rPr>
              <a:t> Fach ist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1656000" cy="2232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1484280"/>
            <a:ext cx="2951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Arial Rounded MT Bold"/>
              </a:rPr>
              <a:t>Das i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274920" y="3284640"/>
            <a:ext cx="2665440" cy="108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300720" y="2924280"/>
            <a:ext cx="2592360" cy="2089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589800" y="3538440"/>
            <a:ext cx="230328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1484280"/>
            <a:ext cx="2951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Arial Rounded MT Bold"/>
              </a:rPr>
              <a:t>Das i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2952720" cy="2151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635280" y="1700280"/>
            <a:ext cx="2140200" cy="2446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724360" y="4149720"/>
            <a:ext cx="1762200" cy="2016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380360" y="4149720"/>
            <a:ext cx="1441440" cy="1871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 Rounded MT Bold"/>
              </a:rPr>
              <a:t>Welches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 Rounded MT Bold"/>
              </a:rPr>
              <a:t>Fach ist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 Rounded MT Bold"/>
              </a:rPr>
              <a:t>Welches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 Rounded MT Bold"/>
              </a:rPr>
              <a:t> Fach ist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484280"/>
            <a:ext cx="2951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00"/>
                </a:solidFill>
                <a:latin typeface="Arial Rounded MT Bold"/>
              </a:rPr>
              <a:t>Das i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2305080" cy="2133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237672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227640" y="3213000"/>
            <a:ext cx="2452680" cy="266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003640" y="1773360"/>
            <a:ext cx="1808280" cy="1652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132000" y="4005360"/>
            <a:ext cx="2590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1:19:46Z</dcterms:created>
  <dc:creator>Eleanor Abrahams </dc:creator>
  <dc:description/>
  <dc:language>en-US</dc:language>
  <cp:lastModifiedBy>CSeccombe</cp:lastModifiedBy>
  <dcterms:modified xsi:type="dcterms:W3CDTF">2007-07-11T13:02:49Z</dcterms:modified>
  <cp:revision>12</cp:revision>
  <dc:subject/>
  <dc:title>Die Schule</dc:title>
</cp:coreProperties>
</file>