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383-EFD0-4AB4-8B0A-F2B50A3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AC0-DA57-4B76-B4CC-6FA0405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57F-D3BE-46D5-A611-C414A179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DEF-5411-41EF-8129-FF0B5DE9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02D-608A-4A5D-9B83-53D7AA70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2E3-9C5A-4FC6-B2C7-0B2DA20E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105-59A2-41C6-9F3E-1676F2FE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DC4-5125-4DA5-A683-73724B0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F32-326C-4612-957F-84785D8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64B-966D-4BF3-8CF7-9E7E108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952-A6FE-4F4B-9061-E4E84BA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05E-DB87-4010-8A69-5A1A253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6BF9-DEA1-4215-993D-AA5192F8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76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ne Schulunifo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0245001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7432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D05128_" descr=""/>
          <p:cNvPicPr/>
          <p:nvPr/>
        </p:nvPicPr>
        <p:blipFill>
          <a:blip r:embed="rId1"/>
          <a:stretch/>
        </p:blipFill>
        <p:spPr>
          <a:xfrm>
            <a:off x="2451240" y="1724040"/>
            <a:ext cx="4241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0086622" descr=""/>
          <p:cNvPicPr/>
          <p:nvPr/>
        </p:nvPicPr>
        <p:blipFill>
          <a:blip r:embed="rId1"/>
          <a:stretch/>
        </p:blipFill>
        <p:spPr>
          <a:xfrm>
            <a:off x="2235240" y="1422360"/>
            <a:ext cx="46720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08663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191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0086640" descr=""/>
          <p:cNvPicPr/>
          <p:nvPr/>
        </p:nvPicPr>
        <p:blipFill>
          <a:blip r:embed="rId1"/>
          <a:stretch/>
        </p:blipFill>
        <p:spPr>
          <a:xfrm>
            <a:off x="2235240" y="1087560"/>
            <a:ext cx="46720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0086662" descr=""/>
          <p:cNvPicPr/>
          <p:nvPr/>
        </p:nvPicPr>
        <p:blipFill>
          <a:blip r:embed="rId1"/>
          <a:stretch/>
        </p:blipFill>
        <p:spPr>
          <a:xfrm>
            <a:off x="2235240" y="1090440"/>
            <a:ext cx="467208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245001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7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j0113476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23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0136519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9048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1:54:14Z</dcterms:created>
  <dc:creator>Helena Butterfield</dc:creator>
  <dc:description/>
  <dc:language>en-US</dc:language>
  <cp:lastModifiedBy>Helena Butterfield</cp:lastModifiedBy>
  <dcterms:modified xsi:type="dcterms:W3CDTF">2002-09-18T11:54:39Z</dcterms:modified>
  <cp:revision>1</cp:revision>
  <dc:subject/>
  <dc:title>PowerPoint Presentation</dc:title>
</cp:coreProperties>
</file>