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5D3-473F-40BF-980C-096559E4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6FB-8981-4629-8AEB-FC6D4CBB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5A7-69B6-4052-9E0B-B376DB3D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A9D-943A-43ED-B55C-BC9426A5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BBD-A8A7-4EFC-9508-3A393DEC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A89-225E-4145-AD77-61C692B2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A2F-DD1C-4AFC-B941-27791B2F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114-C5E6-4793-9A5D-9799564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228-8E21-4C49-A1F3-EC4F86C9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9FD-9972-4E47-AA26-E92AB9D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F10-9ADF-404F-B36F-1E2CF5B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AE0-E4F0-49BD-85D5-FF28949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893-2735-4780-A37D-43C230637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76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ne Schulunifo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0245001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7432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D05128_" descr=""/>
          <p:cNvPicPr/>
          <p:nvPr/>
        </p:nvPicPr>
        <p:blipFill>
          <a:blip r:embed="rId1"/>
          <a:stretch/>
        </p:blipFill>
        <p:spPr>
          <a:xfrm>
            <a:off x="2451240" y="1724040"/>
            <a:ext cx="4241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0086622" descr=""/>
          <p:cNvPicPr/>
          <p:nvPr/>
        </p:nvPicPr>
        <p:blipFill>
          <a:blip r:embed="rId1"/>
          <a:stretch/>
        </p:blipFill>
        <p:spPr>
          <a:xfrm>
            <a:off x="2235240" y="1422360"/>
            <a:ext cx="46720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08663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191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0086640" descr=""/>
          <p:cNvPicPr/>
          <p:nvPr/>
        </p:nvPicPr>
        <p:blipFill>
          <a:blip r:embed="rId1"/>
          <a:stretch/>
        </p:blipFill>
        <p:spPr>
          <a:xfrm>
            <a:off x="2235240" y="1087560"/>
            <a:ext cx="46720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0086662" descr=""/>
          <p:cNvPicPr/>
          <p:nvPr/>
        </p:nvPicPr>
        <p:blipFill>
          <a:blip r:embed="rId1"/>
          <a:stretch/>
        </p:blipFill>
        <p:spPr>
          <a:xfrm>
            <a:off x="2235240" y="1090440"/>
            <a:ext cx="467208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245001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7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j0113476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23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0136519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9048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1:54:14Z</dcterms:created>
  <dc:creator>Helena Butterfield</dc:creator>
  <dc:description/>
  <dc:language>en-US</dc:language>
  <cp:lastModifiedBy>Helena Butterfield</cp:lastModifiedBy>
  <dcterms:modified xsi:type="dcterms:W3CDTF">2002-09-18T11:54:39Z</dcterms:modified>
  <cp:revision>1</cp:revision>
  <dc:subject/>
  <dc:title>PowerPoint Presentation</dc:title>
</cp:coreProperties>
</file>