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gif" ContentType="image/gif"/>
  <Override PartName="/ppt/media/image5.wmf" ContentType="image/x-wmf"/>
  <Override PartName="/ppt/media/image10.wmf" ContentType="image/x-wmf"/>
  <Override PartName="/ppt/media/image3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89AD-12A9-49B8-BF10-BBFF0331B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26BB-D1F3-45E8-96D9-F8DBE180F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5C81-317C-46C2-B110-4FECC1897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5CDC-4F82-4B97-A792-E0D121507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F36D-0329-48FC-958E-B18C5A20D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6F78-E2A7-407E-B12F-19E7DD70F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673C-26BD-4B58-B2D7-4A1D60144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4D45-0D71-4B8C-93E9-E2A303C9A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6170-F62E-49A9-BF44-F7384897F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3B7F-CA18-4B6E-A46D-9FD9790D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EF2E-8690-450A-8E69-DB4D0F62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81CB-CC44-4300-B33A-73D28DD5C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6FAFD-6B9A-4EA3-BA19-1C3094BDCA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underlandschools.org/mfl-sunderland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036440"/>
            <a:ext cx="8229600" cy="32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66"/>
                </a:solidFill>
                <a:uFillTx/>
                <a:latin typeface="Arial"/>
              </a:rPr>
              <a:t>Today’s Language Focu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ch esse gern + ich trinke g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66"/>
                </a:solidFill>
                <a:uFillTx/>
                <a:latin typeface="Arial"/>
              </a:rPr>
              <a:t>Today’s Them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o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03640" y="6497640"/>
            <a:ext cx="59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©MFL Sunderland 2007 ELA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 Rounded MT Bold"/>
                <a:hlinkClick r:id="rId1"/>
              </a:rPr>
              <a:t>http://www.sunderlandschools.org/mfl-sunderl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276720" y="836640"/>
            <a:ext cx="0" cy="504036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867280" y="765000"/>
            <a:ext cx="0" cy="504036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03280" y="2133720"/>
            <a:ext cx="6624720" cy="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332000" y="4149720"/>
            <a:ext cx="6624720" cy="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8317080" y="333360"/>
            <a:ext cx="3808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24000" y="260280"/>
            <a:ext cx="3808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900000" y="620640"/>
            <a:ext cx="2519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. Butterbro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00000" y="1557360"/>
            <a:ext cx="2519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. Schink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900000" y="2494080"/>
            <a:ext cx="2951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. Himbeer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00000" y="3357720"/>
            <a:ext cx="2519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. Karott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00000" y="4294080"/>
            <a:ext cx="3095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. Limonad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1643040" y="839880"/>
            <a:ext cx="1724040" cy="339480"/>
          </a:xfrm>
          <a:custGeom>
            <a:avLst/>
            <a:gdLst/>
            <a:ahLst/>
            <a:rect l="l" t="t" r="r" b="b"/>
            <a:pathLst>
              <a:path w="4788" h="943">
                <a:moveTo>
                  <a:pt x="4589" y="2332"/>
                </a:moveTo>
                <a:cubicBezTo>
                  <a:pt x="4622" y="2369"/>
                  <a:pt x="4518" y="2344"/>
                  <a:pt x="4589" y="2381"/>
                </a:cubicBezTo>
                <a:cubicBezTo>
                  <a:pt x="4750" y="2466"/>
                  <a:pt x="4909" y="2518"/>
                  <a:pt x="5085" y="2530"/>
                </a:cubicBezTo>
                <a:cubicBezTo>
                  <a:pt x="5181" y="2537"/>
                  <a:pt x="5277" y="2542"/>
                  <a:pt x="5358" y="2580"/>
                </a:cubicBezTo>
                <a:cubicBezTo>
                  <a:pt x="5358" y="2588"/>
                  <a:pt x="5358" y="2596"/>
                  <a:pt x="5358" y="2604"/>
                </a:cubicBezTo>
                <a:cubicBezTo>
                  <a:pt x="5305" y="2652"/>
                  <a:pt x="5286" y="2683"/>
                  <a:pt x="5209" y="2729"/>
                </a:cubicBezTo>
                <a:cubicBezTo>
                  <a:pt x="5149" y="2765"/>
                  <a:pt x="5078" y="2811"/>
                  <a:pt x="5011" y="2828"/>
                </a:cubicBezTo>
                <a:cubicBezTo>
                  <a:pt x="4988" y="2834"/>
                  <a:pt x="4960" y="2822"/>
                  <a:pt x="4936" y="2828"/>
                </a:cubicBezTo>
                <a:cubicBezTo>
                  <a:pt x="4962" y="2833"/>
                  <a:pt x="5094" y="2841"/>
                  <a:pt x="5110" y="2853"/>
                </a:cubicBezTo>
                <a:cubicBezTo>
                  <a:pt x="5184" y="2912"/>
                  <a:pt x="5120" y="2873"/>
                  <a:pt x="5135" y="2952"/>
                </a:cubicBezTo>
                <a:cubicBezTo>
                  <a:pt x="5142" y="2992"/>
                  <a:pt x="5070" y="2979"/>
                  <a:pt x="5135" y="3026"/>
                </a:cubicBezTo>
                <a:cubicBezTo>
                  <a:pt x="5164" y="3047"/>
                  <a:pt x="5298" y="3048"/>
                  <a:pt x="5333" y="3051"/>
                </a:cubicBezTo>
                <a:cubicBezTo>
                  <a:pt x="5496" y="3063"/>
                  <a:pt x="5665" y="3051"/>
                  <a:pt x="5829" y="3051"/>
                </a:cubicBezTo>
                <a:cubicBezTo>
                  <a:pt x="5782" y="3063"/>
                  <a:pt x="5727" y="3093"/>
                  <a:pt x="5680" y="3101"/>
                </a:cubicBezTo>
                <a:cubicBezTo>
                  <a:pt x="5675" y="3102"/>
                  <a:pt x="5474" y="3103"/>
                  <a:pt x="5507" y="3125"/>
                </a:cubicBezTo>
                <a:cubicBezTo>
                  <a:pt x="5560" y="3160"/>
                  <a:pt x="5643" y="3147"/>
                  <a:pt x="5705" y="3150"/>
                </a:cubicBezTo>
                <a:cubicBezTo>
                  <a:pt x="5755" y="3150"/>
                  <a:pt x="5771" y="3150"/>
                  <a:pt x="5804" y="3150"/>
                </a:cubicBezTo>
                <a:cubicBezTo>
                  <a:pt x="5812" y="3150"/>
                  <a:pt x="5821" y="3150"/>
                  <a:pt x="5829" y="3150"/>
                </a:cubicBezTo>
                <a:cubicBezTo>
                  <a:pt x="5743" y="3146"/>
                  <a:pt x="5662" y="3134"/>
                  <a:pt x="5581" y="3125"/>
                </a:cubicBezTo>
                <a:cubicBezTo>
                  <a:pt x="5556" y="3125"/>
                  <a:pt x="5548" y="3125"/>
                  <a:pt x="5531" y="3125"/>
                </a:cubicBezTo>
                <a:cubicBezTo>
                  <a:pt x="5559" y="3095"/>
                  <a:pt x="5534" y="3087"/>
                  <a:pt x="5581" y="3051"/>
                </a:cubicBezTo>
                <a:cubicBezTo>
                  <a:pt x="5634" y="3010"/>
                  <a:pt x="5710" y="2974"/>
                  <a:pt x="5779" y="2927"/>
                </a:cubicBezTo>
                <a:cubicBezTo>
                  <a:pt x="5860" y="2872"/>
                  <a:pt x="5944" y="2857"/>
                  <a:pt x="6028" y="2828"/>
                </a:cubicBezTo>
                <a:cubicBezTo>
                  <a:pt x="6036" y="2828"/>
                  <a:pt x="6044" y="2828"/>
                  <a:pt x="6052" y="2828"/>
                </a:cubicBezTo>
                <a:cubicBezTo>
                  <a:pt x="6009" y="2795"/>
                  <a:pt x="6070" y="2791"/>
                  <a:pt x="5978" y="2753"/>
                </a:cubicBezTo>
                <a:cubicBezTo>
                  <a:pt x="5897" y="2720"/>
                  <a:pt x="5832" y="2700"/>
                  <a:pt x="5755" y="2654"/>
                </a:cubicBezTo>
                <a:cubicBezTo>
                  <a:pt x="5714" y="2630"/>
                  <a:pt x="5650" y="2604"/>
                  <a:pt x="5631" y="2580"/>
                </a:cubicBezTo>
                <a:cubicBezTo>
                  <a:pt x="5631" y="2555"/>
                  <a:pt x="5631" y="2547"/>
                  <a:pt x="5631" y="2530"/>
                </a:cubicBezTo>
                <a:cubicBezTo>
                  <a:pt x="5720" y="2507"/>
                  <a:pt x="5811" y="2496"/>
                  <a:pt x="5904" y="2480"/>
                </a:cubicBezTo>
                <a:cubicBezTo>
                  <a:pt x="5923" y="2477"/>
                  <a:pt x="6274" y="2441"/>
                  <a:pt x="6276" y="2431"/>
                </a:cubicBezTo>
                <a:cubicBezTo>
                  <a:pt x="6288" y="2380"/>
                  <a:pt x="6202" y="2417"/>
                  <a:pt x="6176" y="2406"/>
                </a:cubicBezTo>
                <a:cubicBezTo>
                  <a:pt x="6146" y="2393"/>
                  <a:pt x="6182" y="2394"/>
                  <a:pt x="6152" y="2381"/>
                </a:cubicBezTo>
                <a:cubicBezTo>
                  <a:pt x="6224" y="2401"/>
                  <a:pt x="6273" y="2423"/>
                  <a:pt x="6350" y="2431"/>
                </a:cubicBezTo>
                <a:cubicBezTo>
                  <a:pt x="6454" y="2442"/>
                  <a:pt x="6547" y="2462"/>
                  <a:pt x="6648" y="2480"/>
                </a:cubicBezTo>
                <a:cubicBezTo>
                  <a:pt x="6598" y="2496"/>
                  <a:pt x="6552" y="2508"/>
                  <a:pt x="6499" y="2530"/>
                </a:cubicBezTo>
                <a:cubicBezTo>
                  <a:pt x="6460" y="2546"/>
                  <a:pt x="6406" y="2565"/>
                  <a:pt x="6375" y="2604"/>
                </a:cubicBezTo>
                <a:cubicBezTo>
                  <a:pt x="6349" y="2637"/>
                  <a:pt x="6368" y="2652"/>
                  <a:pt x="6350" y="2679"/>
                </a:cubicBezTo>
                <a:cubicBezTo>
                  <a:pt x="6402" y="2711"/>
                  <a:pt x="6466" y="2746"/>
                  <a:pt x="6548" y="2778"/>
                </a:cubicBezTo>
                <a:cubicBezTo>
                  <a:pt x="6650" y="2818"/>
                  <a:pt x="6746" y="2843"/>
                  <a:pt x="6846" y="2877"/>
                </a:cubicBezTo>
                <a:cubicBezTo>
                  <a:pt x="6888" y="2877"/>
                  <a:pt x="6904" y="2869"/>
                  <a:pt x="6896" y="2902"/>
                </a:cubicBezTo>
                <a:cubicBezTo>
                  <a:pt x="6855" y="2918"/>
                  <a:pt x="6789" y="2935"/>
                  <a:pt x="6722" y="2952"/>
                </a:cubicBezTo>
                <a:cubicBezTo>
                  <a:pt x="6650" y="2970"/>
                  <a:pt x="6535" y="2986"/>
                  <a:pt x="6474" y="3026"/>
                </a:cubicBezTo>
                <a:cubicBezTo>
                  <a:pt x="6451" y="3049"/>
                  <a:pt x="6443" y="3053"/>
                  <a:pt x="6449" y="3076"/>
                </a:cubicBezTo>
                <a:cubicBezTo>
                  <a:pt x="6503" y="3101"/>
                  <a:pt x="6537" y="3126"/>
                  <a:pt x="6598" y="3150"/>
                </a:cubicBezTo>
                <a:cubicBezTo>
                  <a:pt x="6655" y="3172"/>
                  <a:pt x="6760" y="3140"/>
                  <a:pt x="6772" y="3200"/>
                </a:cubicBezTo>
                <a:cubicBezTo>
                  <a:pt x="6783" y="3254"/>
                  <a:pt x="6723" y="3209"/>
                  <a:pt x="6697" y="3225"/>
                </a:cubicBezTo>
                <a:cubicBezTo>
                  <a:pt x="6676" y="3237"/>
                  <a:pt x="6671" y="3240"/>
                  <a:pt x="6648" y="3249"/>
                </a:cubicBezTo>
                <a:cubicBezTo>
                  <a:pt x="6754" y="3227"/>
                  <a:pt x="6862" y="3214"/>
                  <a:pt x="6970" y="3200"/>
                </a:cubicBezTo>
                <a:cubicBezTo>
                  <a:pt x="6983" y="3198"/>
                  <a:pt x="7363" y="3150"/>
                  <a:pt x="7367" y="3125"/>
                </a:cubicBezTo>
                <a:cubicBezTo>
                  <a:pt x="7372" y="3091"/>
                  <a:pt x="7361" y="3092"/>
                  <a:pt x="7268" y="3076"/>
                </a:cubicBezTo>
                <a:cubicBezTo>
                  <a:pt x="7221" y="3068"/>
                  <a:pt x="7167" y="3079"/>
                  <a:pt x="7119" y="3076"/>
                </a:cubicBezTo>
                <a:cubicBezTo>
                  <a:pt x="7179" y="3062"/>
                  <a:pt x="7182" y="3053"/>
                  <a:pt x="7243" y="3051"/>
                </a:cubicBezTo>
                <a:cubicBezTo>
                  <a:pt x="7404" y="3046"/>
                  <a:pt x="7561" y="3047"/>
                  <a:pt x="7714" y="3026"/>
                </a:cubicBezTo>
                <a:cubicBezTo>
                  <a:pt x="7589" y="2959"/>
                  <a:pt x="7449" y="2936"/>
                  <a:pt x="7317" y="2877"/>
                </a:cubicBezTo>
                <a:cubicBezTo>
                  <a:pt x="7226" y="2836"/>
                  <a:pt x="7135" y="2766"/>
                  <a:pt x="7045" y="2729"/>
                </a:cubicBezTo>
                <a:cubicBezTo>
                  <a:pt x="7037" y="2729"/>
                  <a:pt x="7028" y="2729"/>
                  <a:pt x="7020" y="2729"/>
                </a:cubicBezTo>
                <a:cubicBezTo>
                  <a:pt x="7051" y="2718"/>
                  <a:pt x="7063" y="2716"/>
                  <a:pt x="7094" y="2704"/>
                </a:cubicBezTo>
                <a:cubicBezTo>
                  <a:pt x="7164" y="2677"/>
                  <a:pt x="7212" y="2650"/>
                  <a:pt x="7268" y="2604"/>
                </a:cubicBezTo>
                <a:cubicBezTo>
                  <a:pt x="7337" y="2547"/>
                  <a:pt x="7316" y="2608"/>
                  <a:pt x="7243" y="2555"/>
                </a:cubicBezTo>
                <a:cubicBezTo>
                  <a:pt x="7199" y="2523"/>
                  <a:pt x="7192" y="2531"/>
                  <a:pt x="7144" y="2505"/>
                </a:cubicBezTo>
                <a:cubicBezTo>
                  <a:pt x="7169" y="2496"/>
                  <a:pt x="7261" y="2469"/>
                  <a:pt x="7317" y="2456"/>
                </a:cubicBezTo>
                <a:cubicBezTo>
                  <a:pt x="7424" y="2432"/>
                  <a:pt x="7535" y="2402"/>
                  <a:pt x="7640" y="2381"/>
                </a:cubicBezTo>
                <a:cubicBezTo>
                  <a:pt x="7722" y="2364"/>
                  <a:pt x="7686" y="2379"/>
                  <a:pt x="7714" y="2381"/>
                </a:cubicBezTo>
                <a:cubicBezTo>
                  <a:pt x="7846" y="2390"/>
                  <a:pt x="7978" y="2422"/>
                  <a:pt x="8111" y="2431"/>
                </a:cubicBezTo>
                <a:cubicBezTo>
                  <a:pt x="8253" y="2441"/>
                  <a:pt x="8376" y="2449"/>
                  <a:pt x="8508" y="2505"/>
                </a:cubicBezTo>
                <a:cubicBezTo>
                  <a:pt x="8533" y="2505"/>
                  <a:pt x="8541" y="2505"/>
                  <a:pt x="8533" y="2530"/>
                </a:cubicBezTo>
                <a:cubicBezTo>
                  <a:pt x="8435" y="2539"/>
                  <a:pt x="8345" y="2567"/>
                  <a:pt x="8260" y="2580"/>
                </a:cubicBezTo>
                <a:cubicBezTo>
                  <a:pt x="8224" y="2585"/>
                  <a:pt x="8078" y="2566"/>
                  <a:pt x="8062" y="2629"/>
                </a:cubicBezTo>
                <a:cubicBezTo>
                  <a:pt x="8043" y="2704"/>
                  <a:pt x="8103" y="2656"/>
                  <a:pt x="8111" y="2679"/>
                </a:cubicBezTo>
                <a:cubicBezTo>
                  <a:pt x="8121" y="2708"/>
                  <a:pt x="8120" y="2718"/>
                  <a:pt x="8136" y="2753"/>
                </a:cubicBezTo>
                <a:cubicBezTo>
                  <a:pt x="8077" y="2774"/>
                  <a:pt x="8002" y="2795"/>
                  <a:pt x="7938" y="2828"/>
                </a:cubicBezTo>
                <a:cubicBezTo>
                  <a:pt x="7848" y="2874"/>
                  <a:pt x="7778" y="2887"/>
                  <a:pt x="7689" y="2927"/>
                </a:cubicBezTo>
                <a:cubicBezTo>
                  <a:pt x="7681" y="2935"/>
                  <a:pt x="7673" y="2944"/>
                  <a:pt x="7665" y="2952"/>
                </a:cubicBezTo>
                <a:cubicBezTo>
                  <a:pt x="7703" y="2980"/>
                  <a:pt x="7660" y="2986"/>
                  <a:pt x="7739" y="3026"/>
                </a:cubicBezTo>
                <a:cubicBezTo>
                  <a:pt x="7883" y="3098"/>
                  <a:pt x="8028" y="3123"/>
                  <a:pt x="8186" y="3150"/>
                </a:cubicBezTo>
                <a:cubicBezTo>
                  <a:pt x="8284" y="3167"/>
                  <a:pt x="8443" y="3155"/>
                  <a:pt x="8533" y="3200"/>
                </a:cubicBezTo>
                <a:cubicBezTo>
                  <a:pt x="8533" y="3208"/>
                  <a:pt x="8533" y="3217"/>
                  <a:pt x="8533" y="3225"/>
                </a:cubicBezTo>
                <a:cubicBezTo>
                  <a:pt x="8452" y="3230"/>
                  <a:pt x="8359" y="3212"/>
                  <a:pt x="8285" y="3249"/>
                </a:cubicBezTo>
                <a:cubicBezTo>
                  <a:pt x="8285" y="3257"/>
                  <a:pt x="8285" y="3266"/>
                  <a:pt x="8285" y="3274"/>
                </a:cubicBezTo>
                <a:cubicBezTo>
                  <a:pt x="8494" y="3274"/>
                  <a:pt x="8705" y="3277"/>
                  <a:pt x="8905" y="3249"/>
                </a:cubicBezTo>
                <a:cubicBezTo>
                  <a:pt x="8876" y="3233"/>
                  <a:pt x="8911" y="3236"/>
                  <a:pt x="8880" y="3225"/>
                </a:cubicBezTo>
                <a:cubicBezTo>
                  <a:pt x="8821" y="3205"/>
                  <a:pt x="8771" y="3203"/>
                  <a:pt x="8706" y="3175"/>
                </a:cubicBezTo>
                <a:cubicBezTo>
                  <a:pt x="8706" y="3150"/>
                  <a:pt x="8706" y="3142"/>
                  <a:pt x="8682" y="3150"/>
                </a:cubicBezTo>
                <a:cubicBezTo>
                  <a:pt x="8696" y="3135"/>
                  <a:pt x="8748" y="3086"/>
                  <a:pt x="8756" y="3076"/>
                </a:cubicBezTo>
                <a:cubicBezTo>
                  <a:pt x="8780" y="3049"/>
                  <a:pt x="8842" y="2996"/>
                  <a:pt x="8855" y="2977"/>
                </a:cubicBezTo>
                <a:cubicBezTo>
                  <a:pt x="8855" y="2952"/>
                  <a:pt x="8855" y="2944"/>
                  <a:pt x="8855" y="2927"/>
                </a:cubicBezTo>
                <a:cubicBezTo>
                  <a:pt x="8815" y="2899"/>
                  <a:pt x="8774" y="2884"/>
                  <a:pt x="8731" y="2853"/>
                </a:cubicBezTo>
                <a:cubicBezTo>
                  <a:pt x="8652" y="2796"/>
                  <a:pt x="8608" y="2816"/>
                  <a:pt x="8533" y="2778"/>
                </a:cubicBezTo>
                <a:cubicBezTo>
                  <a:pt x="8533" y="2770"/>
                  <a:pt x="8533" y="2761"/>
                  <a:pt x="8533" y="2753"/>
                </a:cubicBezTo>
                <a:cubicBezTo>
                  <a:pt x="8555" y="2726"/>
                  <a:pt x="8573" y="2684"/>
                  <a:pt x="8607" y="2654"/>
                </a:cubicBezTo>
                <a:cubicBezTo>
                  <a:pt x="8665" y="2604"/>
                  <a:pt x="8723" y="2583"/>
                  <a:pt x="8781" y="2555"/>
                </a:cubicBezTo>
                <a:cubicBezTo>
                  <a:pt x="8800" y="2546"/>
                  <a:pt x="8810" y="2538"/>
                  <a:pt x="8855" y="2530"/>
                </a:cubicBezTo>
                <a:cubicBezTo>
                  <a:pt x="8914" y="2519"/>
                  <a:pt x="8954" y="2544"/>
                  <a:pt x="8979" y="2555"/>
                </a:cubicBezTo>
                <a:cubicBezTo>
                  <a:pt x="8986" y="2558"/>
                  <a:pt x="9028" y="2592"/>
                  <a:pt x="9054" y="2604"/>
                </a:cubicBezTo>
                <a:cubicBezTo>
                  <a:pt x="9074" y="2613"/>
                  <a:pt x="9100" y="2624"/>
                  <a:pt x="9153" y="2629"/>
                </a:cubicBezTo>
                <a:cubicBezTo>
                  <a:pt x="9161" y="2629"/>
                  <a:pt x="9170" y="2629"/>
                  <a:pt x="9178" y="2629"/>
                </a:cubicBezTo>
                <a:cubicBezTo>
                  <a:pt x="9113" y="2624"/>
                  <a:pt x="9118" y="2612"/>
                  <a:pt x="9054" y="2604"/>
                </a:cubicBezTo>
                <a:cubicBezTo>
                  <a:pt x="8951" y="2591"/>
                  <a:pt x="8835" y="2604"/>
                  <a:pt x="8731" y="2604"/>
                </a:cubicBezTo>
                <a:cubicBezTo>
                  <a:pt x="8789" y="2604"/>
                  <a:pt x="8698" y="2604"/>
                  <a:pt x="8756" y="2604"/>
                </a:cubicBezTo>
                <a:cubicBezTo>
                  <a:pt x="8920" y="2604"/>
                  <a:pt x="9066" y="2593"/>
                  <a:pt x="9227" y="2555"/>
                </a:cubicBezTo>
                <a:cubicBezTo>
                  <a:pt x="9275" y="2531"/>
                  <a:pt x="9290" y="2523"/>
                  <a:pt x="9327" y="2530"/>
                </a:cubicBezTo>
                <a:cubicBezTo>
                  <a:pt x="9330" y="2571"/>
                  <a:pt x="9348" y="2588"/>
                  <a:pt x="9351" y="2629"/>
                </a:cubicBezTo>
                <a:cubicBezTo>
                  <a:pt x="9359" y="2720"/>
                  <a:pt x="9363" y="2787"/>
                  <a:pt x="9302" y="2853"/>
                </a:cubicBezTo>
                <a:cubicBezTo>
                  <a:pt x="9276" y="2881"/>
                  <a:pt x="9236" y="2892"/>
                  <a:pt x="9203" y="2902"/>
                </a:cubicBezTo>
                <a:cubicBezTo>
                  <a:pt x="9175" y="2911"/>
                  <a:pt x="9188" y="2914"/>
                  <a:pt x="9128" y="2902"/>
                </a:cubicBezTo>
                <a:cubicBezTo>
                  <a:pt x="9077" y="2891"/>
                  <a:pt x="9031" y="2863"/>
                  <a:pt x="8979" y="2853"/>
                </a:cubicBezTo>
                <a:cubicBezTo>
                  <a:pt x="8954" y="2853"/>
                  <a:pt x="8946" y="2853"/>
                  <a:pt x="8930" y="2853"/>
                </a:cubicBezTo>
                <a:cubicBezTo>
                  <a:pt x="8957" y="2871"/>
                  <a:pt x="8970" y="2821"/>
                  <a:pt x="8979" y="2853"/>
                </a:cubicBezTo>
                <a:cubicBezTo>
                  <a:pt x="8999" y="2920"/>
                  <a:pt x="8999" y="2884"/>
                  <a:pt x="8979" y="2952"/>
                </a:cubicBezTo>
                <a:cubicBezTo>
                  <a:pt x="8969" y="2987"/>
                  <a:pt x="8924" y="3009"/>
                  <a:pt x="8930" y="3051"/>
                </a:cubicBezTo>
                <a:cubicBezTo>
                  <a:pt x="8942" y="3128"/>
                  <a:pt x="8943" y="3063"/>
                  <a:pt x="8979" y="3101"/>
                </a:cubicBezTo>
                <a:cubicBezTo>
                  <a:pt x="9002" y="3123"/>
                  <a:pt x="9007" y="3131"/>
                  <a:pt x="9029" y="3125"/>
                </a:cubicBezTo>
              </a:path>
            </a:pathLst>
          </a:custGeom>
          <a:noFill/>
          <a:ln cap="sq" w="345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57200" y="1643040"/>
            <a:ext cx="2090880" cy="277920"/>
          </a:xfrm>
          <a:custGeom>
            <a:avLst/>
            <a:gdLst/>
            <a:ahLst/>
            <a:rect l="l" t="t" r="r" b="b"/>
            <a:pathLst>
              <a:path w="5806" h="770">
                <a:moveTo>
                  <a:pt x="3770" y="4564"/>
                </a:moveTo>
                <a:cubicBezTo>
                  <a:pt x="3789" y="4586"/>
                  <a:pt x="3801" y="4614"/>
                  <a:pt x="3820" y="4638"/>
                </a:cubicBezTo>
                <a:cubicBezTo>
                  <a:pt x="3848" y="4674"/>
                  <a:pt x="3862" y="4678"/>
                  <a:pt x="3894" y="4713"/>
                </a:cubicBezTo>
                <a:cubicBezTo>
                  <a:pt x="3917" y="4738"/>
                  <a:pt x="3961" y="4775"/>
                  <a:pt x="3969" y="4787"/>
                </a:cubicBezTo>
                <a:cubicBezTo>
                  <a:pt x="3991" y="4819"/>
                  <a:pt x="4020" y="4863"/>
                  <a:pt x="4043" y="4887"/>
                </a:cubicBezTo>
                <a:cubicBezTo>
                  <a:pt x="4076" y="4921"/>
                  <a:pt x="4101" y="4947"/>
                  <a:pt x="4142" y="4961"/>
                </a:cubicBezTo>
                <a:cubicBezTo>
                  <a:pt x="4239" y="4994"/>
                  <a:pt x="4369" y="4939"/>
                  <a:pt x="4465" y="4936"/>
                </a:cubicBezTo>
                <a:cubicBezTo>
                  <a:pt x="4625" y="4932"/>
                  <a:pt x="4791" y="4943"/>
                  <a:pt x="4936" y="4911"/>
                </a:cubicBezTo>
                <a:cubicBezTo>
                  <a:pt x="4988" y="4900"/>
                  <a:pt x="5034" y="4892"/>
                  <a:pt x="5085" y="4887"/>
                </a:cubicBezTo>
                <a:cubicBezTo>
                  <a:pt x="5164" y="4879"/>
                  <a:pt x="5232" y="4879"/>
                  <a:pt x="5308" y="4862"/>
                </a:cubicBezTo>
                <a:cubicBezTo>
                  <a:pt x="5352" y="4852"/>
                  <a:pt x="5381" y="4843"/>
                  <a:pt x="5432" y="4837"/>
                </a:cubicBezTo>
                <a:cubicBezTo>
                  <a:pt x="5513" y="4828"/>
                  <a:pt x="5589" y="4848"/>
                  <a:pt x="5655" y="4862"/>
                </a:cubicBezTo>
                <a:cubicBezTo>
                  <a:pt x="5712" y="4874"/>
                  <a:pt x="5773" y="4875"/>
                  <a:pt x="5829" y="4887"/>
                </a:cubicBezTo>
                <a:cubicBezTo>
                  <a:pt x="5903" y="4903"/>
                  <a:pt x="5988" y="4933"/>
                  <a:pt x="6052" y="4961"/>
                </a:cubicBezTo>
                <a:cubicBezTo>
                  <a:pt x="6099" y="4981"/>
                  <a:pt x="6170" y="5041"/>
                  <a:pt x="6201" y="5060"/>
                </a:cubicBezTo>
                <a:cubicBezTo>
                  <a:pt x="6229" y="5077"/>
                  <a:pt x="6236" y="5088"/>
                  <a:pt x="6276" y="5110"/>
                </a:cubicBezTo>
                <a:cubicBezTo>
                  <a:pt x="6301" y="5124"/>
                  <a:pt x="6307" y="5148"/>
                  <a:pt x="6325" y="5159"/>
                </a:cubicBezTo>
                <a:cubicBezTo>
                  <a:pt x="6389" y="5199"/>
                  <a:pt x="6358" y="5179"/>
                  <a:pt x="6424" y="5234"/>
                </a:cubicBezTo>
                <a:cubicBezTo>
                  <a:pt x="6454" y="5259"/>
                  <a:pt x="6507" y="5260"/>
                  <a:pt x="6548" y="5283"/>
                </a:cubicBezTo>
                <a:cubicBezTo>
                  <a:pt x="6597" y="5310"/>
                  <a:pt x="6639" y="5327"/>
                  <a:pt x="6697" y="5333"/>
                </a:cubicBezTo>
                <a:cubicBezTo>
                  <a:pt x="6795" y="5343"/>
                  <a:pt x="6889" y="5321"/>
                  <a:pt x="6970" y="5283"/>
                </a:cubicBezTo>
                <a:cubicBezTo>
                  <a:pt x="7015" y="5262"/>
                  <a:pt x="7045" y="5216"/>
                  <a:pt x="7094" y="5184"/>
                </a:cubicBezTo>
                <a:cubicBezTo>
                  <a:pt x="7129" y="5161"/>
                  <a:pt x="7178" y="5117"/>
                  <a:pt x="7218" y="5085"/>
                </a:cubicBezTo>
                <a:cubicBezTo>
                  <a:pt x="7308" y="5013"/>
                  <a:pt x="7292" y="5048"/>
                  <a:pt x="7392" y="5011"/>
                </a:cubicBezTo>
                <a:cubicBezTo>
                  <a:pt x="7440" y="4993"/>
                  <a:pt x="7488" y="4954"/>
                  <a:pt x="7541" y="4936"/>
                </a:cubicBezTo>
                <a:cubicBezTo>
                  <a:pt x="7607" y="4913"/>
                  <a:pt x="7672" y="4904"/>
                  <a:pt x="7739" y="4887"/>
                </a:cubicBezTo>
                <a:cubicBezTo>
                  <a:pt x="7821" y="4866"/>
                  <a:pt x="7899" y="4864"/>
                  <a:pt x="7987" y="4862"/>
                </a:cubicBezTo>
                <a:cubicBezTo>
                  <a:pt x="8139" y="4858"/>
                  <a:pt x="8287" y="4860"/>
                  <a:pt x="8434" y="4887"/>
                </a:cubicBezTo>
                <a:cubicBezTo>
                  <a:pt x="8498" y="4899"/>
                  <a:pt x="8569" y="4892"/>
                  <a:pt x="8632" y="4911"/>
                </a:cubicBezTo>
                <a:cubicBezTo>
                  <a:pt x="8654" y="4918"/>
                  <a:pt x="8738" y="4950"/>
                  <a:pt x="8756" y="4961"/>
                </a:cubicBezTo>
                <a:cubicBezTo>
                  <a:pt x="8766" y="4967"/>
                  <a:pt x="8800" y="5025"/>
                  <a:pt x="8830" y="5035"/>
                </a:cubicBezTo>
                <a:cubicBezTo>
                  <a:pt x="8882" y="5052"/>
                  <a:pt x="8973" y="5049"/>
                  <a:pt x="9029" y="5060"/>
                </a:cubicBezTo>
                <a:cubicBezTo>
                  <a:pt x="9112" y="5076"/>
                  <a:pt x="9190" y="5083"/>
                  <a:pt x="9277" y="5085"/>
                </a:cubicBezTo>
                <a:cubicBezTo>
                  <a:pt x="9376" y="5087"/>
                  <a:pt x="9476" y="5085"/>
                  <a:pt x="9575" y="5085"/>
                </a:cubicBezTo>
              </a:path>
            </a:pathLst>
          </a:custGeom>
          <a:noFill/>
          <a:ln cap="sq" w="228600">
            <a:solidFill>
              <a:srgbClr val="0033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19360" y="1693800"/>
            <a:ext cx="1557360" cy="366840"/>
          </a:xfrm>
          <a:custGeom>
            <a:avLst/>
            <a:gdLst/>
            <a:ahLst/>
            <a:rect l="l" t="t" r="r" b="b"/>
            <a:pathLst>
              <a:path w="5161" h="1216">
                <a:moveTo>
                  <a:pt x="9302" y="4242"/>
                </a:moveTo>
                <a:cubicBezTo>
                  <a:pt x="9216" y="4246"/>
                  <a:pt x="9137" y="4249"/>
                  <a:pt x="9054" y="4266"/>
                </a:cubicBezTo>
                <a:cubicBezTo>
                  <a:pt x="8966" y="4284"/>
                  <a:pt x="8871" y="4297"/>
                  <a:pt x="8781" y="4316"/>
                </a:cubicBezTo>
                <a:cubicBezTo>
                  <a:pt x="8707" y="4331"/>
                  <a:pt x="8630" y="4359"/>
                  <a:pt x="8558" y="4390"/>
                </a:cubicBezTo>
                <a:cubicBezTo>
                  <a:pt x="8486" y="4421"/>
                  <a:pt x="8416" y="4434"/>
                  <a:pt x="8334" y="4465"/>
                </a:cubicBezTo>
                <a:cubicBezTo>
                  <a:pt x="8296" y="4479"/>
                  <a:pt x="8255" y="4523"/>
                  <a:pt x="8235" y="4539"/>
                </a:cubicBezTo>
                <a:cubicBezTo>
                  <a:pt x="8177" y="4586"/>
                  <a:pt x="8144" y="4614"/>
                  <a:pt x="8086" y="4663"/>
                </a:cubicBezTo>
                <a:cubicBezTo>
                  <a:pt x="8039" y="4702"/>
                  <a:pt x="7987" y="4727"/>
                  <a:pt x="7938" y="4762"/>
                </a:cubicBezTo>
                <a:cubicBezTo>
                  <a:pt x="7870" y="4810"/>
                  <a:pt x="7806" y="4861"/>
                  <a:pt x="7739" y="4911"/>
                </a:cubicBezTo>
                <a:cubicBezTo>
                  <a:pt x="7700" y="4940"/>
                  <a:pt x="7657" y="4988"/>
                  <a:pt x="7615" y="5011"/>
                </a:cubicBezTo>
                <a:cubicBezTo>
                  <a:pt x="7588" y="5026"/>
                  <a:pt x="7562" y="5044"/>
                  <a:pt x="7541" y="5060"/>
                </a:cubicBezTo>
                <a:cubicBezTo>
                  <a:pt x="7503" y="5089"/>
                  <a:pt x="7480" y="5113"/>
                  <a:pt x="7441" y="5135"/>
                </a:cubicBezTo>
                <a:cubicBezTo>
                  <a:pt x="7407" y="5154"/>
                  <a:pt x="7375" y="5167"/>
                  <a:pt x="7342" y="5184"/>
                </a:cubicBezTo>
                <a:cubicBezTo>
                  <a:pt x="7298" y="5207"/>
                  <a:pt x="7245" y="5234"/>
                  <a:pt x="7193" y="5259"/>
                </a:cubicBezTo>
                <a:cubicBezTo>
                  <a:pt x="7144" y="5283"/>
                  <a:pt x="7069" y="5316"/>
                  <a:pt x="7020" y="5333"/>
                </a:cubicBezTo>
                <a:cubicBezTo>
                  <a:pt x="6961" y="5354"/>
                  <a:pt x="6906" y="5370"/>
                  <a:pt x="6846" y="5383"/>
                </a:cubicBezTo>
                <a:cubicBezTo>
                  <a:pt x="6785" y="5396"/>
                  <a:pt x="6738" y="5397"/>
                  <a:pt x="6672" y="5407"/>
                </a:cubicBezTo>
                <a:cubicBezTo>
                  <a:pt x="6619" y="5415"/>
                  <a:pt x="6575" y="5422"/>
                  <a:pt x="6524" y="5432"/>
                </a:cubicBezTo>
                <a:cubicBezTo>
                  <a:pt x="6481" y="5441"/>
                  <a:pt x="6445" y="5452"/>
                  <a:pt x="6400" y="5457"/>
                </a:cubicBezTo>
                <a:cubicBezTo>
                  <a:pt x="6319" y="5466"/>
                  <a:pt x="6243" y="5446"/>
                  <a:pt x="6176" y="5432"/>
                </a:cubicBezTo>
                <a:cubicBezTo>
                  <a:pt x="6132" y="5423"/>
                  <a:pt x="6091" y="5411"/>
                  <a:pt x="6052" y="5407"/>
                </a:cubicBezTo>
                <a:cubicBezTo>
                  <a:pt x="6007" y="5402"/>
                  <a:pt x="5938" y="5386"/>
                  <a:pt x="5904" y="5383"/>
                </a:cubicBezTo>
                <a:cubicBezTo>
                  <a:pt x="5838" y="5377"/>
                  <a:pt x="5788" y="5381"/>
                  <a:pt x="5730" y="5358"/>
                </a:cubicBezTo>
                <a:cubicBezTo>
                  <a:pt x="5635" y="5321"/>
                  <a:pt x="5582" y="5325"/>
                  <a:pt x="5482" y="5308"/>
                </a:cubicBezTo>
                <a:cubicBezTo>
                  <a:pt x="5419" y="5297"/>
                  <a:pt x="5345" y="5275"/>
                  <a:pt x="5283" y="5259"/>
                </a:cubicBezTo>
                <a:cubicBezTo>
                  <a:pt x="5228" y="5245"/>
                  <a:pt x="5138" y="5253"/>
                  <a:pt x="5085" y="5234"/>
                </a:cubicBezTo>
                <a:cubicBezTo>
                  <a:pt x="5083" y="5233"/>
                  <a:pt x="5033" y="5190"/>
                  <a:pt x="5011" y="5184"/>
                </a:cubicBezTo>
                <a:cubicBezTo>
                  <a:pt x="4985" y="5176"/>
                  <a:pt x="4910" y="5171"/>
                  <a:pt x="4887" y="5159"/>
                </a:cubicBezTo>
                <a:cubicBezTo>
                  <a:pt x="4826" y="5127"/>
                  <a:pt x="4772" y="5111"/>
                  <a:pt x="4713" y="5085"/>
                </a:cubicBezTo>
                <a:cubicBezTo>
                  <a:pt x="4644" y="5054"/>
                  <a:pt x="4596" y="5014"/>
                  <a:pt x="4514" y="4986"/>
                </a:cubicBezTo>
                <a:cubicBezTo>
                  <a:pt x="4473" y="4972"/>
                  <a:pt x="4409" y="4944"/>
                  <a:pt x="4366" y="4936"/>
                </a:cubicBezTo>
                <a:cubicBezTo>
                  <a:pt x="4306" y="4925"/>
                  <a:pt x="4267" y="4948"/>
                  <a:pt x="4242" y="4961"/>
                </a:cubicBezTo>
                <a:cubicBezTo>
                  <a:pt x="4209" y="4978"/>
                  <a:pt x="4216" y="4990"/>
                  <a:pt x="4192" y="5011"/>
                </a:cubicBezTo>
                <a:cubicBezTo>
                  <a:pt x="4167" y="5033"/>
                  <a:pt x="4151" y="5028"/>
                  <a:pt x="4142" y="5060"/>
                </a:cubicBezTo>
                <a:cubicBezTo>
                  <a:pt x="4127" y="5112"/>
                  <a:pt x="4152" y="5140"/>
                  <a:pt x="4167" y="5159"/>
                </a:cubicBezTo>
                <a:cubicBezTo>
                  <a:pt x="4173" y="5167"/>
                  <a:pt x="4220" y="5200"/>
                  <a:pt x="4242" y="5209"/>
                </a:cubicBezTo>
                <a:cubicBezTo>
                  <a:pt x="4326" y="5243"/>
                  <a:pt x="4421" y="5240"/>
                  <a:pt x="4514" y="5234"/>
                </a:cubicBezTo>
                <a:cubicBezTo>
                  <a:pt x="4646" y="5225"/>
                  <a:pt x="4811" y="5201"/>
                  <a:pt x="4936" y="5159"/>
                </a:cubicBezTo>
                <a:cubicBezTo>
                  <a:pt x="5073" y="5114"/>
                  <a:pt x="5262" y="5068"/>
                  <a:pt x="5383" y="4986"/>
                </a:cubicBezTo>
                <a:cubicBezTo>
                  <a:pt x="5484" y="4917"/>
                  <a:pt x="5577" y="4881"/>
                  <a:pt x="5680" y="4812"/>
                </a:cubicBezTo>
                <a:cubicBezTo>
                  <a:pt x="5741" y="4771"/>
                  <a:pt x="5781" y="4725"/>
                  <a:pt x="5829" y="4688"/>
                </a:cubicBezTo>
                <a:cubicBezTo>
                  <a:pt x="5878" y="4650"/>
                  <a:pt x="5920" y="4656"/>
                  <a:pt x="5978" y="4638"/>
                </a:cubicBezTo>
                <a:cubicBezTo>
                  <a:pt x="6056" y="4614"/>
                  <a:pt x="6121" y="4604"/>
                  <a:pt x="6201" y="4589"/>
                </a:cubicBezTo>
                <a:cubicBezTo>
                  <a:pt x="6307" y="4569"/>
                  <a:pt x="6417" y="4557"/>
                  <a:pt x="6524" y="4539"/>
                </a:cubicBezTo>
                <a:cubicBezTo>
                  <a:pt x="6654" y="4517"/>
                  <a:pt x="6788" y="4493"/>
                  <a:pt x="6921" y="4490"/>
                </a:cubicBezTo>
                <a:cubicBezTo>
                  <a:pt x="7133" y="4484"/>
                  <a:pt x="7413" y="4443"/>
                  <a:pt x="7615" y="4514"/>
                </a:cubicBezTo>
                <a:cubicBezTo>
                  <a:pt x="7648" y="4526"/>
                  <a:pt x="7704" y="4549"/>
                  <a:pt x="7714" y="4564"/>
                </a:cubicBezTo>
                <a:cubicBezTo>
                  <a:pt x="7732" y="4590"/>
                  <a:pt x="7712" y="4680"/>
                  <a:pt x="7714" y="4713"/>
                </a:cubicBezTo>
              </a:path>
            </a:pathLst>
          </a:custGeom>
          <a:noFill/>
          <a:ln cap="sq" w="3301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5320" y="2576520"/>
            <a:ext cx="428760" cy="420840"/>
          </a:xfrm>
          <a:custGeom>
            <a:avLst/>
            <a:gdLst/>
            <a:ahLst/>
            <a:rect l="l" t="t" r="r" b="b"/>
            <a:pathLst>
              <a:path w="1191" h="1167">
                <a:moveTo>
                  <a:pt x="4986" y="6449"/>
                </a:moveTo>
                <a:cubicBezTo>
                  <a:pt x="5014" y="6485"/>
                  <a:pt x="5026" y="6511"/>
                  <a:pt x="5060" y="6548"/>
                </a:cubicBezTo>
                <a:cubicBezTo>
                  <a:pt x="5073" y="6562"/>
                  <a:pt x="5092" y="6601"/>
                  <a:pt x="5110" y="6623"/>
                </a:cubicBezTo>
                <a:cubicBezTo>
                  <a:pt x="5124" y="6640"/>
                  <a:pt x="5170" y="6682"/>
                  <a:pt x="5184" y="6697"/>
                </a:cubicBezTo>
                <a:cubicBezTo>
                  <a:pt x="5202" y="6717"/>
                  <a:pt x="5239" y="6704"/>
                  <a:pt x="5259" y="6722"/>
                </a:cubicBezTo>
                <a:cubicBezTo>
                  <a:pt x="5281" y="6743"/>
                  <a:pt x="5302" y="6770"/>
                  <a:pt x="5333" y="6796"/>
                </a:cubicBezTo>
                <a:cubicBezTo>
                  <a:pt x="5384" y="6838"/>
                  <a:pt x="5407" y="6844"/>
                  <a:pt x="5457" y="6871"/>
                </a:cubicBezTo>
                <a:cubicBezTo>
                  <a:pt x="5464" y="6875"/>
                  <a:pt x="5511" y="6925"/>
                  <a:pt x="5531" y="6945"/>
                </a:cubicBezTo>
                <a:cubicBezTo>
                  <a:pt x="5544" y="6958"/>
                  <a:pt x="5576" y="7001"/>
                  <a:pt x="5606" y="7020"/>
                </a:cubicBezTo>
                <a:cubicBezTo>
                  <a:pt x="5625" y="7033"/>
                  <a:pt x="5672" y="7064"/>
                  <a:pt x="5680" y="7069"/>
                </a:cubicBezTo>
                <a:cubicBezTo>
                  <a:pt x="5715" y="7090"/>
                  <a:pt x="5735" y="7098"/>
                  <a:pt x="5755" y="7119"/>
                </a:cubicBezTo>
                <a:cubicBezTo>
                  <a:pt x="5770" y="7135"/>
                  <a:pt x="5788" y="7154"/>
                  <a:pt x="5804" y="7169"/>
                </a:cubicBezTo>
                <a:cubicBezTo>
                  <a:pt x="5830" y="7194"/>
                  <a:pt x="5850" y="7198"/>
                  <a:pt x="5879" y="7243"/>
                </a:cubicBezTo>
                <a:cubicBezTo>
                  <a:pt x="5888" y="7257"/>
                  <a:pt x="5952" y="7316"/>
                  <a:pt x="5953" y="7317"/>
                </a:cubicBezTo>
                <a:cubicBezTo>
                  <a:pt x="5976" y="7364"/>
                  <a:pt x="5957" y="7371"/>
                  <a:pt x="5978" y="7417"/>
                </a:cubicBezTo>
                <a:cubicBezTo>
                  <a:pt x="5986" y="7435"/>
                  <a:pt x="6036" y="7433"/>
                  <a:pt x="6052" y="7466"/>
                </a:cubicBezTo>
                <a:cubicBezTo>
                  <a:pt x="6070" y="7503"/>
                  <a:pt x="6055" y="7514"/>
                  <a:pt x="6077" y="7541"/>
                </a:cubicBezTo>
                <a:cubicBezTo>
                  <a:pt x="6094" y="7562"/>
                  <a:pt x="6136" y="7572"/>
                  <a:pt x="6152" y="7590"/>
                </a:cubicBezTo>
                <a:cubicBezTo>
                  <a:pt x="6152" y="7598"/>
                  <a:pt x="6152" y="7607"/>
                  <a:pt x="6152" y="7615"/>
                </a:cubicBezTo>
                <a:cubicBezTo>
                  <a:pt x="6170" y="7585"/>
                  <a:pt x="6173" y="7588"/>
                  <a:pt x="6176" y="7541"/>
                </a:cubicBezTo>
                <a:cubicBezTo>
                  <a:pt x="6185" y="7379"/>
                  <a:pt x="6176" y="7168"/>
                  <a:pt x="6152" y="7045"/>
                </a:cubicBezTo>
                <a:cubicBezTo>
                  <a:pt x="6133" y="6948"/>
                  <a:pt x="6146" y="6805"/>
                  <a:pt x="6176" y="6722"/>
                </a:cubicBezTo>
                <a:cubicBezTo>
                  <a:pt x="6120" y="6743"/>
                  <a:pt x="6064" y="6769"/>
                  <a:pt x="6003" y="6772"/>
                </a:cubicBezTo>
                <a:cubicBezTo>
                  <a:pt x="5933" y="6775"/>
                  <a:pt x="5931" y="6779"/>
                  <a:pt x="5879" y="6821"/>
                </a:cubicBezTo>
                <a:cubicBezTo>
                  <a:pt x="5856" y="6840"/>
                  <a:pt x="5849" y="6851"/>
                  <a:pt x="5829" y="6871"/>
                </a:cubicBezTo>
                <a:cubicBezTo>
                  <a:pt x="5801" y="6899"/>
                  <a:pt x="5772" y="6909"/>
                  <a:pt x="5755" y="6945"/>
                </a:cubicBezTo>
                <a:cubicBezTo>
                  <a:pt x="5732" y="6995"/>
                  <a:pt x="5747" y="6994"/>
                  <a:pt x="5730" y="7045"/>
                </a:cubicBezTo>
                <a:cubicBezTo>
                  <a:pt x="5721" y="7072"/>
                  <a:pt x="5718" y="7118"/>
                  <a:pt x="5705" y="7144"/>
                </a:cubicBezTo>
                <a:cubicBezTo>
                  <a:pt x="5699" y="7156"/>
                  <a:pt x="5667" y="7203"/>
                  <a:pt x="5655" y="7218"/>
                </a:cubicBezTo>
                <a:cubicBezTo>
                  <a:pt x="5646" y="7230"/>
                  <a:pt x="5618" y="7256"/>
                  <a:pt x="5606" y="7268"/>
                </a:cubicBezTo>
                <a:cubicBezTo>
                  <a:pt x="5590" y="7284"/>
                  <a:pt x="5531" y="7342"/>
                  <a:pt x="5531" y="7342"/>
                </a:cubicBezTo>
                <a:cubicBezTo>
                  <a:pt x="5490" y="7356"/>
                  <a:pt x="5485" y="7345"/>
                  <a:pt x="5457" y="7367"/>
                </a:cubicBezTo>
                <a:cubicBezTo>
                  <a:pt x="5413" y="7402"/>
                  <a:pt x="5419" y="7398"/>
                  <a:pt x="5383" y="7441"/>
                </a:cubicBezTo>
                <a:cubicBezTo>
                  <a:pt x="5359" y="7469"/>
                  <a:pt x="5344" y="7481"/>
                  <a:pt x="5308" y="7491"/>
                </a:cubicBezTo>
                <a:cubicBezTo>
                  <a:pt x="5265" y="7503"/>
                  <a:pt x="5262" y="7494"/>
                  <a:pt x="5234" y="7516"/>
                </a:cubicBezTo>
                <a:cubicBezTo>
                  <a:pt x="5207" y="7538"/>
                  <a:pt x="5214" y="7536"/>
                  <a:pt x="5159" y="7541"/>
                </a:cubicBezTo>
                <a:cubicBezTo>
                  <a:pt x="5151" y="7541"/>
                  <a:pt x="5143" y="7541"/>
                  <a:pt x="5135" y="7541"/>
                </a:cubicBezTo>
                <a:cubicBezTo>
                  <a:pt x="5135" y="7467"/>
                  <a:pt x="5119" y="7382"/>
                  <a:pt x="5159" y="7317"/>
                </a:cubicBezTo>
                <a:cubicBezTo>
                  <a:pt x="5178" y="7285"/>
                  <a:pt x="5169" y="7286"/>
                  <a:pt x="5184" y="7243"/>
                </a:cubicBezTo>
                <a:cubicBezTo>
                  <a:pt x="5198" y="7204"/>
                  <a:pt x="5223" y="7187"/>
                  <a:pt x="5234" y="7169"/>
                </a:cubicBezTo>
                <a:cubicBezTo>
                  <a:pt x="5248" y="7147"/>
                  <a:pt x="5269" y="7103"/>
                  <a:pt x="5283" y="7094"/>
                </a:cubicBezTo>
                <a:cubicBezTo>
                  <a:pt x="5313" y="7074"/>
                  <a:pt x="5351" y="7069"/>
                  <a:pt x="5383" y="7045"/>
                </a:cubicBezTo>
                <a:cubicBezTo>
                  <a:pt x="5402" y="7031"/>
                  <a:pt x="5406" y="7008"/>
                  <a:pt x="5457" y="7020"/>
                </a:cubicBezTo>
                <a:cubicBezTo>
                  <a:pt x="5501" y="7030"/>
                  <a:pt x="5532" y="7061"/>
                  <a:pt x="5581" y="7069"/>
                </a:cubicBezTo>
                <a:cubicBezTo>
                  <a:pt x="5628" y="7076"/>
                  <a:pt x="5715" y="7091"/>
                  <a:pt x="5730" y="7094"/>
                </a:cubicBezTo>
                <a:cubicBezTo>
                  <a:pt x="5762" y="7101"/>
                  <a:pt x="5772" y="7113"/>
                  <a:pt x="5804" y="7119"/>
                </a:cubicBezTo>
                <a:cubicBezTo>
                  <a:pt x="5834" y="7125"/>
                  <a:pt x="5873" y="7119"/>
                  <a:pt x="5904" y="7119"/>
                </a:cubicBezTo>
              </a:path>
            </a:pathLst>
          </a:custGeom>
          <a:noFill/>
          <a:ln cap="sq" w="228600">
            <a:solidFill>
              <a:srgbClr val="00008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27200" y="2709720"/>
            <a:ext cx="1152720" cy="358920"/>
          </a:xfrm>
          <a:custGeom>
            <a:avLst/>
            <a:gdLst/>
            <a:ahLst/>
            <a:rect l="l" t="t" r="r" b="b"/>
            <a:pathLst>
              <a:path w="3201" h="993">
                <a:moveTo>
                  <a:pt x="7020" y="7169"/>
                </a:moveTo>
                <a:cubicBezTo>
                  <a:pt x="7039" y="7152"/>
                  <a:pt x="7085" y="7123"/>
                  <a:pt x="7119" y="7094"/>
                </a:cubicBezTo>
                <a:cubicBezTo>
                  <a:pt x="7160" y="7059"/>
                  <a:pt x="7199" y="7026"/>
                  <a:pt x="7243" y="6995"/>
                </a:cubicBezTo>
                <a:cubicBezTo>
                  <a:pt x="7305" y="6952"/>
                  <a:pt x="7326" y="6962"/>
                  <a:pt x="7392" y="6945"/>
                </a:cubicBezTo>
                <a:cubicBezTo>
                  <a:pt x="7474" y="6924"/>
                  <a:pt x="7534" y="6882"/>
                  <a:pt x="7615" y="6871"/>
                </a:cubicBezTo>
                <a:cubicBezTo>
                  <a:pt x="7723" y="6856"/>
                  <a:pt x="7828" y="6846"/>
                  <a:pt x="7938" y="6846"/>
                </a:cubicBezTo>
                <a:cubicBezTo>
                  <a:pt x="8041" y="6846"/>
                  <a:pt x="8140" y="6863"/>
                  <a:pt x="8235" y="6871"/>
                </a:cubicBezTo>
                <a:cubicBezTo>
                  <a:pt x="8290" y="6876"/>
                  <a:pt x="8283" y="6869"/>
                  <a:pt x="8310" y="6896"/>
                </a:cubicBezTo>
                <a:cubicBezTo>
                  <a:pt x="8321" y="6907"/>
                  <a:pt x="8353" y="6939"/>
                  <a:pt x="8359" y="6970"/>
                </a:cubicBezTo>
                <a:cubicBezTo>
                  <a:pt x="8374" y="7043"/>
                  <a:pt x="8394" y="7077"/>
                  <a:pt x="8409" y="7144"/>
                </a:cubicBezTo>
                <a:cubicBezTo>
                  <a:pt x="8423" y="7210"/>
                  <a:pt x="8422" y="7275"/>
                  <a:pt x="8434" y="7342"/>
                </a:cubicBezTo>
                <a:cubicBezTo>
                  <a:pt x="8442" y="7391"/>
                  <a:pt x="8445" y="7443"/>
                  <a:pt x="8458" y="7491"/>
                </a:cubicBezTo>
                <a:cubicBezTo>
                  <a:pt x="8468" y="7528"/>
                  <a:pt x="8469" y="7606"/>
                  <a:pt x="8483" y="7640"/>
                </a:cubicBezTo>
                <a:cubicBezTo>
                  <a:pt x="8497" y="7675"/>
                  <a:pt x="8527" y="7712"/>
                  <a:pt x="8558" y="7739"/>
                </a:cubicBezTo>
                <a:cubicBezTo>
                  <a:pt x="8582" y="7759"/>
                  <a:pt x="8648" y="7797"/>
                  <a:pt x="8682" y="7813"/>
                </a:cubicBezTo>
                <a:cubicBezTo>
                  <a:pt x="8732" y="7837"/>
                  <a:pt x="8796" y="7836"/>
                  <a:pt x="8855" y="7838"/>
                </a:cubicBezTo>
                <a:cubicBezTo>
                  <a:pt x="8974" y="7842"/>
                  <a:pt x="9029" y="7770"/>
                  <a:pt x="9128" y="7714"/>
                </a:cubicBezTo>
                <a:cubicBezTo>
                  <a:pt x="9253" y="7644"/>
                  <a:pt x="9355" y="7567"/>
                  <a:pt x="9451" y="7466"/>
                </a:cubicBezTo>
                <a:cubicBezTo>
                  <a:pt x="9526" y="7387"/>
                  <a:pt x="9608" y="7332"/>
                  <a:pt x="9674" y="7243"/>
                </a:cubicBezTo>
                <a:cubicBezTo>
                  <a:pt x="9696" y="7214"/>
                  <a:pt x="9704" y="7145"/>
                  <a:pt x="9723" y="7119"/>
                </a:cubicBezTo>
                <a:cubicBezTo>
                  <a:pt x="9756" y="7074"/>
                  <a:pt x="9779" y="7070"/>
                  <a:pt x="9798" y="7045"/>
                </a:cubicBezTo>
                <a:cubicBezTo>
                  <a:pt x="9818" y="7018"/>
                  <a:pt x="9792" y="6983"/>
                  <a:pt x="9823" y="6970"/>
                </a:cubicBezTo>
                <a:cubicBezTo>
                  <a:pt x="9886" y="6944"/>
                  <a:pt x="9971" y="6994"/>
                  <a:pt x="10021" y="7020"/>
                </a:cubicBezTo>
                <a:cubicBezTo>
                  <a:pt x="10053" y="7037"/>
                  <a:pt x="10117" y="7051"/>
                  <a:pt x="10145" y="7069"/>
                </a:cubicBezTo>
                <a:cubicBezTo>
                  <a:pt x="10185" y="7095"/>
                  <a:pt x="10184" y="7098"/>
                  <a:pt x="10220" y="7119"/>
                </a:cubicBezTo>
              </a:path>
            </a:pathLst>
          </a:custGeom>
          <a:noFill/>
          <a:ln cap="sq" w="352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905120" y="3406680"/>
            <a:ext cx="1143000" cy="327240"/>
          </a:xfrm>
          <a:custGeom>
            <a:avLst/>
            <a:gdLst/>
            <a:ahLst/>
            <a:rect l="l" t="t" r="r" b="b"/>
            <a:pathLst>
              <a:path w="5086" h="1663">
                <a:moveTo>
                  <a:pt x="3944" y="9128"/>
                </a:moveTo>
                <a:cubicBezTo>
                  <a:pt x="3968" y="9178"/>
                  <a:pt x="3995" y="9220"/>
                  <a:pt x="4018" y="9277"/>
                </a:cubicBezTo>
                <a:cubicBezTo>
                  <a:pt x="4045" y="9343"/>
                  <a:pt x="4067" y="9417"/>
                  <a:pt x="4093" y="9475"/>
                </a:cubicBezTo>
                <a:cubicBezTo>
                  <a:pt x="4113" y="9520"/>
                  <a:pt x="4154" y="9555"/>
                  <a:pt x="4167" y="9575"/>
                </a:cubicBezTo>
                <a:cubicBezTo>
                  <a:pt x="4199" y="9533"/>
                  <a:pt x="4282" y="9475"/>
                  <a:pt x="4316" y="9426"/>
                </a:cubicBezTo>
                <a:cubicBezTo>
                  <a:pt x="4388" y="9322"/>
                  <a:pt x="4466" y="9210"/>
                  <a:pt x="4539" y="9103"/>
                </a:cubicBezTo>
                <a:cubicBezTo>
                  <a:pt x="4547" y="9087"/>
                  <a:pt x="4556" y="9070"/>
                  <a:pt x="4564" y="9054"/>
                </a:cubicBezTo>
                <a:cubicBezTo>
                  <a:pt x="4564" y="9175"/>
                  <a:pt x="4567" y="9287"/>
                  <a:pt x="4589" y="9401"/>
                </a:cubicBezTo>
                <a:cubicBezTo>
                  <a:pt x="4598" y="9447"/>
                  <a:pt x="4604" y="9460"/>
                  <a:pt x="4614" y="9500"/>
                </a:cubicBezTo>
                <a:cubicBezTo>
                  <a:pt x="4660" y="9430"/>
                  <a:pt x="4714" y="9333"/>
                  <a:pt x="4762" y="9277"/>
                </a:cubicBezTo>
                <a:cubicBezTo>
                  <a:pt x="4849" y="9174"/>
                  <a:pt x="4915" y="9050"/>
                  <a:pt x="5011" y="8954"/>
                </a:cubicBezTo>
                <a:cubicBezTo>
                  <a:pt x="5033" y="8932"/>
                  <a:pt x="5038" y="8924"/>
                  <a:pt x="5060" y="8930"/>
                </a:cubicBezTo>
                <a:cubicBezTo>
                  <a:pt x="5078" y="9029"/>
                  <a:pt x="5091" y="9128"/>
                  <a:pt x="5110" y="9227"/>
                </a:cubicBezTo>
                <a:cubicBezTo>
                  <a:pt x="5132" y="9342"/>
                  <a:pt x="5174" y="9460"/>
                  <a:pt x="5184" y="9575"/>
                </a:cubicBezTo>
                <a:cubicBezTo>
                  <a:pt x="5187" y="9616"/>
                  <a:pt x="5182" y="9658"/>
                  <a:pt x="5184" y="9699"/>
                </a:cubicBezTo>
                <a:cubicBezTo>
                  <a:pt x="5229" y="9632"/>
                  <a:pt x="5291" y="9566"/>
                  <a:pt x="5333" y="9500"/>
                </a:cubicBezTo>
                <a:cubicBezTo>
                  <a:pt x="5425" y="9356"/>
                  <a:pt x="5518" y="9209"/>
                  <a:pt x="5631" y="9079"/>
                </a:cubicBezTo>
                <a:cubicBezTo>
                  <a:pt x="5690" y="9011"/>
                  <a:pt x="5734" y="8948"/>
                  <a:pt x="5779" y="8880"/>
                </a:cubicBezTo>
                <a:cubicBezTo>
                  <a:pt x="5779" y="9130"/>
                  <a:pt x="5756" y="9354"/>
                  <a:pt x="5705" y="9599"/>
                </a:cubicBezTo>
                <a:cubicBezTo>
                  <a:pt x="5686" y="9690"/>
                  <a:pt x="5651" y="9791"/>
                  <a:pt x="5631" y="9872"/>
                </a:cubicBezTo>
                <a:cubicBezTo>
                  <a:pt x="5631" y="9880"/>
                  <a:pt x="5631" y="9889"/>
                  <a:pt x="5631" y="9897"/>
                </a:cubicBezTo>
                <a:cubicBezTo>
                  <a:pt x="5657" y="9841"/>
                  <a:pt x="5666" y="9756"/>
                  <a:pt x="5705" y="9699"/>
                </a:cubicBezTo>
                <a:cubicBezTo>
                  <a:pt x="5839" y="9503"/>
                  <a:pt x="6017" y="9323"/>
                  <a:pt x="6152" y="9128"/>
                </a:cubicBezTo>
                <a:cubicBezTo>
                  <a:pt x="6190" y="9074"/>
                  <a:pt x="6204" y="9076"/>
                  <a:pt x="6251" y="9029"/>
                </a:cubicBezTo>
                <a:cubicBezTo>
                  <a:pt x="6245" y="9173"/>
                  <a:pt x="6244" y="9310"/>
                  <a:pt x="6201" y="9451"/>
                </a:cubicBezTo>
                <a:cubicBezTo>
                  <a:pt x="6143" y="9639"/>
                  <a:pt x="6112" y="9829"/>
                  <a:pt x="6077" y="10021"/>
                </a:cubicBezTo>
                <a:cubicBezTo>
                  <a:pt x="6054" y="10005"/>
                  <a:pt x="5950" y="10158"/>
                  <a:pt x="6077" y="9971"/>
                </a:cubicBezTo>
                <a:cubicBezTo>
                  <a:pt x="6166" y="9840"/>
                  <a:pt x="6261" y="9710"/>
                  <a:pt x="6350" y="9575"/>
                </a:cubicBezTo>
                <a:cubicBezTo>
                  <a:pt x="6458" y="9411"/>
                  <a:pt x="6597" y="9287"/>
                  <a:pt x="6697" y="9128"/>
                </a:cubicBezTo>
                <a:cubicBezTo>
                  <a:pt x="6723" y="9086"/>
                  <a:pt x="6781" y="9003"/>
                  <a:pt x="6796" y="8979"/>
                </a:cubicBezTo>
                <a:cubicBezTo>
                  <a:pt x="6778" y="9063"/>
                  <a:pt x="6772" y="9144"/>
                  <a:pt x="6747" y="9227"/>
                </a:cubicBezTo>
                <a:cubicBezTo>
                  <a:pt x="6705" y="9366"/>
                  <a:pt x="6620" y="9492"/>
                  <a:pt x="6573" y="9624"/>
                </a:cubicBezTo>
                <a:cubicBezTo>
                  <a:pt x="6548" y="9695"/>
                  <a:pt x="6563" y="9731"/>
                  <a:pt x="6548" y="9798"/>
                </a:cubicBezTo>
                <a:cubicBezTo>
                  <a:pt x="6612" y="9695"/>
                  <a:pt x="6639" y="9645"/>
                  <a:pt x="6722" y="9550"/>
                </a:cubicBezTo>
                <a:cubicBezTo>
                  <a:pt x="6884" y="9365"/>
                  <a:pt x="7019" y="9145"/>
                  <a:pt x="7169" y="8979"/>
                </a:cubicBezTo>
                <a:cubicBezTo>
                  <a:pt x="7177" y="8963"/>
                  <a:pt x="7185" y="8946"/>
                  <a:pt x="7193" y="8930"/>
                </a:cubicBezTo>
                <a:cubicBezTo>
                  <a:pt x="7201" y="8999"/>
                  <a:pt x="7217" y="9009"/>
                  <a:pt x="7218" y="9079"/>
                </a:cubicBezTo>
                <a:cubicBezTo>
                  <a:pt x="7223" y="9335"/>
                  <a:pt x="7165" y="9619"/>
                  <a:pt x="7119" y="9872"/>
                </a:cubicBezTo>
                <a:cubicBezTo>
                  <a:pt x="7089" y="10038"/>
                  <a:pt x="7055" y="10204"/>
                  <a:pt x="7020" y="10368"/>
                </a:cubicBezTo>
                <a:cubicBezTo>
                  <a:pt x="7059" y="10301"/>
                  <a:pt x="7034" y="10313"/>
                  <a:pt x="7069" y="10244"/>
                </a:cubicBezTo>
                <a:cubicBezTo>
                  <a:pt x="7165" y="10052"/>
                  <a:pt x="7292" y="9876"/>
                  <a:pt x="7367" y="9674"/>
                </a:cubicBezTo>
                <a:cubicBezTo>
                  <a:pt x="7436" y="9488"/>
                  <a:pt x="7514" y="9309"/>
                  <a:pt x="7590" y="9128"/>
                </a:cubicBezTo>
                <a:cubicBezTo>
                  <a:pt x="7590" y="9084"/>
                  <a:pt x="7587" y="9070"/>
                  <a:pt x="7615" y="9054"/>
                </a:cubicBezTo>
                <a:cubicBezTo>
                  <a:pt x="7608" y="9228"/>
                  <a:pt x="7578" y="9379"/>
                  <a:pt x="7541" y="9550"/>
                </a:cubicBezTo>
                <a:cubicBezTo>
                  <a:pt x="7518" y="9657"/>
                  <a:pt x="7521" y="9740"/>
                  <a:pt x="7516" y="9847"/>
                </a:cubicBezTo>
                <a:cubicBezTo>
                  <a:pt x="7570" y="9739"/>
                  <a:pt x="7631" y="9620"/>
                  <a:pt x="7714" y="9525"/>
                </a:cubicBezTo>
                <a:cubicBezTo>
                  <a:pt x="7875" y="9341"/>
                  <a:pt x="8045" y="9157"/>
                  <a:pt x="8186" y="8954"/>
                </a:cubicBezTo>
                <a:cubicBezTo>
                  <a:pt x="8256" y="8836"/>
                  <a:pt x="8276" y="8799"/>
                  <a:pt x="8359" y="8756"/>
                </a:cubicBezTo>
                <a:cubicBezTo>
                  <a:pt x="8359" y="8994"/>
                  <a:pt x="8326" y="9216"/>
                  <a:pt x="8285" y="9451"/>
                </a:cubicBezTo>
                <a:cubicBezTo>
                  <a:pt x="8261" y="9592"/>
                  <a:pt x="8233" y="9732"/>
                  <a:pt x="8210" y="9872"/>
                </a:cubicBezTo>
                <a:cubicBezTo>
                  <a:pt x="8266" y="9790"/>
                  <a:pt x="8324" y="9705"/>
                  <a:pt x="8384" y="9624"/>
                </a:cubicBezTo>
                <a:cubicBezTo>
                  <a:pt x="8463" y="9517"/>
                  <a:pt x="8536" y="9394"/>
                  <a:pt x="8632" y="9302"/>
                </a:cubicBezTo>
                <a:cubicBezTo>
                  <a:pt x="8640" y="9302"/>
                  <a:pt x="8649" y="9302"/>
                  <a:pt x="8657" y="9302"/>
                </a:cubicBezTo>
                <a:cubicBezTo>
                  <a:pt x="8660" y="9320"/>
                  <a:pt x="8681" y="9444"/>
                  <a:pt x="8682" y="9500"/>
                </a:cubicBezTo>
                <a:cubicBezTo>
                  <a:pt x="8684" y="9649"/>
                  <a:pt x="8666" y="9813"/>
                  <a:pt x="8706" y="9947"/>
                </a:cubicBezTo>
                <a:cubicBezTo>
                  <a:pt x="8706" y="9971"/>
                  <a:pt x="8706" y="9979"/>
                  <a:pt x="8731" y="9971"/>
                </a:cubicBezTo>
                <a:cubicBezTo>
                  <a:pt x="8769" y="9896"/>
                  <a:pt x="8799" y="9802"/>
                  <a:pt x="8855" y="9723"/>
                </a:cubicBezTo>
                <a:cubicBezTo>
                  <a:pt x="8875" y="9695"/>
                  <a:pt x="8985" y="9534"/>
                  <a:pt x="9029" y="9525"/>
                </a:cubicBezTo>
                <a:cubicBezTo>
                  <a:pt x="9042" y="9522"/>
                  <a:pt x="9017" y="9529"/>
                  <a:pt x="9029" y="9599"/>
                </a:cubicBezTo>
                <a:cubicBezTo>
                  <a:pt x="9034" y="9631"/>
                  <a:pt x="9027" y="9667"/>
                  <a:pt x="9029" y="9699"/>
                </a:cubicBezTo>
              </a:path>
            </a:pathLst>
          </a:custGeom>
          <a:noFill/>
          <a:ln cap="sq" w="27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43040" y="4395960"/>
            <a:ext cx="2286000" cy="473040"/>
          </a:xfrm>
          <a:custGeom>
            <a:avLst/>
            <a:gdLst/>
            <a:ahLst/>
            <a:rect l="l" t="t" r="r" b="b"/>
            <a:pathLst>
              <a:path w="6351" h="1316">
                <a:moveTo>
                  <a:pt x="4564" y="10988"/>
                </a:moveTo>
                <a:cubicBezTo>
                  <a:pt x="4588" y="11020"/>
                  <a:pt x="4623" y="11091"/>
                  <a:pt x="4663" y="11137"/>
                </a:cubicBezTo>
                <a:cubicBezTo>
                  <a:pt x="4760" y="11249"/>
                  <a:pt x="4889" y="11356"/>
                  <a:pt x="5011" y="11435"/>
                </a:cubicBezTo>
                <a:cubicBezTo>
                  <a:pt x="5195" y="11554"/>
                  <a:pt x="5395" y="11615"/>
                  <a:pt x="5606" y="11658"/>
                </a:cubicBezTo>
                <a:cubicBezTo>
                  <a:pt x="5790" y="11696"/>
                  <a:pt x="6013" y="11721"/>
                  <a:pt x="6201" y="11708"/>
                </a:cubicBezTo>
                <a:cubicBezTo>
                  <a:pt x="6411" y="11693"/>
                  <a:pt x="6642" y="11635"/>
                  <a:pt x="6796" y="11485"/>
                </a:cubicBezTo>
                <a:cubicBezTo>
                  <a:pt x="6882" y="11401"/>
                  <a:pt x="6918" y="11345"/>
                  <a:pt x="6945" y="11237"/>
                </a:cubicBezTo>
                <a:cubicBezTo>
                  <a:pt x="6964" y="11160"/>
                  <a:pt x="6921" y="11183"/>
                  <a:pt x="6921" y="11137"/>
                </a:cubicBezTo>
                <a:cubicBezTo>
                  <a:pt x="6878" y="11165"/>
                  <a:pt x="6818" y="11205"/>
                  <a:pt x="6772" y="11237"/>
                </a:cubicBezTo>
                <a:cubicBezTo>
                  <a:pt x="6627" y="11336"/>
                  <a:pt x="6457" y="11425"/>
                  <a:pt x="6325" y="11534"/>
                </a:cubicBezTo>
                <a:cubicBezTo>
                  <a:pt x="6259" y="11589"/>
                  <a:pt x="6131" y="11699"/>
                  <a:pt x="6102" y="11782"/>
                </a:cubicBezTo>
                <a:cubicBezTo>
                  <a:pt x="6085" y="11832"/>
                  <a:pt x="6107" y="11894"/>
                  <a:pt x="6127" y="11931"/>
                </a:cubicBezTo>
                <a:cubicBezTo>
                  <a:pt x="6156" y="11984"/>
                  <a:pt x="6276" y="12052"/>
                  <a:pt x="6325" y="12080"/>
                </a:cubicBezTo>
                <a:cubicBezTo>
                  <a:pt x="6515" y="12187"/>
                  <a:pt x="6706" y="12241"/>
                  <a:pt x="6921" y="12278"/>
                </a:cubicBezTo>
                <a:cubicBezTo>
                  <a:pt x="7184" y="12323"/>
                  <a:pt x="7482" y="12331"/>
                  <a:pt x="7739" y="12254"/>
                </a:cubicBezTo>
                <a:cubicBezTo>
                  <a:pt x="7956" y="12189"/>
                  <a:pt x="8113" y="12057"/>
                  <a:pt x="8235" y="11881"/>
                </a:cubicBezTo>
                <a:cubicBezTo>
                  <a:pt x="8307" y="11777"/>
                  <a:pt x="8342" y="11685"/>
                  <a:pt x="8334" y="11559"/>
                </a:cubicBezTo>
                <a:cubicBezTo>
                  <a:pt x="8328" y="11471"/>
                  <a:pt x="8302" y="11398"/>
                  <a:pt x="8235" y="11336"/>
                </a:cubicBezTo>
                <a:cubicBezTo>
                  <a:pt x="8120" y="11228"/>
                  <a:pt x="8027" y="11228"/>
                  <a:pt x="7888" y="11187"/>
                </a:cubicBezTo>
                <a:cubicBezTo>
                  <a:pt x="7784" y="11157"/>
                  <a:pt x="7751" y="11111"/>
                  <a:pt x="7640" y="11162"/>
                </a:cubicBezTo>
                <a:cubicBezTo>
                  <a:pt x="7573" y="11193"/>
                  <a:pt x="7601" y="11215"/>
                  <a:pt x="7565" y="11261"/>
                </a:cubicBezTo>
                <a:cubicBezTo>
                  <a:pt x="7501" y="11343"/>
                  <a:pt x="7521" y="11380"/>
                  <a:pt x="7516" y="11485"/>
                </a:cubicBezTo>
                <a:cubicBezTo>
                  <a:pt x="7512" y="11584"/>
                  <a:pt x="7504" y="11634"/>
                  <a:pt x="7565" y="11708"/>
                </a:cubicBezTo>
                <a:cubicBezTo>
                  <a:pt x="7601" y="11752"/>
                  <a:pt x="7759" y="11848"/>
                  <a:pt x="7813" y="11857"/>
                </a:cubicBezTo>
                <a:cubicBezTo>
                  <a:pt x="8065" y="11899"/>
                  <a:pt x="8338" y="11843"/>
                  <a:pt x="8582" y="11807"/>
                </a:cubicBezTo>
                <a:cubicBezTo>
                  <a:pt x="8930" y="11756"/>
                  <a:pt x="9209" y="11630"/>
                  <a:pt x="9525" y="11485"/>
                </a:cubicBezTo>
                <a:cubicBezTo>
                  <a:pt x="9660" y="11423"/>
                  <a:pt x="9729" y="11355"/>
                  <a:pt x="9798" y="11261"/>
                </a:cubicBezTo>
                <a:cubicBezTo>
                  <a:pt x="9818" y="11221"/>
                  <a:pt x="9827" y="11215"/>
                  <a:pt x="9823" y="11187"/>
                </a:cubicBezTo>
                <a:cubicBezTo>
                  <a:pt x="9800" y="11236"/>
                  <a:pt x="9794" y="11236"/>
                  <a:pt x="9773" y="11286"/>
                </a:cubicBezTo>
                <a:cubicBezTo>
                  <a:pt x="9716" y="11424"/>
                  <a:pt x="9658" y="11537"/>
                  <a:pt x="9649" y="11683"/>
                </a:cubicBezTo>
                <a:cubicBezTo>
                  <a:pt x="9645" y="11754"/>
                  <a:pt x="9658" y="11801"/>
                  <a:pt x="9674" y="11857"/>
                </a:cubicBezTo>
                <a:cubicBezTo>
                  <a:pt x="9682" y="11865"/>
                  <a:pt x="9691" y="11873"/>
                  <a:pt x="9699" y="11881"/>
                </a:cubicBezTo>
                <a:cubicBezTo>
                  <a:pt x="9856" y="11861"/>
                  <a:pt x="10004" y="11852"/>
                  <a:pt x="10145" y="11757"/>
                </a:cubicBezTo>
                <a:cubicBezTo>
                  <a:pt x="10352" y="11617"/>
                  <a:pt x="10564" y="11439"/>
                  <a:pt x="10765" y="11286"/>
                </a:cubicBezTo>
                <a:cubicBezTo>
                  <a:pt x="10857" y="11216"/>
                  <a:pt x="10866" y="11147"/>
                  <a:pt x="10914" y="11088"/>
                </a:cubicBezTo>
                <a:cubicBezTo>
                  <a:pt x="10825" y="11211"/>
                  <a:pt x="10692" y="11335"/>
                  <a:pt x="10616" y="11460"/>
                </a:cubicBezTo>
                <a:cubicBezTo>
                  <a:pt x="10548" y="11572"/>
                  <a:pt x="10524" y="11734"/>
                  <a:pt x="10492" y="11857"/>
                </a:cubicBezTo>
                <a:cubicBezTo>
                  <a:pt x="10492" y="11865"/>
                  <a:pt x="10492" y="11873"/>
                  <a:pt x="10492" y="11881"/>
                </a:cubicBezTo>
                <a:cubicBezTo>
                  <a:pt x="10521" y="11856"/>
                  <a:pt x="10554" y="11851"/>
                  <a:pt x="10592" y="11807"/>
                </a:cubicBezTo>
                <a:cubicBezTo>
                  <a:pt x="10620" y="11775"/>
                  <a:pt x="10640" y="11741"/>
                  <a:pt x="10666" y="11708"/>
                </a:cubicBezTo>
              </a:path>
            </a:pathLst>
          </a:custGeom>
          <a:noFill/>
          <a:ln cap="sq" w="28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148360" y="620640"/>
            <a:ext cx="2592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. Kartoffel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219640" y="1557360"/>
            <a:ext cx="1368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7. Te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219640" y="2494080"/>
            <a:ext cx="2592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8. Zitron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221440" y="3429000"/>
            <a:ext cx="187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9. Apfe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148360" y="4294080"/>
            <a:ext cx="3384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0. Schokolad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0" name=""/>
          <p:cNvSpPr/>
          <p:nvPr/>
        </p:nvSpPr>
        <p:spPr>
          <a:xfrm>
            <a:off x="5759280" y="874800"/>
            <a:ext cx="1724040" cy="241200"/>
          </a:xfrm>
          <a:custGeom>
            <a:avLst/>
            <a:gdLst/>
            <a:ahLst/>
            <a:rect l="l" t="t" r="r" b="b"/>
            <a:pathLst>
              <a:path w="4788" h="671">
                <a:moveTo>
                  <a:pt x="16247" y="2431"/>
                </a:moveTo>
                <a:cubicBezTo>
                  <a:pt x="16174" y="2431"/>
                  <a:pt x="16086" y="2419"/>
                  <a:pt x="16049" y="2456"/>
                </a:cubicBezTo>
                <a:cubicBezTo>
                  <a:pt x="16008" y="2497"/>
                  <a:pt x="16042" y="2510"/>
                  <a:pt x="16024" y="2555"/>
                </a:cubicBezTo>
                <a:cubicBezTo>
                  <a:pt x="16007" y="2597"/>
                  <a:pt x="16005" y="2605"/>
                  <a:pt x="15999" y="2654"/>
                </a:cubicBezTo>
                <a:cubicBezTo>
                  <a:pt x="15992" y="2720"/>
                  <a:pt x="15995" y="2776"/>
                  <a:pt x="16024" y="2828"/>
                </a:cubicBezTo>
                <a:cubicBezTo>
                  <a:pt x="16030" y="2839"/>
                  <a:pt x="16108" y="2890"/>
                  <a:pt x="16123" y="2902"/>
                </a:cubicBezTo>
                <a:cubicBezTo>
                  <a:pt x="16186" y="2953"/>
                  <a:pt x="16250" y="2953"/>
                  <a:pt x="16321" y="2977"/>
                </a:cubicBezTo>
                <a:cubicBezTo>
                  <a:pt x="16396" y="3003"/>
                  <a:pt x="16444" y="3018"/>
                  <a:pt x="16520" y="3026"/>
                </a:cubicBezTo>
                <a:cubicBezTo>
                  <a:pt x="16617" y="3036"/>
                  <a:pt x="16635" y="2997"/>
                  <a:pt x="16694" y="2977"/>
                </a:cubicBezTo>
                <a:cubicBezTo>
                  <a:pt x="16754" y="2957"/>
                  <a:pt x="16816" y="2951"/>
                  <a:pt x="16867" y="2902"/>
                </a:cubicBezTo>
                <a:cubicBezTo>
                  <a:pt x="16895" y="2875"/>
                  <a:pt x="16955" y="2820"/>
                  <a:pt x="16966" y="2803"/>
                </a:cubicBezTo>
                <a:cubicBezTo>
                  <a:pt x="16978" y="2785"/>
                  <a:pt x="16989" y="2742"/>
                  <a:pt x="16991" y="2729"/>
                </a:cubicBezTo>
                <a:cubicBezTo>
                  <a:pt x="17001" y="2675"/>
                  <a:pt x="16991" y="2610"/>
                  <a:pt x="16991" y="2555"/>
                </a:cubicBezTo>
                <a:cubicBezTo>
                  <a:pt x="16916" y="2555"/>
                  <a:pt x="16833" y="2569"/>
                  <a:pt x="16793" y="2580"/>
                </a:cubicBezTo>
                <a:cubicBezTo>
                  <a:pt x="16748" y="2593"/>
                  <a:pt x="16718" y="2577"/>
                  <a:pt x="16694" y="2604"/>
                </a:cubicBezTo>
                <a:cubicBezTo>
                  <a:pt x="16673" y="2628"/>
                  <a:pt x="16675" y="2671"/>
                  <a:pt x="16669" y="2704"/>
                </a:cubicBezTo>
                <a:cubicBezTo>
                  <a:pt x="16659" y="2757"/>
                  <a:pt x="16675" y="2787"/>
                  <a:pt x="16694" y="2828"/>
                </a:cubicBezTo>
                <a:cubicBezTo>
                  <a:pt x="16711" y="2864"/>
                  <a:pt x="16729" y="2900"/>
                  <a:pt x="16768" y="2927"/>
                </a:cubicBezTo>
                <a:cubicBezTo>
                  <a:pt x="16782" y="2936"/>
                  <a:pt x="16849" y="2973"/>
                  <a:pt x="16867" y="2977"/>
                </a:cubicBezTo>
                <a:cubicBezTo>
                  <a:pt x="17112" y="3039"/>
                  <a:pt x="17447" y="2971"/>
                  <a:pt x="17686" y="2927"/>
                </a:cubicBezTo>
                <a:cubicBezTo>
                  <a:pt x="17829" y="2901"/>
                  <a:pt x="17959" y="2909"/>
                  <a:pt x="18083" y="2828"/>
                </a:cubicBezTo>
                <a:cubicBezTo>
                  <a:pt x="18122" y="2803"/>
                  <a:pt x="18139" y="2761"/>
                  <a:pt x="18157" y="2729"/>
                </a:cubicBezTo>
                <a:cubicBezTo>
                  <a:pt x="18168" y="2710"/>
                  <a:pt x="18168" y="2691"/>
                  <a:pt x="18182" y="2654"/>
                </a:cubicBezTo>
                <a:cubicBezTo>
                  <a:pt x="18193" y="2625"/>
                  <a:pt x="18225" y="2596"/>
                  <a:pt x="18207" y="2555"/>
                </a:cubicBezTo>
                <a:cubicBezTo>
                  <a:pt x="18201" y="2540"/>
                  <a:pt x="18159" y="2507"/>
                  <a:pt x="18132" y="2505"/>
                </a:cubicBezTo>
                <a:cubicBezTo>
                  <a:pt x="18080" y="2501"/>
                  <a:pt x="18079" y="2518"/>
                  <a:pt x="18058" y="2530"/>
                </a:cubicBezTo>
                <a:cubicBezTo>
                  <a:pt x="18003" y="2560"/>
                  <a:pt x="18033" y="2556"/>
                  <a:pt x="18008" y="2604"/>
                </a:cubicBezTo>
                <a:cubicBezTo>
                  <a:pt x="17999" y="2621"/>
                  <a:pt x="17974" y="2660"/>
                  <a:pt x="17959" y="2704"/>
                </a:cubicBezTo>
                <a:cubicBezTo>
                  <a:pt x="17956" y="2714"/>
                  <a:pt x="17939" y="2739"/>
                  <a:pt x="17934" y="2778"/>
                </a:cubicBezTo>
                <a:cubicBezTo>
                  <a:pt x="17927" y="2835"/>
                  <a:pt x="17924" y="2910"/>
                  <a:pt x="17959" y="2952"/>
                </a:cubicBezTo>
                <a:cubicBezTo>
                  <a:pt x="18024" y="3031"/>
                  <a:pt x="18074" y="3001"/>
                  <a:pt x="18157" y="3026"/>
                </a:cubicBezTo>
                <a:cubicBezTo>
                  <a:pt x="18223" y="3046"/>
                  <a:pt x="18321" y="3101"/>
                  <a:pt x="18380" y="3101"/>
                </a:cubicBezTo>
                <a:cubicBezTo>
                  <a:pt x="18431" y="3101"/>
                  <a:pt x="18438" y="3090"/>
                  <a:pt x="18479" y="3076"/>
                </a:cubicBezTo>
                <a:cubicBezTo>
                  <a:pt x="18535" y="3056"/>
                  <a:pt x="18600" y="3031"/>
                  <a:pt x="18653" y="3001"/>
                </a:cubicBezTo>
                <a:cubicBezTo>
                  <a:pt x="18693" y="2979"/>
                  <a:pt x="18752" y="2920"/>
                  <a:pt x="18777" y="2902"/>
                </a:cubicBezTo>
                <a:cubicBezTo>
                  <a:pt x="18801" y="2884"/>
                  <a:pt x="18910" y="2850"/>
                  <a:pt x="18926" y="2828"/>
                </a:cubicBezTo>
                <a:cubicBezTo>
                  <a:pt x="18955" y="2789"/>
                  <a:pt x="18950" y="2778"/>
                  <a:pt x="18951" y="2729"/>
                </a:cubicBezTo>
                <a:cubicBezTo>
                  <a:pt x="18953" y="2671"/>
                  <a:pt x="18928" y="2638"/>
                  <a:pt x="18926" y="2580"/>
                </a:cubicBezTo>
                <a:cubicBezTo>
                  <a:pt x="18926" y="2538"/>
                  <a:pt x="18926" y="2530"/>
                  <a:pt x="18926" y="2505"/>
                </a:cubicBezTo>
                <a:cubicBezTo>
                  <a:pt x="18905" y="2515"/>
                  <a:pt x="18875" y="2514"/>
                  <a:pt x="18852" y="2530"/>
                </a:cubicBezTo>
                <a:cubicBezTo>
                  <a:pt x="18825" y="2549"/>
                  <a:pt x="18811" y="2548"/>
                  <a:pt x="18802" y="2580"/>
                </a:cubicBezTo>
                <a:cubicBezTo>
                  <a:pt x="18785" y="2641"/>
                  <a:pt x="18783" y="2833"/>
                  <a:pt x="18827" y="2877"/>
                </a:cubicBezTo>
                <a:cubicBezTo>
                  <a:pt x="18849" y="2899"/>
                  <a:pt x="18899" y="2889"/>
                  <a:pt x="18926" y="2902"/>
                </a:cubicBezTo>
                <a:cubicBezTo>
                  <a:pt x="18957" y="2917"/>
                  <a:pt x="18969" y="2940"/>
                  <a:pt x="19025" y="2952"/>
                </a:cubicBezTo>
                <a:cubicBezTo>
                  <a:pt x="19185" y="2986"/>
                  <a:pt x="19369" y="2939"/>
                  <a:pt x="19521" y="2902"/>
                </a:cubicBezTo>
                <a:cubicBezTo>
                  <a:pt x="19615" y="2879"/>
                  <a:pt x="19689" y="2877"/>
                  <a:pt x="19769" y="2828"/>
                </a:cubicBezTo>
                <a:cubicBezTo>
                  <a:pt x="19801" y="2808"/>
                  <a:pt x="19801" y="2812"/>
                  <a:pt x="19819" y="2778"/>
                </a:cubicBezTo>
                <a:cubicBezTo>
                  <a:pt x="19837" y="2744"/>
                  <a:pt x="19839" y="2718"/>
                  <a:pt x="19844" y="2679"/>
                </a:cubicBezTo>
                <a:cubicBezTo>
                  <a:pt x="19855" y="2592"/>
                  <a:pt x="19844" y="2605"/>
                  <a:pt x="19794" y="2555"/>
                </a:cubicBezTo>
                <a:cubicBezTo>
                  <a:pt x="19778" y="2539"/>
                  <a:pt x="19757" y="2526"/>
                  <a:pt x="19720" y="2530"/>
                </a:cubicBezTo>
                <a:cubicBezTo>
                  <a:pt x="19649" y="2538"/>
                  <a:pt x="19700" y="2546"/>
                  <a:pt x="19645" y="2580"/>
                </a:cubicBezTo>
                <a:cubicBezTo>
                  <a:pt x="19612" y="2601"/>
                  <a:pt x="19577" y="2616"/>
                  <a:pt x="19546" y="2654"/>
                </a:cubicBezTo>
                <a:cubicBezTo>
                  <a:pt x="19509" y="2700"/>
                  <a:pt x="19513" y="2704"/>
                  <a:pt x="19496" y="2753"/>
                </a:cubicBezTo>
                <a:cubicBezTo>
                  <a:pt x="19479" y="2802"/>
                  <a:pt x="19478" y="2800"/>
                  <a:pt x="19472" y="2853"/>
                </a:cubicBezTo>
                <a:cubicBezTo>
                  <a:pt x="19465" y="2910"/>
                  <a:pt x="19475" y="2933"/>
                  <a:pt x="19496" y="2977"/>
                </a:cubicBezTo>
                <a:cubicBezTo>
                  <a:pt x="19523" y="3033"/>
                  <a:pt x="19519" y="3007"/>
                  <a:pt x="19571" y="3026"/>
                </a:cubicBezTo>
                <a:cubicBezTo>
                  <a:pt x="19614" y="3042"/>
                  <a:pt x="19644" y="3046"/>
                  <a:pt x="19695" y="3051"/>
                </a:cubicBezTo>
                <a:cubicBezTo>
                  <a:pt x="19773" y="3059"/>
                  <a:pt x="19845" y="3040"/>
                  <a:pt x="19918" y="3026"/>
                </a:cubicBezTo>
                <a:cubicBezTo>
                  <a:pt x="19974" y="3015"/>
                  <a:pt x="20036" y="3014"/>
                  <a:pt x="20092" y="3001"/>
                </a:cubicBezTo>
                <a:cubicBezTo>
                  <a:pt x="20147" y="2988"/>
                  <a:pt x="20211" y="2967"/>
                  <a:pt x="20265" y="2952"/>
                </a:cubicBezTo>
                <a:cubicBezTo>
                  <a:pt x="20325" y="2935"/>
                  <a:pt x="20322" y="2909"/>
                  <a:pt x="20365" y="2877"/>
                </a:cubicBezTo>
                <a:cubicBezTo>
                  <a:pt x="20400" y="2850"/>
                  <a:pt x="20416" y="2847"/>
                  <a:pt x="20439" y="2828"/>
                </a:cubicBezTo>
                <a:cubicBezTo>
                  <a:pt x="20457" y="2814"/>
                  <a:pt x="20493" y="2789"/>
                  <a:pt x="20513" y="2753"/>
                </a:cubicBezTo>
                <a:cubicBezTo>
                  <a:pt x="20530" y="2723"/>
                  <a:pt x="20538" y="2693"/>
                  <a:pt x="20538" y="2654"/>
                </a:cubicBezTo>
                <a:cubicBezTo>
                  <a:pt x="20538" y="2574"/>
                  <a:pt x="20522" y="2609"/>
                  <a:pt x="20464" y="2580"/>
                </a:cubicBezTo>
                <a:cubicBezTo>
                  <a:pt x="20441" y="2569"/>
                  <a:pt x="20393" y="2532"/>
                  <a:pt x="20389" y="2530"/>
                </a:cubicBezTo>
                <a:cubicBezTo>
                  <a:pt x="20381" y="2530"/>
                  <a:pt x="20373" y="2530"/>
                  <a:pt x="20365" y="2530"/>
                </a:cubicBezTo>
                <a:cubicBezTo>
                  <a:pt x="20355" y="2547"/>
                  <a:pt x="20318" y="2575"/>
                  <a:pt x="20315" y="2604"/>
                </a:cubicBezTo>
                <a:cubicBezTo>
                  <a:pt x="20306" y="2681"/>
                  <a:pt x="20307" y="2766"/>
                  <a:pt x="20340" y="2828"/>
                </a:cubicBezTo>
                <a:cubicBezTo>
                  <a:pt x="20358" y="2862"/>
                  <a:pt x="20358" y="2857"/>
                  <a:pt x="20389" y="2877"/>
                </a:cubicBezTo>
                <a:cubicBezTo>
                  <a:pt x="20433" y="2905"/>
                  <a:pt x="20438" y="2895"/>
                  <a:pt x="20489" y="2902"/>
                </a:cubicBezTo>
                <a:cubicBezTo>
                  <a:pt x="20562" y="2913"/>
                  <a:pt x="20621" y="2894"/>
                  <a:pt x="20687" y="2877"/>
                </a:cubicBezTo>
                <a:cubicBezTo>
                  <a:pt x="20711" y="2871"/>
                  <a:pt x="20733" y="2867"/>
                  <a:pt x="20762" y="2853"/>
                </a:cubicBezTo>
                <a:cubicBezTo>
                  <a:pt x="20762" y="2828"/>
                  <a:pt x="20762" y="2820"/>
                  <a:pt x="20786" y="2828"/>
                </a:cubicBezTo>
              </a:path>
            </a:pathLst>
          </a:custGeom>
          <a:noFill/>
          <a:ln cap="sq" w="228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59280" y="1724040"/>
            <a:ext cx="901800" cy="320760"/>
          </a:xfrm>
          <a:custGeom>
            <a:avLst/>
            <a:gdLst/>
            <a:ahLst/>
            <a:rect l="l" t="t" r="r" b="b"/>
            <a:pathLst>
              <a:path w="2506" h="894">
                <a:moveTo>
                  <a:pt x="15999" y="5060"/>
                </a:moveTo>
                <a:lnTo>
                  <a:pt x="15999" y="5085"/>
                </a:lnTo>
                <a:lnTo>
                  <a:pt x="15999" y="5135"/>
                </a:lnTo>
                <a:lnTo>
                  <a:pt x="15999" y="5184"/>
                </a:lnTo>
                <a:lnTo>
                  <a:pt x="15999" y="5259"/>
                </a:lnTo>
                <a:lnTo>
                  <a:pt x="15999" y="5308"/>
                </a:lnTo>
                <a:lnTo>
                  <a:pt x="16024" y="5383"/>
                </a:lnTo>
                <a:lnTo>
                  <a:pt x="16024" y="5457"/>
                </a:lnTo>
                <a:lnTo>
                  <a:pt x="16024" y="5507"/>
                </a:lnTo>
                <a:lnTo>
                  <a:pt x="16049" y="5556"/>
                </a:lnTo>
                <a:lnTo>
                  <a:pt x="16049" y="5606"/>
                </a:lnTo>
                <a:lnTo>
                  <a:pt x="16049" y="5606"/>
                </a:lnTo>
                <a:lnTo>
                  <a:pt x="16049" y="5631"/>
                </a:lnTo>
                <a:lnTo>
                  <a:pt x="16073" y="5606"/>
                </a:lnTo>
                <a:lnTo>
                  <a:pt x="16073" y="5556"/>
                </a:lnTo>
                <a:lnTo>
                  <a:pt x="16098" y="5457"/>
                </a:lnTo>
                <a:lnTo>
                  <a:pt x="16148" y="5333"/>
                </a:lnTo>
                <a:lnTo>
                  <a:pt x="16197" y="5234"/>
                </a:lnTo>
                <a:lnTo>
                  <a:pt x="16247" y="5110"/>
                </a:lnTo>
                <a:lnTo>
                  <a:pt x="16272" y="5011"/>
                </a:lnTo>
                <a:lnTo>
                  <a:pt x="16272" y="4911"/>
                </a:lnTo>
                <a:lnTo>
                  <a:pt x="16297" y="4837"/>
                </a:lnTo>
                <a:lnTo>
                  <a:pt x="16297" y="4812"/>
                </a:lnTo>
                <a:lnTo>
                  <a:pt x="16321" y="4787"/>
                </a:lnTo>
                <a:lnTo>
                  <a:pt x="16321" y="4812"/>
                </a:lnTo>
                <a:lnTo>
                  <a:pt x="16321" y="4862"/>
                </a:lnTo>
                <a:lnTo>
                  <a:pt x="16321" y="4911"/>
                </a:lnTo>
                <a:lnTo>
                  <a:pt x="16346" y="4986"/>
                </a:lnTo>
                <a:lnTo>
                  <a:pt x="16346" y="5060"/>
                </a:lnTo>
                <a:lnTo>
                  <a:pt x="16371" y="5184"/>
                </a:lnTo>
                <a:lnTo>
                  <a:pt x="16396" y="5308"/>
                </a:lnTo>
                <a:lnTo>
                  <a:pt x="16421" y="5407"/>
                </a:lnTo>
                <a:lnTo>
                  <a:pt x="16446" y="5482"/>
                </a:lnTo>
                <a:lnTo>
                  <a:pt x="16446" y="5531"/>
                </a:lnTo>
                <a:lnTo>
                  <a:pt x="16446" y="5556"/>
                </a:lnTo>
                <a:lnTo>
                  <a:pt x="16446" y="5581"/>
                </a:lnTo>
                <a:lnTo>
                  <a:pt x="16446" y="5606"/>
                </a:lnTo>
                <a:lnTo>
                  <a:pt x="16446" y="5581"/>
                </a:lnTo>
                <a:lnTo>
                  <a:pt x="16470" y="5556"/>
                </a:lnTo>
                <a:lnTo>
                  <a:pt x="16495" y="5507"/>
                </a:lnTo>
                <a:lnTo>
                  <a:pt x="16495" y="5457"/>
                </a:lnTo>
                <a:lnTo>
                  <a:pt x="16545" y="5383"/>
                </a:lnTo>
                <a:lnTo>
                  <a:pt x="16594" y="5259"/>
                </a:lnTo>
                <a:lnTo>
                  <a:pt x="16619" y="5184"/>
                </a:lnTo>
                <a:lnTo>
                  <a:pt x="16644" y="5110"/>
                </a:lnTo>
                <a:lnTo>
                  <a:pt x="16669" y="5035"/>
                </a:lnTo>
                <a:lnTo>
                  <a:pt x="16694" y="4936"/>
                </a:lnTo>
                <a:lnTo>
                  <a:pt x="16694" y="4936"/>
                </a:lnTo>
                <a:lnTo>
                  <a:pt x="16694" y="4887"/>
                </a:lnTo>
                <a:lnTo>
                  <a:pt x="16694" y="4911"/>
                </a:lnTo>
                <a:lnTo>
                  <a:pt x="16694" y="4911"/>
                </a:lnTo>
                <a:lnTo>
                  <a:pt x="16694" y="4986"/>
                </a:lnTo>
                <a:lnTo>
                  <a:pt x="16718" y="5060"/>
                </a:lnTo>
                <a:lnTo>
                  <a:pt x="16718" y="5209"/>
                </a:lnTo>
                <a:lnTo>
                  <a:pt x="16768" y="5308"/>
                </a:lnTo>
                <a:lnTo>
                  <a:pt x="16768" y="5407"/>
                </a:lnTo>
                <a:lnTo>
                  <a:pt x="16793" y="5531"/>
                </a:lnTo>
                <a:lnTo>
                  <a:pt x="16818" y="5581"/>
                </a:lnTo>
                <a:lnTo>
                  <a:pt x="16842" y="5631"/>
                </a:lnTo>
                <a:lnTo>
                  <a:pt x="16842" y="5655"/>
                </a:lnTo>
                <a:lnTo>
                  <a:pt x="16867" y="5680"/>
                </a:lnTo>
                <a:lnTo>
                  <a:pt x="16867" y="5680"/>
                </a:lnTo>
                <a:lnTo>
                  <a:pt x="16867" y="5680"/>
                </a:lnTo>
                <a:lnTo>
                  <a:pt x="16867" y="5655"/>
                </a:lnTo>
                <a:lnTo>
                  <a:pt x="16867" y="5606"/>
                </a:lnTo>
                <a:lnTo>
                  <a:pt x="16867" y="5556"/>
                </a:lnTo>
                <a:lnTo>
                  <a:pt x="16892" y="5457"/>
                </a:lnTo>
                <a:lnTo>
                  <a:pt x="16917" y="5383"/>
                </a:lnTo>
                <a:lnTo>
                  <a:pt x="16942" y="5234"/>
                </a:lnTo>
                <a:lnTo>
                  <a:pt x="16966" y="5159"/>
                </a:lnTo>
                <a:lnTo>
                  <a:pt x="16966" y="5060"/>
                </a:lnTo>
                <a:lnTo>
                  <a:pt x="16966" y="4986"/>
                </a:lnTo>
                <a:lnTo>
                  <a:pt x="16966" y="4936"/>
                </a:lnTo>
                <a:lnTo>
                  <a:pt x="16991" y="4911"/>
                </a:lnTo>
                <a:lnTo>
                  <a:pt x="16991" y="4911"/>
                </a:lnTo>
                <a:lnTo>
                  <a:pt x="16991" y="4936"/>
                </a:lnTo>
                <a:lnTo>
                  <a:pt x="17016" y="5035"/>
                </a:lnTo>
                <a:lnTo>
                  <a:pt x="17016" y="5135"/>
                </a:lnTo>
                <a:lnTo>
                  <a:pt x="17041" y="5209"/>
                </a:lnTo>
                <a:lnTo>
                  <a:pt x="17041" y="5283"/>
                </a:lnTo>
                <a:lnTo>
                  <a:pt x="17066" y="5383"/>
                </a:lnTo>
                <a:lnTo>
                  <a:pt x="17066" y="5457"/>
                </a:lnTo>
                <a:lnTo>
                  <a:pt x="17090" y="5507"/>
                </a:lnTo>
                <a:lnTo>
                  <a:pt x="17115" y="5556"/>
                </a:lnTo>
                <a:lnTo>
                  <a:pt x="17115" y="5581"/>
                </a:lnTo>
                <a:lnTo>
                  <a:pt x="17140" y="5606"/>
                </a:lnTo>
                <a:lnTo>
                  <a:pt x="17165" y="5606"/>
                </a:lnTo>
                <a:lnTo>
                  <a:pt x="17165" y="5631"/>
                </a:lnTo>
                <a:lnTo>
                  <a:pt x="17165" y="5606"/>
                </a:lnTo>
                <a:lnTo>
                  <a:pt x="17165" y="5606"/>
                </a:lnTo>
                <a:lnTo>
                  <a:pt x="17165" y="5581"/>
                </a:lnTo>
                <a:lnTo>
                  <a:pt x="17165" y="5507"/>
                </a:lnTo>
                <a:lnTo>
                  <a:pt x="17190" y="5457"/>
                </a:lnTo>
                <a:lnTo>
                  <a:pt x="17239" y="5383"/>
                </a:lnTo>
                <a:lnTo>
                  <a:pt x="17239" y="5308"/>
                </a:lnTo>
                <a:lnTo>
                  <a:pt x="17264" y="5259"/>
                </a:lnTo>
                <a:lnTo>
                  <a:pt x="17289" y="5209"/>
                </a:lnTo>
                <a:lnTo>
                  <a:pt x="17289" y="5159"/>
                </a:lnTo>
                <a:lnTo>
                  <a:pt x="17289" y="5110"/>
                </a:lnTo>
                <a:lnTo>
                  <a:pt x="17314" y="5085"/>
                </a:lnTo>
                <a:lnTo>
                  <a:pt x="17314" y="5085"/>
                </a:lnTo>
                <a:lnTo>
                  <a:pt x="17314" y="5110"/>
                </a:lnTo>
                <a:lnTo>
                  <a:pt x="17314" y="5135"/>
                </a:lnTo>
                <a:lnTo>
                  <a:pt x="17338" y="5209"/>
                </a:lnTo>
                <a:lnTo>
                  <a:pt x="17363" y="5259"/>
                </a:lnTo>
                <a:lnTo>
                  <a:pt x="17363" y="5333"/>
                </a:lnTo>
                <a:lnTo>
                  <a:pt x="17363" y="5407"/>
                </a:lnTo>
                <a:lnTo>
                  <a:pt x="17388" y="5457"/>
                </a:lnTo>
                <a:lnTo>
                  <a:pt x="17388" y="5531"/>
                </a:lnTo>
                <a:lnTo>
                  <a:pt x="17413" y="5581"/>
                </a:lnTo>
                <a:lnTo>
                  <a:pt x="17413" y="5581"/>
                </a:lnTo>
                <a:lnTo>
                  <a:pt x="17413" y="5581"/>
                </a:lnTo>
                <a:lnTo>
                  <a:pt x="17413" y="5581"/>
                </a:lnTo>
                <a:lnTo>
                  <a:pt x="17438" y="5581"/>
                </a:lnTo>
                <a:lnTo>
                  <a:pt x="17438" y="5531"/>
                </a:lnTo>
                <a:lnTo>
                  <a:pt x="17487" y="5457"/>
                </a:lnTo>
                <a:lnTo>
                  <a:pt x="17537" y="5383"/>
                </a:lnTo>
                <a:lnTo>
                  <a:pt x="17611" y="5333"/>
                </a:lnTo>
                <a:lnTo>
                  <a:pt x="17636" y="5259"/>
                </a:lnTo>
                <a:lnTo>
                  <a:pt x="17711" y="5184"/>
                </a:lnTo>
                <a:lnTo>
                  <a:pt x="17735" y="5135"/>
                </a:lnTo>
                <a:lnTo>
                  <a:pt x="17785" y="5085"/>
                </a:lnTo>
                <a:lnTo>
                  <a:pt x="17785" y="5035"/>
                </a:lnTo>
                <a:lnTo>
                  <a:pt x="17835" y="5035"/>
                </a:lnTo>
                <a:lnTo>
                  <a:pt x="17835" y="5011"/>
                </a:lnTo>
                <a:lnTo>
                  <a:pt x="17835" y="5035"/>
                </a:lnTo>
                <a:lnTo>
                  <a:pt x="17835" y="5060"/>
                </a:lnTo>
                <a:lnTo>
                  <a:pt x="17859" y="5110"/>
                </a:lnTo>
                <a:lnTo>
                  <a:pt x="17884" y="5184"/>
                </a:lnTo>
                <a:lnTo>
                  <a:pt x="17909" y="5283"/>
                </a:lnTo>
                <a:lnTo>
                  <a:pt x="17934" y="5358"/>
                </a:lnTo>
                <a:lnTo>
                  <a:pt x="17959" y="5432"/>
                </a:lnTo>
                <a:lnTo>
                  <a:pt x="18008" y="5507"/>
                </a:lnTo>
                <a:lnTo>
                  <a:pt x="18008" y="5556"/>
                </a:lnTo>
                <a:lnTo>
                  <a:pt x="18033" y="5581"/>
                </a:lnTo>
                <a:lnTo>
                  <a:pt x="18033" y="5606"/>
                </a:lnTo>
                <a:lnTo>
                  <a:pt x="18058" y="5606"/>
                </a:lnTo>
                <a:lnTo>
                  <a:pt x="18058" y="5581"/>
                </a:lnTo>
                <a:lnTo>
                  <a:pt x="18058" y="5556"/>
                </a:lnTo>
                <a:lnTo>
                  <a:pt x="18083" y="5531"/>
                </a:lnTo>
                <a:lnTo>
                  <a:pt x="18107" y="5482"/>
                </a:lnTo>
                <a:lnTo>
                  <a:pt x="18107" y="5383"/>
                </a:lnTo>
                <a:lnTo>
                  <a:pt x="18157" y="5308"/>
                </a:lnTo>
                <a:lnTo>
                  <a:pt x="18182" y="5259"/>
                </a:lnTo>
                <a:lnTo>
                  <a:pt x="18207" y="5184"/>
                </a:lnTo>
                <a:lnTo>
                  <a:pt x="18231" y="5135"/>
                </a:lnTo>
                <a:lnTo>
                  <a:pt x="18256" y="5110"/>
                </a:lnTo>
                <a:lnTo>
                  <a:pt x="18256" y="5135"/>
                </a:lnTo>
                <a:lnTo>
                  <a:pt x="18256" y="5159"/>
                </a:lnTo>
                <a:lnTo>
                  <a:pt x="18256" y="5234"/>
                </a:lnTo>
                <a:lnTo>
                  <a:pt x="18281" y="5308"/>
                </a:lnTo>
                <a:lnTo>
                  <a:pt x="18306" y="5383"/>
                </a:lnTo>
                <a:lnTo>
                  <a:pt x="18306" y="5432"/>
                </a:lnTo>
                <a:lnTo>
                  <a:pt x="18331" y="5507"/>
                </a:lnTo>
                <a:lnTo>
                  <a:pt x="18355" y="5556"/>
                </a:lnTo>
                <a:lnTo>
                  <a:pt x="18380" y="5581"/>
                </a:lnTo>
                <a:lnTo>
                  <a:pt x="18380" y="5606"/>
                </a:lnTo>
                <a:lnTo>
                  <a:pt x="18380" y="5606"/>
                </a:lnTo>
                <a:lnTo>
                  <a:pt x="18380" y="5606"/>
                </a:lnTo>
                <a:lnTo>
                  <a:pt x="18405" y="5581"/>
                </a:lnTo>
                <a:lnTo>
                  <a:pt x="18405" y="5556"/>
                </a:lnTo>
                <a:lnTo>
                  <a:pt x="18430" y="5507"/>
                </a:lnTo>
                <a:lnTo>
                  <a:pt x="18430" y="5482"/>
                </a:lnTo>
                <a:lnTo>
                  <a:pt x="18455" y="5432"/>
                </a:lnTo>
                <a:lnTo>
                  <a:pt x="18455" y="5407"/>
                </a:lnTo>
                <a:lnTo>
                  <a:pt x="18479" y="5383"/>
                </a:lnTo>
                <a:lnTo>
                  <a:pt x="18479" y="5383"/>
                </a:lnTo>
                <a:lnTo>
                  <a:pt x="18504" y="5383"/>
                </a:lnTo>
              </a:path>
            </a:pathLst>
          </a:custGeom>
          <a:noFill/>
          <a:ln cap="sq" w="228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803920" y="2544840"/>
            <a:ext cx="1785960" cy="554040"/>
          </a:xfrm>
          <a:custGeom>
            <a:avLst/>
            <a:gdLst/>
            <a:ahLst/>
            <a:rect l="l" t="t" r="r" b="b"/>
            <a:pathLst>
              <a:path w="4962" h="1539">
                <a:moveTo>
                  <a:pt x="16222" y="7193"/>
                </a:moveTo>
                <a:cubicBezTo>
                  <a:pt x="16200" y="7246"/>
                  <a:pt x="16165" y="7316"/>
                  <a:pt x="16148" y="7367"/>
                </a:cubicBezTo>
                <a:cubicBezTo>
                  <a:pt x="16129" y="7424"/>
                  <a:pt x="16132" y="7432"/>
                  <a:pt x="16123" y="7491"/>
                </a:cubicBezTo>
                <a:cubicBezTo>
                  <a:pt x="16211" y="7421"/>
                  <a:pt x="16303" y="7357"/>
                  <a:pt x="16396" y="7293"/>
                </a:cubicBezTo>
                <a:cubicBezTo>
                  <a:pt x="16500" y="7221"/>
                  <a:pt x="16589" y="7139"/>
                  <a:pt x="16694" y="7069"/>
                </a:cubicBezTo>
                <a:cubicBezTo>
                  <a:pt x="16678" y="7169"/>
                  <a:pt x="16662" y="7267"/>
                  <a:pt x="16644" y="7367"/>
                </a:cubicBezTo>
                <a:cubicBezTo>
                  <a:pt x="16631" y="7440"/>
                  <a:pt x="16618" y="7480"/>
                  <a:pt x="16594" y="7541"/>
                </a:cubicBezTo>
                <a:cubicBezTo>
                  <a:pt x="16658" y="7519"/>
                  <a:pt x="16654" y="7490"/>
                  <a:pt x="16718" y="7466"/>
                </a:cubicBezTo>
                <a:cubicBezTo>
                  <a:pt x="16828" y="7425"/>
                  <a:pt x="16976" y="7352"/>
                  <a:pt x="17090" y="7317"/>
                </a:cubicBezTo>
                <a:cubicBezTo>
                  <a:pt x="17130" y="7305"/>
                  <a:pt x="17174" y="7324"/>
                  <a:pt x="17214" y="7317"/>
                </a:cubicBezTo>
                <a:cubicBezTo>
                  <a:pt x="17214" y="7468"/>
                  <a:pt x="17207" y="7578"/>
                  <a:pt x="17165" y="7714"/>
                </a:cubicBezTo>
                <a:cubicBezTo>
                  <a:pt x="17129" y="7830"/>
                  <a:pt x="17047" y="7936"/>
                  <a:pt x="17016" y="8037"/>
                </a:cubicBezTo>
                <a:cubicBezTo>
                  <a:pt x="17016" y="8053"/>
                  <a:pt x="17016" y="8070"/>
                  <a:pt x="17016" y="8086"/>
                </a:cubicBezTo>
                <a:cubicBezTo>
                  <a:pt x="17063" y="8017"/>
                  <a:pt x="17112" y="7933"/>
                  <a:pt x="17190" y="7863"/>
                </a:cubicBezTo>
                <a:cubicBezTo>
                  <a:pt x="17351" y="7718"/>
                  <a:pt x="17517" y="7577"/>
                  <a:pt x="17686" y="7441"/>
                </a:cubicBezTo>
                <a:cubicBezTo>
                  <a:pt x="17776" y="7368"/>
                  <a:pt x="17820" y="7345"/>
                  <a:pt x="17909" y="7293"/>
                </a:cubicBezTo>
                <a:cubicBezTo>
                  <a:pt x="17876" y="7450"/>
                  <a:pt x="17827" y="7567"/>
                  <a:pt x="17760" y="7714"/>
                </a:cubicBezTo>
                <a:cubicBezTo>
                  <a:pt x="17685" y="7879"/>
                  <a:pt x="17572" y="8108"/>
                  <a:pt x="17537" y="8285"/>
                </a:cubicBezTo>
                <a:cubicBezTo>
                  <a:pt x="17537" y="8351"/>
                  <a:pt x="17537" y="8368"/>
                  <a:pt x="17537" y="8409"/>
                </a:cubicBezTo>
                <a:cubicBezTo>
                  <a:pt x="17634" y="8247"/>
                  <a:pt x="17727" y="8152"/>
                  <a:pt x="17859" y="8012"/>
                </a:cubicBezTo>
                <a:cubicBezTo>
                  <a:pt x="18052" y="7807"/>
                  <a:pt x="18256" y="7617"/>
                  <a:pt x="18455" y="7417"/>
                </a:cubicBezTo>
                <a:cubicBezTo>
                  <a:pt x="18539" y="7332"/>
                  <a:pt x="18552" y="7305"/>
                  <a:pt x="18628" y="7293"/>
                </a:cubicBezTo>
                <a:cubicBezTo>
                  <a:pt x="18615" y="7405"/>
                  <a:pt x="18593" y="7506"/>
                  <a:pt x="18554" y="7615"/>
                </a:cubicBezTo>
                <a:cubicBezTo>
                  <a:pt x="18488" y="7799"/>
                  <a:pt x="18403" y="7978"/>
                  <a:pt x="18331" y="8161"/>
                </a:cubicBezTo>
                <a:cubicBezTo>
                  <a:pt x="18291" y="8263"/>
                  <a:pt x="18279" y="8316"/>
                  <a:pt x="18256" y="8409"/>
                </a:cubicBezTo>
                <a:cubicBezTo>
                  <a:pt x="18299" y="8345"/>
                  <a:pt x="18344" y="8273"/>
                  <a:pt x="18405" y="8210"/>
                </a:cubicBezTo>
                <a:cubicBezTo>
                  <a:pt x="18556" y="8055"/>
                  <a:pt x="18721" y="7908"/>
                  <a:pt x="18901" y="7789"/>
                </a:cubicBezTo>
                <a:cubicBezTo>
                  <a:pt x="19020" y="7711"/>
                  <a:pt x="19128" y="7612"/>
                  <a:pt x="19248" y="7541"/>
                </a:cubicBezTo>
                <a:cubicBezTo>
                  <a:pt x="19256" y="7541"/>
                  <a:pt x="19265" y="7541"/>
                  <a:pt x="19273" y="7541"/>
                </a:cubicBezTo>
                <a:cubicBezTo>
                  <a:pt x="19257" y="7642"/>
                  <a:pt x="19238" y="7714"/>
                  <a:pt x="19199" y="7813"/>
                </a:cubicBezTo>
                <a:cubicBezTo>
                  <a:pt x="19146" y="7946"/>
                  <a:pt x="19086" y="8070"/>
                  <a:pt x="19050" y="8210"/>
                </a:cubicBezTo>
                <a:cubicBezTo>
                  <a:pt x="19050" y="8278"/>
                  <a:pt x="19053" y="8297"/>
                  <a:pt x="19025" y="8334"/>
                </a:cubicBezTo>
                <a:cubicBezTo>
                  <a:pt x="19096" y="8233"/>
                  <a:pt x="19145" y="8137"/>
                  <a:pt x="19224" y="8037"/>
                </a:cubicBezTo>
                <a:cubicBezTo>
                  <a:pt x="19391" y="7824"/>
                  <a:pt x="19525" y="7609"/>
                  <a:pt x="19745" y="7441"/>
                </a:cubicBezTo>
                <a:cubicBezTo>
                  <a:pt x="19825" y="7380"/>
                  <a:pt x="19950" y="7295"/>
                  <a:pt x="20017" y="7243"/>
                </a:cubicBezTo>
                <a:cubicBezTo>
                  <a:pt x="20011" y="7378"/>
                  <a:pt x="20004" y="7507"/>
                  <a:pt x="19968" y="7640"/>
                </a:cubicBezTo>
                <a:cubicBezTo>
                  <a:pt x="19913" y="7842"/>
                  <a:pt x="19890" y="7979"/>
                  <a:pt x="19869" y="8186"/>
                </a:cubicBezTo>
                <a:cubicBezTo>
                  <a:pt x="19844" y="8259"/>
                  <a:pt x="19836" y="8282"/>
                  <a:pt x="19844" y="8334"/>
                </a:cubicBezTo>
                <a:cubicBezTo>
                  <a:pt x="19870" y="8286"/>
                  <a:pt x="19864" y="8281"/>
                  <a:pt x="19893" y="8235"/>
                </a:cubicBezTo>
                <a:cubicBezTo>
                  <a:pt x="19969" y="8113"/>
                  <a:pt x="20059" y="7997"/>
                  <a:pt x="20141" y="7888"/>
                </a:cubicBezTo>
                <a:cubicBezTo>
                  <a:pt x="20204" y="7805"/>
                  <a:pt x="20268" y="7787"/>
                  <a:pt x="20340" y="7739"/>
                </a:cubicBezTo>
                <a:cubicBezTo>
                  <a:pt x="20340" y="8028"/>
                  <a:pt x="20322" y="8325"/>
                  <a:pt x="20365" y="8607"/>
                </a:cubicBezTo>
                <a:cubicBezTo>
                  <a:pt x="20466" y="8506"/>
                  <a:pt x="20518" y="8388"/>
                  <a:pt x="20613" y="8260"/>
                </a:cubicBezTo>
                <a:cubicBezTo>
                  <a:pt x="20747" y="8079"/>
                  <a:pt x="20885" y="7851"/>
                  <a:pt x="21034" y="7689"/>
                </a:cubicBezTo>
                <a:cubicBezTo>
                  <a:pt x="21073" y="7651"/>
                  <a:pt x="21090" y="7619"/>
                  <a:pt x="21084" y="7665"/>
                </a:cubicBezTo>
                <a:cubicBezTo>
                  <a:pt x="21048" y="7835"/>
                  <a:pt x="21052" y="8046"/>
                  <a:pt x="21010" y="8210"/>
                </a:cubicBezTo>
                <a:cubicBezTo>
                  <a:pt x="20986" y="8301"/>
                  <a:pt x="20935" y="8813"/>
                  <a:pt x="20935" y="8458"/>
                </a:cubicBezTo>
                <a:cubicBezTo>
                  <a:pt x="20935" y="8392"/>
                  <a:pt x="20935" y="8326"/>
                  <a:pt x="20935" y="8260"/>
                </a:cubicBezTo>
              </a:path>
            </a:pathLst>
          </a:custGeom>
          <a:noFill/>
          <a:ln cap="sq" w="228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848200" y="3633840"/>
            <a:ext cx="1241640" cy="223920"/>
          </a:xfrm>
          <a:custGeom>
            <a:avLst/>
            <a:gdLst/>
            <a:ahLst/>
            <a:rect l="l" t="t" r="r" b="b"/>
            <a:pathLst>
              <a:path w="3449" h="621">
                <a:moveTo>
                  <a:pt x="16247" y="10096"/>
                </a:moveTo>
                <a:cubicBezTo>
                  <a:pt x="16293" y="10137"/>
                  <a:pt x="16325" y="10152"/>
                  <a:pt x="16371" y="10195"/>
                </a:cubicBezTo>
                <a:cubicBezTo>
                  <a:pt x="16406" y="10228"/>
                  <a:pt x="16418" y="10266"/>
                  <a:pt x="16446" y="10294"/>
                </a:cubicBezTo>
                <a:cubicBezTo>
                  <a:pt x="16480" y="10328"/>
                  <a:pt x="16533" y="10343"/>
                  <a:pt x="16570" y="10368"/>
                </a:cubicBezTo>
                <a:cubicBezTo>
                  <a:pt x="16609" y="10395"/>
                  <a:pt x="16654" y="10410"/>
                  <a:pt x="16694" y="10443"/>
                </a:cubicBezTo>
                <a:cubicBezTo>
                  <a:pt x="16730" y="10472"/>
                  <a:pt x="16733" y="10484"/>
                  <a:pt x="16768" y="10517"/>
                </a:cubicBezTo>
                <a:cubicBezTo>
                  <a:pt x="16790" y="10537"/>
                  <a:pt x="16834" y="10587"/>
                  <a:pt x="16842" y="10592"/>
                </a:cubicBezTo>
                <a:cubicBezTo>
                  <a:pt x="16895" y="10622"/>
                  <a:pt x="16964" y="10628"/>
                  <a:pt x="17016" y="10666"/>
                </a:cubicBezTo>
                <a:cubicBezTo>
                  <a:pt x="17051" y="10691"/>
                  <a:pt x="17060" y="10711"/>
                  <a:pt x="17090" y="10716"/>
                </a:cubicBezTo>
                <a:cubicBezTo>
                  <a:pt x="17141" y="10725"/>
                  <a:pt x="17175" y="10703"/>
                  <a:pt x="17214" y="10691"/>
                </a:cubicBezTo>
                <a:cubicBezTo>
                  <a:pt x="17275" y="10673"/>
                  <a:pt x="17287" y="10641"/>
                  <a:pt x="17338" y="10616"/>
                </a:cubicBezTo>
                <a:cubicBezTo>
                  <a:pt x="17395" y="10588"/>
                  <a:pt x="17396" y="10583"/>
                  <a:pt x="17438" y="10542"/>
                </a:cubicBezTo>
                <a:cubicBezTo>
                  <a:pt x="17477" y="10504"/>
                  <a:pt x="17511" y="10490"/>
                  <a:pt x="17537" y="10468"/>
                </a:cubicBezTo>
                <a:cubicBezTo>
                  <a:pt x="17556" y="10452"/>
                  <a:pt x="17578" y="10419"/>
                  <a:pt x="17611" y="10393"/>
                </a:cubicBezTo>
                <a:cubicBezTo>
                  <a:pt x="17627" y="10380"/>
                  <a:pt x="17655" y="10354"/>
                  <a:pt x="17686" y="10344"/>
                </a:cubicBezTo>
                <a:cubicBezTo>
                  <a:pt x="17719" y="10333"/>
                  <a:pt x="17755" y="10329"/>
                  <a:pt x="17785" y="10319"/>
                </a:cubicBezTo>
                <a:cubicBezTo>
                  <a:pt x="17816" y="10309"/>
                  <a:pt x="17854" y="10299"/>
                  <a:pt x="17884" y="10294"/>
                </a:cubicBezTo>
                <a:cubicBezTo>
                  <a:pt x="17961" y="10283"/>
                  <a:pt x="18033" y="10285"/>
                  <a:pt x="18107" y="10269"/>
                </a:cubicBezTo>
                <a:cubicBezTo>
                  <a:pt x="18160" y="10258"/>
                  <a:pt x="18200" y="10248"/>
                  <a:pt x="18256" y="10244"/>
                </a:cubicBezTo>
                <a:cubicBezTo>
                  <a:pt x="18406" y="10234"/>
                  <a:pt x="18598" y="10221"/>
                  <a:pt x="18728" y="10269"/>
                </a:cubicBezTo>
                <a:cubicBezTo>
                  <a:pt x="18770" y="10285"/>
                  <a:pt x="18770" y="10276"/>
                  <a:pt x="18802" y="10294"/>
                </a:cubicBezTo>
                <a:cubicBezTo>
                  <a:pt x="18846" y="10319"/>
                  <a:pt x="18883" y="10369"/>
                  <a:pt x="18926" y="10393"/>
                </a:cubicBezTo>
                <a:cubicBezTo>
                  <a:pt x="18958" y="10411"/>
                  <a:pt x="18987" y="10411"/>
                  <a:pt x="19025" y="10418"/>
                </a:cubicBezTo>
                <a:cubicBezTo>
                  <a:pt x="19085" y="10429"/>
                  <a:pt x="19127" y="10410"/>
                  <a:pt x="19174" y="10393"/>
                </a:cubicBezTo>
                <a:cubicBezTo>
                  <a:pt x="19215" y="10378"/>
                  <a:pt x="19216" y="10380"/>
                  <a:pt x="19248" y="10368"/>
                </a:cubicBezTo>
                <a:cubicBezTo>
                  <a:pt x="19307" y="10346"/>
                  <a:pt x="19369" y="10318"/>
                  <a:pt x="19422" y="10294"/>
                </a:cubicBezTo>
                <a:cubicBezTo>
                  <a:pt x="19479" y="10268"/>
                  <a:pt x="19461" y="10266"/>
                  <a:pt x="19496" y="10244"/>
                </a:cubicBezTo>
                <a:cubicBezTo>
                  <a:pt x="19522" y="10227"/>
                  <a:pt x="19548" y="10232"/>
                  <a:pt x="19571" y="10220"/>
                </a:cubicBezTo>
                <a:cubicBezTo>
                  <a:pt x="19600" y="10206"/>
                  <a:pt x="19610" y="10212"/>
                  <a:pt x="19645" y="10195"/>
                </a:cubicBezTo>
                <a:cubicBezTo>
                  <a:pt x="19677" y="10179"/>
                  <a:pt x="19663" y="10186"/>
                  <a:pt x="19695" y="10170"/>
                </a:cubicBezTo>
              </a:path>
            </a:pathLst>
          </a:custGeom>
          <a:noFill/>
          <a:ln cap="sq" w="228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00840" y="3687840"/>
            <a:ext cx="339480" cy="1440"/>
          </a:xfrm>
          <a:custGeom>
            <a:avLst/>
            <a:gdLst/>
            <a:ahLst/>
            <a:rect l="l" t="t" r="r" b="b"/>
            <a:pathLst>
              <a:path w="943" h="1">
                <a:moveTo>
                  <a:pt x="16669" y="10244"/>
                </a:moveTo>
                <a:cubicBezTo>
                  <a:pt x="16983" y="10244"/>
                  <a:pt x="17297" y="10244"/>
                  <a:pt x="17611" y="10244"/>
                </a:cubicBezTo>
              </a:path>
            </a:pathLst>
          </a:custGeom>
          <a:noFill/>
          <a:ln cap="sq" w="228600">
            <a:solidFill>
              <a:srgbClr val="00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919840" y="4384800"/>
            <a:ext cx="2679480" cy="54000"/>
          </a:xfrm>
          <a:custGeom>
            <a:avLst/>
            <a:gdLst/>
            <a:ahLst/>
            <a:rect l="l" t="t" r="r" b="b"/>
            <a:pathLst>
              <a:path w="7442" h="150">
                <a:moveTo>
                  <a:pt x="16446" y="12328"/>
                </a:moveTo>
                <a:cubicBezTo>
                  <a:pt x="17030" y="12328"/>
                  <a:pt x="17689" y="12338"/>
                  <a:pt x="18231" y="12303"/>
                </a:cubicBezTo>
                <a:cubicBezTo>
                  <a:pt x="18378" y="12294"/>
                  <a:pt x="18506" y="12278"/>
                  <a:pt x="18653" y="12254"/>
                </a:cubicBezTo>
                <a:cubicBezTo>
                  <a:pt x="18820" y="12226"/>
                  <a:pt x="18979" y="12229"/>
                  <a:pt x="19149" y="12229"/>
                </a:cubicBezTo>
                <a:cubicBezTo>
                  <a:pt x="19316" y="12229"/>
                  <a:pt x="19488" y="12212"/>
                  <a:pt x="19645" y="12204"/>
                </a:cubicBezTo>
                <a:cubicBezTo>
                  <a:pt x="20716" y="12147"/>
                  <a:pt x="21858" y="12158"/>
                  <a:pt x="22920" y="12229"/>
                </a:cubicBezTo>
                <a:cubicBezTo>
                  <a:pt x="22977" y="12233"/>
                  <a:pt x="23076" y="12205"/>
                  <a:pt x="23093" y="12204"/>
                </a:cubicBezTo>
                <a:cubicBezTo>
                  <a:pt x="23144" y="12202"/>
                  <a:pt x="23204" y="12182"/>
                  <a:pt x="23242" y="12179"/>
                </a:cubicBezTo>
                <a:cubicBezTo>
                  <a:pt x="23344" y="12171"/>
                  <a:pt x="23442" y="12187"/>
                  <a:pt x="23540" y="12204"/>
                </a:cubicBezTo>
                <a:cubicBezTo>
                  <a:pt x="23612" y="12217"/>
                  <a:pt x="23601" y="12223"/>
                  <a:pt x="23664" y="12229"/>
                </a:cubicBezTo>
                <a:cubicBezTo>
                  <a:pt x="23738" y="12236"/>
                  <a:pt x="23813" y="12226"/>
                  <a:pt x="23887" y="12229"/>
                </a:cubicBezTo>
              </a:path>
            </a:pathLst>
          </a:custGeom>
          <a:noFill/>
          <a:ln cap="sq" w="228600">
            <a:solidFill>
              <a:srgbClr val="00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919840" y="4375080"/>
            <a:ext cx="2581200" cy="27000"/>
          </a:xfrm>
          <a:custGeom>
            <a:avLst/>
            <a:gdLst/>
            <a:ahLst/>
            <a:rect l="l" t="t" r="r" b="b"/>
            <a:pathLst>
              <a:path w="7169" h="76">
                <a:moveTo>
                  <a:pt x="16446" y="12179"/>
                </a:moveTo>
                <a:cubicBezTo>
                  <a:pt x="16482" y="12182"/>
                  <a:pt x="16484" y="12174"/>
                  <a:pt x="16520" y="12179"/>
                </a:cubicBezTo>
                <a:cubicBezTo>
                  <a:pt x="16578" y="12188"/>
                  <a:pt x="16618" y="12191"/>
                  <a:pt x="16669" y="12204"/>
                </a:cubicBezTo>
                <a:cubicBezTo>
                  <a:pt x="16703" y="12213"/>
                  <a:pt x="16736" y="12226"/>
                  <a:pt x="16768" y="12229"/>
                </a:cubicBezTo>
                <a:cubicBezTo>
                  <a:pt x="19016" y="12426"/>
                  <a:pt x="21356" y="12229"/>
                  <a:pt x="23614" y="12229"/>
                </a:cubicBezTo>
              </a:path>
            </a:pathLst>
          </a:custGeom>
          <a:noFill/>
          <a:ln cap="sq" w="228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938920" y="4464000"/>
            <a:ext cx="2660400" cy="54000"/>
          </a:xfrm>
          <a:custGeom>
            <a:avLst/>
            <a:gdLst/>
            <a:ahLst/>
            <a:rect l="l" t="t" r="r" b="b"/>
            <a:pathLst>
              <a:path w="7393" h="150">
                <a:moveTo>
                  <a:pt x="16495" y="12551"/>
                </a:moveTo>
                <a:cubicBezTo>
                  <a:pt x="16572" y="12538"/>
                  <a:pt x="16641" y="12519"/>
                  <a:pt x="16718" y="12502"/>
                </a:cubicBezTo>
                <a:cubicBezTo>
                  <a:pt x="16848" y="12474"/>
                  <a:pt x="16983" y="12471"/>
                  <a:pt x="17115" y="12452"/>
                </a:cubicBezTo>
                <a:cubicBezTo>
                  <a:pt x="17199" y="12440"/>
                  <a:pt x="17276" y="12410"/>
                  <a:pt x="17363" y="12402"/>
                </a:cubicBezTo>
                <a:cubicBezTo>
                  <a:pt x="18304" y="12318"/>
                  <a:pt x="19352" y="12369"/>
                  <a:pt x="20290" y="12427"/>
                </a:cubicBezTo>
                <a:cubicBezTo>
                  <a:pt x="20857" y="12462"/>
                  <a:pt x="21452" y="12415"/>
                  <a:pt x="22002" y="12452"/>
                </a:cubicBezTo>
                <a:cubicBezTo>
                  <a:pt x="22623" y="12494"/>
                  <a:pt x="23263" y="12452"/>
                  <a:pt x="23887" y="12452"/>
                </a:cubicBezTo>
              </a:path>
            </a:pathLst>
          </a:custGeom>
          <a:noFill/>
          <a:ln cap="sq" w="228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15040" y="4394160"/>
            <a:ext cx="2295720" cy="338040"/>
          </a:xfrm>
          <a:custGeom>
            <a:avLst/>
            <a:gdLst/>
            <a:ahLst/>
            <a:rect l="l" t="t" r="r" b="b"/>
            <a:pathLst>
              <a:path w="6376" h="943">
                <a:moveTo>
                  <a:pt x="17264" y="12477"/>
                </a:moveTo>
                <a:cubicBezTo>
                  <a:pt x="17298" y="12503"/>
                  <a:pt x="17346" y="12540"/>
                  <a:pt x="17388" y="12576"/>
                </a:cubicBezTo>
                <a:cubicBezTo>
                  <a:pt x="17509" y="12680"/>
                  <a:pt x="17634" y="12775"/>
                  <a:pt x="17760" y="12874"/>
                </a:cubicBezTo>
                <a:cubicBezTo>
                  <a:pt x="17814" y="12916"/>
                  <a:pt x="17908" y="13020"/>
                  <a:pt x="17959" y="13047"/>
                </a:cubicBezTo>
                <a:cubicBezTo>
                  <a:pt x="17982" y="13059"/>
                  <a:pt x="18040" y="13061"/>
                  <a:pt x="18058" y="13072"/>
                </a:cubicBezTo>
                <a:cubicBezTo>
                  <a:pt x="18105" y="13027"/>
                  <a:pt x="18179" y="12933"/>
                  <a:pt x="18256" y="12874"/>
                </a:cubicBezTo>
                <a:cubicBezTo>
                  <a:pt x="18320" y="12825"/>
                  <a:pt x="18420" y="12734"/>
                  <a:pt x="18479" y="12700"/>
                </a:cubicBezTo>
                <a:cubicBezTo>
                  <a:pt x="18535" y="12668"/>
                  <a:pt x="18578" y="12653"/>
                  <a:pt x="18628" y="12626"/>
                </a:cubicBezTo>
                <a:cubicBezTo>
                  <a:pt x="18670" y="12603"/>
                  <a:pt x="18738" y="12596"/>
                  <a:pt x="18777" y="12576"/>
                </a:cubicBezTo>
                <a:cubicBezTo>
                  <a:pt x="18786" y="12571"/>
                  <a:pt x="18825" y="12540"/>
                  <a:pt x="18852" y="12526"/>
                </a:cubicBezTo>
                <a:cubicBezTo>
                  <a:pt x="18891" y="12505"/>
                  <a:pt x="18908" y="12489"/>
                  <a:pt x="18951" y="12477"/>
                </a:cubicBezTo>
                <a:cubicBezTo>
                  <a:pt x="19004" y="12462"/>
                  <a:pt x="19045" y="12466"/>
                  <a:pt x="19100" y="12452"/>
                </a:cubicBezTo>
                <a:cubicBezTo>
                  <a:pt x="19131" y="12444"/>
                  <a:pt x="19150" y="12439"/>
                  <a:pt x="19199" y="12427"/>
                </a:cubicBezTo>
                <a:cubicBezTo>
                  <a:pt x="19229" y="12419"/>
                  <a:pt x="19269" y="12403"/>
                  <a:pt x="19273" y="12402"/>
                </a:cubicBezTo>
                <a:cubicBezTo>
                  <a:pt x="19317" y="12387"/>
                  <a:pt x="19355" y="12373"/>
                  <a:pt x="19397" y="12353"/>
                </a:cubicBezTo>
                <a:cubicBezTo>
                  <a:pt x="19435" y="12335"/>
                  <a:pt x="19507" y="12294"/>
                  <a:pt x="19546" y="12278"/>
                </a:cubicBezTo>
                <a:cubicBezTo>
                  <a:pt x="19577" y="12266"/>
                  <a:pt x="19590" y="12264"/>
                  <a:pt x="19621" y="12254"/>
                </a:cubicBezTo>
                <a:cubicBezTo>
                  <a:pt x="19656" y="12243"/>
                  <a:pt x="19686" y="12241"/>
                  <a:pt x="19720" y="12229"/>
                </a:cubicBezTo>
                <a:cubicBezTo>
                  <a:pt x="19747" y="12220"/>
                  <a:pt x="19786" y="12192"/>
                  <a:pt x="19819" y="12204"/>
                </a:cubicBezTo>
                <a:cubicBezTo>
                  <a:pt x="19874" y="12224"/>
                  <a:pt x="19944" y="12317"/>
                  <a:pt x="19993" y="12353"/>
                </a:cubicBezTo>
                <a:cubicBezTo>
                  <a:pt x="20129" y="12452"/>
                  <a:pt x="20281" y="12527"/>
                  <a:pt x="20414" y="12626"/>
                </a:cubicBezTo>
                <a:cubicBezTo>
                  <a:pt x="20473" y="12670"/>
                  <a:pt x="20506" y="12688"/>
                  <a:pt x="20563" y="12725"/>
                </a:cubicBezTo>
                <a:cubicBezTo>
                  <a:pt x="20653" y="12783"/>
                  <a:pt x="20699" y="12790"/>
                  <a:pt x="20811" y="12824"/>
                </a:cubicBezTo>
                <a:cubicBezTo>
                  <a:pt x="20922" y="12858"/>
                  <a:pt x="21039" y="12904"/>
                  <a:pt x="21134" y="12948"/>
                </a:cubicBezTo>
                <a:cubicBezTo>
                  <a:pt x="21196" y="12977"/>
                  <a:pt x="21215" y="12973"/>
                  <a:pt x="21258" y="12998"/>
                </a:cubicBezTo>
                <a:cubicBezTo>
                  <a:pt x="21275" y="13008"/>
                  <a:pt x="21319" y="13052"/>
                  <a:pt x="21357" y="13072"/>
                </a:cubicBezTo>
                <a:cubicBezTo>
                  <a:pt x="21379" y="13083"/>
                  <a:pt x="21427" y="13121"/>
                  <a:pt x="21431" y="13122"/>
                </a:cubicBezTo>
                <a:cubicBezTo>
                  <a:pt x="21462" y="13134"/>
                  <a:pt x="21473" y="13148"/>
                  <a:pt x="21506" y="13146"/>
                </a:cubicBezTo>
                <a:cubicBezTo>
                  <a:pt x="21542" y="13144"/>
                  <a:pt x="21544" y="13100"/>
                  <a:pt x="21580" y="13097"/>
                </a:cubicBezTo>
                <a:cubicBezTo>
                  <a:pt x="21597" y="13097"/>
                  <a:pt x="21613" y="13097"/>
                  <a:pt x="21630" y="13097"/>
                </a:cubicBezTo>
                <a:cubicBezTo>
                  <a:pt x="21656" y="13071"/>
                  <a:pt x="21678" y="13048"/>
                  <a:pt x="21704" y="13022"/>
                </a:cubicBezTo>
                <a:cubicBezTo>
                  <a:pt x="21729" y="12997"/>
                  <a:pt x="21759" y="12920"/>
                  <a:pt x="21779" y="12898"/>
                </a:cubicBezTo>
                <a:cubicBezTo>
                  <a:pt x="21812" y="12863"/>
                  <a:pt x="21831" y="12847"/>
                  <a:pt x="21853" y="12824"/>
                </a:cubicBezTo>
                <a:cubicBezTo>
                  <a:pt x="21864" y="12812"/>
                  <a:pt x="21891" y="12784"/>
                  <a:pt x="21903" y="12774"/>
                </a:cubicBezTo>
                <a:cubicBezTo>
                  <a:pt x="21941" y="12743"/>
                  <a:pt x="21985" y="12734"/>
                  <a:pt x="22027" y="12700"/>
                </a:cubicBezTo>
                <a:cubicBezTo>
                  <a:pt x="22064" y="12671"/>
                  <a:pt x="22104" y="12645"/>
                  <a:pt x="22126" y="12626"/>
                </a:cubicBezTo>
                <a:cubicBezTo>
                  <a:pt x="22152" y="12604"/>
                  <a:pt x="22174" y="12563"/>
                  <a:pt x="22200" y="12551"/>
                </a:cubicBezTo>
                <a:cubicBezTo>
                  <a:pt x="22233" y="12536"/>
                  <a:pt x="22264" y="12537"/>
                  <a:pt x="22299" y="12526"/>
                </a:cubicBezTo>
                <a:cubicBezTo>
                  <a:pt x="22338" y="12513"/>
                  <a:pt x="22386" y="12511"/>
                  <a:pt x="22423" y="12502"/>
                </a:cubicBezTo>
                <a:cubicBezTo>
                  <a:pt x="22458" y="12493"/>
                  <a:pt x="22490" y="12480"/>
                  <a:pt x="22523" y="12477"/>
                </a:cubicBezTo>
                <a:cubicBezTo>
                  <a:pt x="22572" y="12472"/>
                  <a:pt x="22598" y="12456"/>
                  <a:pt x="22647" y="12452"/>
                </a:cubicBezTo>
                <a:cubicBezTo>
                  <a:pt x="22783" y="12440"/>
                  <a:pt x="22945" y="12459"/>
                  <a:pt x="23068" y="12502"/>
                </a:cubicBezTo>
                <a:cubicBezTo>
                  <a:pt x="23121" y="12521"/>
                  <a:pt x="23166" y="12559"/>
                  <a:pt x="23217" y="12576"/>
                </a:cubicBezTo>
                <a:cubicBezTo>
                  <a:pt x="23242" y="12576"/>
                  <a:pt x="23250" y="12576"/>
                  <a:pt x="23267" y="12576"/>
                </a:cubicBezTo>
                <a:cubicBezTo>
                  <a:pt x="23282" y="12591"/>
                  <a:pt x="23319" y="12628"/>
                  <a:pt x="23341" y="12650"/>
                </a:cubicBezTo>
                <a:cubicBezTo>
                  <a:pt x="23359" y="12668"/>
                  <a:pt x="23372" y="12682"/>
                  <a:pt x="23391" y="12700"/>
                </a:cubicBezTo>
                <a:cubicBezTo>
                  <a:pt x="23413" y="12721"/>
                  <a:pt x="23455" y="12739"/>
                  <a:pt x="23465" y="12750"/>
                </a:cubicBezTo>
                <a:cubicBezTo>
                  <a:pt x="23476" y="12763"/>
                  <a:pt x="23533" y="12839"/>
                  <a:pt x="23540" y="12849"/>
                </a:cubicBezTo>
                <a:cubicBezTo>
                  <a:pt x="23559" y="12877"/>
                  <a:pt x="23542" y="12901"/>
                  <a:pt x="23564" y="12923"/>
                </a:cubicBezTo>
                <a:cubicBezTo>
                  <a:pt x="23619" y="12978"/>
                  <a:pt x="23566" y="12974"/>
                  <a:pt x="23589" y="12923"/>
                </a:cubicBezTo>
                <a:cubicBezTo>
                  <a:pt x="23609" y="12878"/>
                  <a:pt x="23595" y="12820"/>
                  <a:pt x="23614" y="12774"/>
                </a:cubicBezTo>
                <a:cubicBezTo>
                  <a:pt x="23639" y="12774"/>
                  <a:pt x="23647" y="12774"/>
                  <a:pt x="23639" y="12750"/>
                </a:cubicBezTo>
              </a:path>
            </a:pathLst>
          </a:custGeom>
          <a:noFill/>
          <a:ln cap="sq" w="228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72120" y="48038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6867" y="13345"/>
                </a:moveTo>
                <a:lnTo>
                  <a:pt x="16867" y="13345"/>
                </a:lnTo>
              </a:path>
            </a:pathLst>
          </a:custGeom>
          <a:noFill/>
          <a:ln cap="sq" w="228600">
            <a:solidFill>
              <a:srgbClr val="00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973920" y="4822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9372" y="13395"/>
                </a:moveTo>
                <a:lnTo>
                  <a:pt x="19372" y="13395"/>
                </a:lnTo>
              </a:path>
            </a:pathLst>
          </a:custGeom>
          <a:noFill/>
          <a:ln cap="sq" w="228600">
            <a:solidFill>
              <a:srgbClr val="00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178840" y="48038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22721" y="13345"/>
                </a:moveTo>
                <a:lnTo>
                  <a:pt x="22721" y="13345"/>
                </a:lnTo>
              </a:path>
            </a:pathLst>
          </a:custGeom>
          <a:noFill/>
          <a:ln cap="sq" w="228600">
            <a:solidFill>
              <a:srgbClr val="00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769080" y="4848120"/>
            <a:ext cx="9720" cy="1800"/>
          </a:xfrm>
          <a:custGeom>
            <a:avLst/>
            <a:gdLst/>
            <a:ahLst/>
            <a:rect l="l" t="t" r="r" b="b"/>
            <a:pathLst>
              <a:path w="26" h="1">
                <a:moveTo>
                  <a:pt x="18802" y="13469"/>
                </a:moveTo>
                <a:cubicBezTo>
                  <a:pt x="18810" y="13469"/>
                  <a:pt x="18819" y="13469"/>
                  <a:pt x="18827" y="13469"/>
                </a:cubicBezTo>
              </a:path>
            </a:pathLst>
          </a:custGeom>
          <a:noFill/>
          <a:ln cap="sq" w="228600">
            <a:solidFill>
              <a:srgbClr val="00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23120" y="48402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0340" y="13444"/>
                </a:moveTo>
                <a:lnTo>
                  <a:pt x="20340" y="13444"/>
                </a:lnTo>
              </a:path>
            </a:pathLst>
          </a:custGeom>
          <a:noFill/>
          <a:ln cap="sq" w="228600">
            <a:solidFill>
              <a:srgbClr val="00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900000" y="620640"/>
            <a:ext cx="2519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. Butterbro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900000" y="1557360"/>
            <a:ext cx="2519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. Schink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900000" y="2494080"/>
            <a:ext cx="2951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. Himbeer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900000" y="3357720"/>
            <a:ext cx="2519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. Karott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900000" y="4294080"/>
            <a:ext cx="3095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. Limonad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148360" y="620640"/>
            <a:ext cx="2592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. Kartoffel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219640" y="1557360"/>
            <a:ext cx="1368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7. Te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219640" y="2494080"/>
            <a:ext cx="2592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8. Zitron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221440" y="3429000"/>
            <a:ext cx="187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9. Apfe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5148360" y="4294080"/>
            <a:ext cx="3384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0. Schokolad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95280" y="433440"/>
            <a:ext cx="64764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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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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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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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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56000" y="404640"/>
            <a:ext cx="647640" cy="56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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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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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88000" y="430200"/>
            <a:ext cx="64764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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732720" y="430200"/>
            <a:ext cx="64764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00000" y="69228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34136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00000" y="198900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00000" y="263700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00000" y="321300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00000" y="386064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00000" y="450864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59280" y="69228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59280" y="126828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060720" y="198900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60720" y="256536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9280" y="321300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60720" y="386064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60720" y="450864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92720" y="69228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292720" y="134136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292720" y="198900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92720" y="263700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292720" y="328464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292720" y="393372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92720" y="450864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236000" y="69228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236000" y="134136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237440" y="191628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236000" y="263700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236000" y="321300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237440" y="386064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236000" y="450864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236000" y="515772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236000" y="580536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740720" y="48690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755640" y="515880"/>
            <a:ext cx="3168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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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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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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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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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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88000" y="534960"/>
            <a:ext cx="388764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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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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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ä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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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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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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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476280"/>
            <a:ext cx="5029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84720" y="534960"/>
            <a:ext cx="64764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755640" y="515880"/>
            <a:ext cx="3168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ANA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RB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R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IL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CA C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KAFF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ALA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ZUC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AL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88000" y="534960"/>
            <a:ext cx="388764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PFELSTRU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RA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RUCHTSA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ä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KARTOFFEL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FLAU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4000" y="476280"/>
            <a:ext cx="5029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84720" y="534960"/>
            <a:ext cx="64764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841320" y="1209600"/>
            <a:ext cx="635040" cy="8510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6804000" y="1197000"/>
            <a:ext cx="739800" cy="8128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333399"/>
                </a:solidFill>
                <a:uFillTx/>
                <a:latin typeface="Tempus Sans ITC"/>
              </a:rPr>
              <a:t>Was isst du gern?</a:t>
            </a:r>
            <a:br>
              <a:rPr sz="4000"/>
            </a:br>
            <a:r>
              <a:rPr b="0" lang="en-GB" sz="4000" spc="-1" strike="noStrike" u="sng">
                <a:solidFill>
                  <a:srgbClr val="333399"/>
                </a:solidFill>
                <a:uFillTx/>
                <a:latin typeface="Tempus Sans ITC"/>
              </a:rPr>
              <a:t>Was trinkst du ger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65040" y="1773360"/>
            <a:ext cx="3486240" cy="67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Snap ITC"/>
              </a:rPr>
              <a:t>Ich esse gern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Snap ITC"/>
              <a:ea typeface="Snap ITC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643280" y="1773360"/>
            <a:ext cx="4105440" cy="67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Snap ITC"/>
              </a:rPr>
              <a:t>Ich trinke gern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Snap ITC"/>
              <a:ea typeface="Snap ITC"/>
            </a:endParaRPr>
          </a:p>
        </p:txBody>
      </p:sp>
      <p:sp>
        <p:nvSpPr>
          <p:cNvPr id="132" name=""/>
          <p:cNvSpPr/>
          <p:nvPr/>
        </p:nvSpPr>
        <p:spPr>
          <a:xfrm>
            <a:off x="4356000" y="1989000"/>
            <a:ext cx="0" cy="4680000"/>
          </a:xfrm>
          <a:prstGeom prst="line">
            <a:avLst/>
          </a:prstGeom>
          <a:ln w="31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24000" y="2492280"/>
            <a:ext cx="8424720" cy="0"/>
          </a:xfrm>
          <a:prstGeom prst="line">
            <a:avLst/>
          </a:prstGeom>
          <a:ln w="31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012000" y="663480"/>
            <a:ext cx="1655640" cy="14302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276720" y="836640"/>
            <a:ext cx="0" cy="504036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765000"/>
            <a:ext cx="0" cy="504036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03280" y="2133720"/>
            <a:ext cx="6624720" cy="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0" y="4149720"/>
            <a:ext cx="6624720" cy="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17080" y="333360"/>
            <a:ext cx="3808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24000" y="260280"/>
            <a:ext cx="3808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365120" y="2349360"/>
            <a:ext cx="1622520" cy="16560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3708360" y="620640"/>
            <a:ext cx="1368360" cy="12715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3635280" y="2349360"/>
            <a:ext cx="1816200" cy="1440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1258920" y="4581360"/>
            <a:ext cx="1944720" cy="9637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6156360" y="2492280"/>
            <a:ext cx="1800360" cy="11890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3708360" y="4221000"/>
            <a:ext cx="1655640" cy="16383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8"/>
          <a:stretch/>
        </p:blipFill>
        <p:spPr>
          <a:xfrm>
            <a:off x="6227640" y="4508640"/>
            <a:ext cx="1513080" cy="9046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9"/>
          <a:stretch/>
        </p:blipFill>
        <p:spPr>
          <a:xfrm>
            <a:off x="1332000" y="890640"/>
            <a:ext cx="1800000" cy="8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276720" y="836640"/>
            <a:ext cx="0" cy="504036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867280" y="765000"/>
            <a:ext cx="0" cy="504036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03280" y="2133720"/>
            <a:ext cx="6624720" cy="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332000" y="4149720"/>
            <a:ext cx="6624720" cy="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8317080" y="333360"/>
            <a:ext cx="3808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24000" y="260280"/>
            <a:ext cx="3808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55" name=""/>
          <p:cNvSpPr/>
          <p:nvPr/>
        </p:nvSpPr>
        <p:spPr>
          <a:xfrm>
            <a:off x="179280" y="2708280"/>
            <a:ext cx="2880000" cy="1081080"/>
          </a:xfrm>
          <a:custGeom>
            <a:avLst/>
            <a:gdLst>
              <a:gd name="textAreaLeft" fmla="*/ 723960 w 2880000"/>
              <a:gd name="textAreaRight" fmla="*/ 2156040 w 2880000"/>
              <a:gd name="textAreaTop" fmla="*/ 271800 h 1081080"/>
              <a:gd name="textAreaBottom" fmla="*/ 80928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347" y="12249"/>
                </a:lnTo>
                <a:lnTo>
                  <a:pt x="786" y="14846"/>
                </a:lnTo>
                <a:lnTo>
                  <a:pt x="4433" y="14935"/>
                </a:lnTo>
                <a:lnTo>
                  <a:pt x="3163" y="18437"/>
                </a:lnTo>
                <a:lnTo>
                  <a:pt x="6555" y="17094"/>
                </a:lnTo>
                <a:lnTo>
                  <a:pt x="6580" y="20741"/>
                </a:lnTo>
                <a:lnTo>
                  <a:pt x="9222" y="18226"/>
                </a:lnTo>
                <a:lnTo>
                  <a:pt x="10800" y="21600"/>
                </a:lnTo>
                <a:lnTo>
                  <a:pt x="12249" y="18253"/>
                </a:lnTo>
                <a:lnTo>
                  <a:pt x="14846" y="20814"/>
                </a:lnTo>
                <a:lnTo>
                  <a:pt x="14935" y="17167"/>
                </a:lnTo>
                <a:lnTo>
                  <a:pt x="18437" y="18437"/>
                </a:lnTo>
                <a:lnTo>
                  <a:pt x="17094" y="15045"/>
                </a:lnTo>
                <a:lnTo>
                  <a:pt x="20741" y="15020"/>
                </a:lnTo>
                <a:lnTo>
                  <a:pt x="18226" y="12378"/>
                </a:lnTo>
                <a:lnTo>
                  <a:pt x="21600" y="10800"/>
                </a:lnTo>
                <a:lnTo>
                  <a:pt x="18253" y="9351"/>
                </a:lnTo>
                <a:lnTo>
                  <a:pt x="20814" y="6754"/>
                </a:lnTo>
                <a:lnTo>
                  <a:pt x="17167" y="6665"/>
                </a:lnTo>
                <a:lnTo>
                  <a:pt x="18437" y="3163"/>
                </a:lnTo>
                <a:lnTo>
                  <a:pt x="15045" y="4506"/>
                </a:lnTo>
                <a:lnTo>
                  <a:pt x="15020" y="859"/>
                </a:lnTo>
                <a:lnTo>
                  <a:pt x="12378" y="3374"/>
                </a:lnTo>
                <a:lnTo>
                  <a:pt x="10800" y="0"/>
                </a:lnTo>
                <a:lnTo>
                  <a:pt x="9351" y="3347"/>
                </a:lnTo>
                <a:lnTo>
                  <a:pt x="6754" y="786"/>
                </a:lnTo>
                <a:lnTo>
                  <a:pt x="6665" y="4433"/>
                </a:lnTo>
                <a:lnTo>
                  <a:pt x="3163" y="3163"/>
                </a:lnTo>
                <a:lnTo>
                  <a:pt x="4506" y="6555"/>
                </a:lnTo>
                <a:lnTo>
                  <a:pt x="859" y="6580"/>
                </a:lnTo>
                <a:lnTo>
                  <a:pt x="3374" y="9222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Ich esse g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1010400">
            <a:off x="5795640" y="4581360"/>
            <a:ext cx="2879640" cy="1081080"/>
          </a:xfrm>
          <a:custGeom>
            <a:avLst/>
            <a:gdLst>
              <a:gd name="textAreaLeft" fmla="*/ 723960 w 2879640"/>
              <a:gd name="textAreaRight" fmla="*/ 2155680 w 2879640"/>
              <a:gd name="textAreaTop" fmla="*/ 271800 h 1081080"/>
              <a:gd name="textAreaBottom" fmla="*/ 80928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347" y="12249"/>
                </a:lnTo>
                <a:lnTo>
                  <a:pt x="786" y="14846"/>
                </a:lnTo>
                <a:lnTo>
                  <a:pt x="4433" y="14935"/>
                </a:lnTo>
                <a:lnTo>
                  <a:pt x="3163" y="18437"/>
                </a:lnTo>
                <a:lnTo>
                  <a:pt x="6555" y="17094"/>
                </a:lnTo>
                <a:lnTo>
                  <a:pt x="6580" y="20741"/>
                </a:lnTo>
                <a:lnTo>
                  <a:pt x="9222" y="18226"/>
                </a:lnTo>
                <a:lnTo>
                  <a:pt x="10800" y="21600"/>
                </a:lnTo>
                <a:lnTo>
                  <a:pt x="12249" y="18253"/>
                </a:lnTo>
                <a:lnTo>
                  <a:pt x="14846" y="20814"/>
                </a:lnTo>
                <a:lnTo>
                  <a:pt x="14935" y="17167"/>
                </a:lnTo>
                <a:lnTo>
                  <a:pt x="18437" y="18437"/>
                </a:lnTo>
                <a:lnTo>
                  <a:pt x="17094" y="15045"/>
                </a:lnTo>
                <a:lnTo>
                  <a:pt x="20741" y="15020"/>
                </a:lnTo>
                <a:lnTo>
                  <a:pt x="18226" y="12378"/>
                </a:lnTo>
                <a:lnTo>
                  <a:pt x="21600" y="10800"/>
                </a:lnTo>
                <a:lnTo>
                  <a:pt x="18253" y="9351"/>
                </a:lnTo>
                <a:lnTo>
                  <a:pt x="20814" y="6754"/>
                </a:lnTo>
                <a:lnTo>
                  <a:pt x="17167" y="6665"/>
                </a:lnTo>
                <a:lnTo>
                  <a:pt x="18437" y="3163"/>
                </a:lnTo>
                <a:lnTo>
                  <a:pt x="15045" y="4506"/>
                </a:lnTo>
                <a:lnTo>
                  <a:pt x="15020" y="859"/>
                </a:lnTo>
                <a:lnTo>
                  <a:pt x="12378" y="3374"/>
                </a:lnTo>
                <a:lnTo>
                  <a:pt x="10800" y="0"/>
                </a:lnTo>
                <a:lnTo>
                  <a:pt x="9351" y="3347"/>
                </a:lnTo>
                <a:lnTo>
                  <a:pt x="6754" y="786"/>
                </a:lnTo>
                <a:lnTo>
                  <a:pt x="6665" y="4433"/>
                </a:lnTo>
                <a:lnTo>
                  <a:pt x="3163" y="3163"/>
                </a:lnTo>
                <a:lnTo>
                  <a:pt x="4506" y="6555"/>
                </a:lnTo>
                <a:lnTo>
                  <a:pt x="859" y="6580"/>
                </a:lnTo>
                <a:lnTo>
                  <a:pt x="3374" y="9222"/>
                </a:lnTo>
                <a:lnTo>
                  <a:pt x="0" y="10800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Ich esse g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059280" y="836640"/>
            <a:ext cx="2879640" cy="1081080"/>
          </a:xfrm>
          <a:custGeom>
            <a:avLst/>
            <a:gdLst>
              <a:gd name="textAreaLeft" fmla="*/ 723960 w 2879640"/>
              <a:gd name="textAreaRight" fmla="*/ 2155680 w 2879640"/>
              <a:gd name="textAreaTop" fmla="*/ 271800 h 1081080"/>
              <a:gd name="textAreaBottom" fmla="*/ 80928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347" y="12249"/>
                </a:lnTo>
                <a:lnTo>
                  <a:pt x="786" y="14846"/>
                </a:lnTo>
                <a:lnTo>
                  <a:pt x="4433" y="14935"/>
                </a:lnTo>
                <a:lnTo>
                  <a:pt x="3163" y="18437"/>
                </a:lnTo>
                <a:lnTo>
                  <a:pt x="6555" y="17094"/>
                </a:lnTo>
                <a:lnTo>
                  <a:pt x="6580" y="20741"/>
                </a:lnTo>
                <a:lnTo>
                  <a:pt x="9222" y="18226"/>
                </a:lnTo>
                <a:lnTo>
                  <a:pt x="10800" y="21600"/>
                </a:lnTo>
                <a:lnTo>
                  <a:pt x="12249" y="18253"/>
                </a:lnTo>
                <a:lnTo>
                  <a:pt x="14846" y="20814"/>
                </a:lnTo>
                <a:lnTo>
                  <a:pt x="14935" y="17167"/>
                </a:lnTo>
                <a:lnTo>
                  <a:pt x="18437" y="18437"/>
                </a:lnTo>
                <a:lnTo>
                  <a:pt x="17094" y="15045"/>
                </a:lnTo>
                <a:lnTo>
                  <a:pt x="20741" y="15020"/>
                </a:lnTo>
                <a:lnTo>
                  <a:pt x="18226" y="12378"/>
                </a:lnTo>
                <a:lnTo>
                  <a:pt x="21600" y="10800"/>
                </a:lnTo>
                <a:lnTo>
                  <a:pt x="18253" y="9351"/>
                </a:lnTo>
                <a:lnTo>
                  <a:pt x="20814" y="6754"/>
                </a:lnTo>
                <a:lnTo>
                  <a:pt x="17167" y="6665"/>
                </a:lnTo>
                <a:lnTo>
                  <a:pt x="18437" y="3163"/>
                </a:lnTo>
                <a:lnTo>
                  <a:pt x="15045" y="4506"/>
                </a:lnTo>
                <a:lnTo>
                  <a:pt x="15020" y="859"/>
                </a:lnTo>
                <a:lnTo>
                  <a:pt x="12378" y="3374"/>
                </a:lnTo>
                <a:lnTo>
                  <a:pt x="10800" y="0"/>
                </a:lnTo>
                <a:lnTo>
                  <a:pt x="9351" y="3347"/>
                </a:lnTo>
                <a:lnTo>
                  <a:pt x="6754" y="786"/>
                </a:lnTo>
                <a:lnTo>
                  <a:pt x="6665" y="4433"/>
                </a:lnTo>
                <a:lnTo>
                  <a:pt x="3163" y="3163"/>
                </a:lnTo>
                <a:lnTo>
                  <a:pt x="4506" y="6555"/>
                </a:lnTo>
                <a:lnTo>
                  <a:pt x="859" y="6580"/>
                </a:lnTo>
                <a:lnTo>
                  <a:pt x="3374" y="922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Ich esse g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32000" y="4653000"/>
            <a:ext cx="2880000" cy="1081080"/>
          </a:xfrm>
          <a:custGeom>
            <a:avLst/>
            <a:gdLst>
              <a:gd name="textAreaLeft" fmla="*/ 723960 w 2880000"/>
              <a:gd name="textAreaRight" fmla="*/ 2156040 w 2880000"/>
              <a:gd name="textAreaTop" fmla="*/ 271800 h 1081080"/>
              <a:gd name="textAreaBottom" fmla="*/ 80928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347" y="12249"/>
                </a:lnTo>
                <a:lnTo>
                  <a:pt x="786" y="14846"/>
                </a:lnTo>
                <a:lnTo>
                  <a:pt x="4433" y="14935"/>
                </a:lnTo>
                <a:lnTo>
                  <a:pt x="3163" y="18437"/>
                </a:lnTo>
                <a:lnTo>
                  <a:pt x="6555" y="17094"/>
                </a:lnTo>
                <a:lnTo>
                  <a:pt x="6580" y="20741"/>
                </a:lnTo>
                <a:lnTo>
                  <a:pt x="9222" y="18226"/>
                </a:lnTo>
                <a:lnTo>
                  <a:pt x="10800" y="21600"/>
                </a:lnTo>
                <a:lnTo>
                  <a:pt x="12249" y="18253"/>
                </a:lnTo>
                <a:lnTo>
                  <a:pt x="14846" y="20814"/>
                </a:lnTo>
                <a:lnTo>
                  <a:pt x="14935" y="17167"/>
                </a:lnTo>
                <a:lnTo>
                  <a:pt x="18437" y="18437"/>
                </a:lnTo>
                <a:lnTo>
                  <a:pt x="17094" y="15045"/>
                </a:lnTo>
                <a:lnTo>
                  <a:pt x="20741" y="15020"/>
                </a:lnTo>
                <a:lnTo>
                  <a:pt x="18226" y="12378"/>
                </a:lnTo>
                <a:lnTo>
                  <a:pt x="21600" y="10800"/>
                </a:lnTo>
                <a:lnTo>
                  <a:pt x="18253" y="9351"/>
                </a:lnTo>
                <a:lnTo>
                  <a:pt x="20814" y="6754"/>
                </a:lnTo>
                <a:lnTo>
                  <a:pt x="17167" y="6665"/>
                </a:lnTo>
                <a:lnTo>
                  <a:pt x="18437" y="3163"/>
                </a:lnTo>
                <a:lnTo>
                  <a:pt x="15045" y="4506"/>
                </a:lnTo>
                <a:lnTo>
                  <a:pt x="15020" y="859"/>
                </a:lnTo>
                <a:lnTo>
                  <a:pt x="12378" y="3374"/>
                </a:lnTo>
                <a:lnTo>
                  <a:pt x="10800" y="0"/>
                </a:lnTo>
                <a:lnTo>
                  <a:pt x="9351" y="3347"/>
                </a:lnTo>
                <a:lnTo>
                  <a:pt x="6754" y="786"/>
                </a:lnTo>
                <a:lnTo>
                  <a:pt x="6665" y="4433"/>
                </a:lnTo>
                <a:lnTo>
                  <a:pt x="3163" y="3163"/>
                </a:lnTo>
                <a:lnTo>
                  <a:pt x="4506" y="6555"/>
                </a:lnTo>
                <a:lnTo>
                  <a:pt x="859" y="6580"/>
                </a:lnTo>
                <a:lnTo>
                  <a:pt x="3374" y="9222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Ich esse g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0848200">
            <a:off x="611280" y="907560"/>
            <a:ext cx="2879640" cy="1081080"/>
          </a:xfrm>
          <a:custGeom>
            <a:avLst/>
            <a:gdLst>
              <a:gd name="textAreaLeft" fmla="*/ 723960 w 2879640"/>
              <a:gd name="textAreaRight" fmla="*/ 2155680 w 2879640"/>
              <a:gd name="textAreaTop" fmla="*/ 271800 h 1081080"/>
              <a:gd name="textAreaBottom" fmla="*/ 80928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347" y="12249"/>
                </a:lnTo>
                <a:lnTo>
                  <a:pt x="786" y="14846"/>
                </a:lnTo>
                <a:lnTo>
                  <a:pt x="4433" y="14935"/>
                </a:lnTo>
                <a:lnTo>
                  <a:pt x="3163" y="18437"/>
                </a:lnTo>
                <a:lnTo>
                  <a:pt x="6555" y="17094"/>
                </a:lnTo>
                <a:lnTo>
                  <a:pt x="6580" y="20741"/>
                </a:lnTo>
                <a:lnTo>
                  <a:pt x="9222" y="18226"/>
                </a:lnTo>
                <a:lnTo>
                  <a:pt x="10800" y="21600"/>
                </a:lnTo>
                <a:lnTo>
                  <a:pt x="12249" y="18253"/>
                </a:lnTo>
                <a:lnTo>
                  <a:pt x="14846" y="20814"/>
                </a:lnTo>
                <a:lnTo>
                  <a:pt x="14935" y="17167"/>
                </a:lnTo>
                <a:lnTo>
                  <a:pt x="18437" y="18437"/>
                </a:lnTo>
                <a:lnTo>
                  <a:pt x="17094" y="15045"/>
                </a:lnTo>
                <a:lnTo>
                  <a:pt x="20741" y="15020"/>
                </a:lnTo>
                <a:lnTo>
                  <a:pt x="18226" y="12378"/>
                </a:lnTo>
                <a:lnTo>
                  <a:pt x="21600" y="10800"/>
                </a:lnTo>
                <a:lnTo>
                  <a:pt x="18253" y="9351"/>
                </a:lnTo>
                <a:lnTo>
                  <a:pt x="20814" y="6754"/>
                </a:lnTo>
                <a:lnTo>
                  <a:pt x="17167" y="6665"/>
                </a:lnTo>
                <a:lnTo>
                  <a:pt x="18437" y="3163"/>
                </a:lnTo>
                <a:lnTo>
                  <a:pt x="15045" y="4506"/>
                </a:lnTo>
                <a:lnTo>
                  <a:pt x="15020" y="859"/>
                </a:lnTo>
                <a:lnTo>
                  <a:pt x="12378" y="3374"/>
                </a:lnTo>
                <a:lnTo>
                  <a:pt x="10800" y="0"/>
                </a:lnTo>
                <a:lnTo>
                  <a:pt x="9351" y="3347"/>
                </a:lnTo>
                <a:lnTo>
                  <a:pt x="6754" y="786"/>
                </a:lnTo>
                <a:lnTo>
                  <a:pt x="6665" y="4433"/>
                </a:lnTo>
                <a:lnTo>
                  <a:pt x="3163" y="3163"/>
                </a:lnTo>
                <a:lnTo>
                  <a:pt x="4506" y="6555"/>
                </a:lnTo>
                <a:lnTo>
                  <a:pt x="859" y="6580"/>
                </a:lnTo>
                <a:lnTo>
                  <a:pt x="3374" y="9222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Ich trinke g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20203800">
            <a:off x="610920" y="4365360"/>
            <a:ext cx="2879640" cy="1081080"/>
          </a:xfrm>
          <a:custGeom>
            <a:avLst/>
            <a:gdLst>
              <a:gd name="textAreaLeft" fmla="*/ 723960 w 2879640"/>
              <a:gd name="textAreaRight" fmla="*/ 2155680 w 2879640"/>
              <a:gd name="textAreaTop" fmla="*/ 271800 h 1081080"/>
              <a:gd name="textAreaBottom" fmla="*/ 80928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347" y="12249"/>
                </a:lnTo>
                <a:lnTo>
                  <a:pt x="786" y="14846"/>
                </a:lnTo>
                <a:lnTo>
                  <a:pt x="4433" y="14935"/>
                </a:lnTo>
                <a:lnTo>
                  <a:pt x="3163" y="18437"/>
                </a:lnTo>
                <a:lnTo>
                  <a:pt x="6555" y="17094"/>
                </a:lnTo>
                <a:lnTo>
                  <a:pt x="6580" y="20741"/>
                </a:lnTo>
                <a:lnTo>
                  <a:pt x="9222" y="18226"/>
                </a:lnTo>
                <a:lnTo>
                  <a:pt x="10800" y="21600"/>
                </a:lnTo>
                <a:lnTo>
                  <a:pt x="12249" y="18253"/>
                </a:lnTo>
                <a:lnTo>
                  <a:pt x="14846" y="20814"/>
                </a:lnTo>
                <a:lnTo>
                  <a:pt x="14935" y="17167"/>
                </a:lnTo>
                <a:lnTo>
                  <a:pt x="18437" y="18437"/>
                </a:lnTo>
                <a:lnTo>
                  <a:pt x="17094" y="15045"/>
                </a:lnTo>
                <a:lnTo>
                  <a:pt x="20741" y="15020"/>
                </a:lnTo>
                <a:lnTo>
                  <a:pt x="18226" y="12378"/>
                </a:lnTo>
                <a:lnTo>
                  <a:pt x="21600" y="10800"/>
                </a:lnTo>
                <a:lnTo>
                  <a:pt x="18253" y="9351"/>
                </a:lnTo>
                <a:lnTo>
                  <a:pt x="20814" y="6754"/>
                </a:lnTo>
                <a:lnTo>
                  <a:pt x="17167" y="6665"/>
                </a:lnTo>
                <a:lnTo>
                  <a:pt x="18437" y="3163"/>
                </a:lnTo>
                <a:lnTo>
                  <a:pt x="15045" y="4506"/>
                </a:lnTo>
                <a:lnTo>
                  <a:pt x="15020" y="859"/>
                </a:lnTo>
                <a:lnTo>
                  <a:pt x="12378" y="3374"/>
                </a:lnTo>
                <a:lnTo>
                  <a:pt x="10800" y="0"/>
                </a:lnTo>
                <a:lnTo>
                  <a:pt x="9351" y="3347"/>
                </a:lnTo>
                <a:lnTo>
                  <a:pt x="6754" y="786"/>
                </a:lnTo>
                <a:lnTo>
                  <a:pt x="6665" y="4433"/>
                </a:lnTo>
                <a:lnTo>
                  <a:pt x="3163" y="3163"/>
                </a:lnTo>
                <a:lnTo>
                  <a:pt x="4506" y="6555"/>
                </a:lnTo>
                <a:lnTo>
                  <a:pt x="859" y="6580"/>
                </a:lnTo>
                <a:lnTo>
                  <a:pt x="3374" y="922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Ich trinke g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1431600">
            <a:off x="5868720" y="2637000"/>
            <a:ext cx="2879640" cy="1081080"/>
          </a:xfrm>
          <a:custGeom>
            <a:avLst/>
            <a:gdLst>
              <a:gd name="textAreaLeft" fmla="*/ 723960 w 2879640"/>
              <a:gd name="textAreaRight" fmla="*/ 2155680 w 2879640"/>
              <a:gd name="textAreaTop" fmla="*/ 271800 h 1081080"/>
              <a:gd name="textAreaBottom" fmla="*/ 80928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347" y="12249"/>
                </a:lnTo>
                <a:lnTo>
                  <a:pt x="786" y="14846"/>
                </a:lnTo>
                <a:lnTo>
                  <a:pt x="4433" y="14935"/>
                </a:lnTo>
                <a:lnTo>
                  <a:pt x="3163" y="18437"/>
                </a:lnTo>
                <a:lnTo>
                  <a:pt x="6555" y="17094"/>
                </a:lnTo>
                <a:lnTo>
                  <a:pt x="6580" y="20741"/>
                </a:lnTo>
                <a:lnTo>
                  <a:pt x="9222" y="18226"/>
                </a:lnTo>
                <a:lnTo>
                  <a:pt x="10800" y="21600"/>
                </a:lnTo>
                <a:lnTo>
                  <a:pt x="12249" y="18253"/>
                </a:lnTo>
                <a:lnTo>
                  <a:pt x="14846" y="20814"/>
                </a:lnTo>
                <a:lnTo>
                  <a:pt x="14935" y="17167"/>
                </a:lnTo>
                <a:lnTo>
                  <a:pt x="18437" y="18437"/>
                </a:lnTo>
                <a:lnTo>
                  <a:pt x="17094" y="15045"/>
                </a:lnTo>
                <a:lnTo>
                  <a:pt x="20741" y="15020"/>
                </a:lnTo>
                <a:lnTo>
                  <a:pt x="18226" y="12378"/>
                </a:lnTo>
                <a:lnTo>
                  <a:pt x="21600" y="10800"/>
                </a:lnTo>
                <a:lnTo>
                  <a:pt x="18253" y="9351"/>
                </a:lnTo>
                <a:lnTo>
                  <a:pt x="20814" y="6754"/>
                </a:lnTo>
                <a:lnTo>
                  <a:pt x="17167" y="6665"/>
                </a:lnTo>
                <a:lnTo>
                  <a:pt x="18437" y="3163"/>
                </a:lnTo>
                <a:lnTo>
                  <a:pt x="15045" y="4506"/>
                </a:lnTo>
                <a:lnTo>
                  <a:pt x="15020" y="859"/>
                </a:lnTo>
                <a:lnTo>
                  <a:pt x="12378" y="3374"/>
                </a:lnTo>
                <a:lnTo>
                  <a:pt x="10800" y="0"/>
                </a:lnTo>
                <a:lnTo>
                  <a:pt x="9351" y="3347"/>
                </a:lnTo>
                <a:lnTo>
                  <a:pt x="6754" y="786"/>
                </a:lnTo>
                <a:lnTo>
                  <a:pt x="6665" y="4433"/>
                </a:lnTo>
                <a:lnTo>
                  <a:pt x="3163" y="3163"/>
                </a:lnTo>
                <a:lnTo>
                  <a:pt x="4506" y="6555"/>
                </a:lnTo>
                <a:lnTo>
                  <a:pt x="859" y="6580"/>
                </a:lnTo>
                <a:lnTo>
                  <a:pt x="3374" y="9222"/>
                </a:lnTo>
                <a:lnTo>
                  <a:pt x="0" y="108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Ich trin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g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802800">
            <a:off x="5724000" y="907560"/>
            <a:ext cx="2880000" cy="1081080"/>
          </a:xfrm>
          <a:custGeom>
            <a:avLst/>
            <a:gdLst>
              <a:gd name="textAreaLeft" fmla="*/ 723960 w 2880000"/>
              <a:gd name="textAreaRight" fmla="*/ 2156040 w 2880000"/>
              <a:gd name="textAreaTop" fmla="*/ 271800 h 1081080"/>
              <a:gd name="textAreaBottom" fmla="*/ 80928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347" y="12249"/>
                </a:lnTo>
                <a:lnTo>
                  <a:pt x="786" y="14846"/>
                </a:lnTo>
                <a:lnTo>
                  <a:pt x="4433" y="14935"/>
                </a:lnTo>
                <a:lnTo>
                  <a:pt x="3163" y="18437"/>
                </a:lnTo>
                <a:lnTo>
                  <a:pt x="6555" y="17094"/>
                </a:lnTo>
                <a:lnTo>
                  <a:pt x="6580" y="20741"/>
                </a:lnTo>
                <a:lnTo>
                  <a:pt x="9222" y="18226"/>
                </a:lnTo>
                <a:lnTo>
                  <a:pt x="10800" y="21600"/>
                </a:lnTo>
                <a:lnTo>
                  <a:pt x="12249" y="18253"/>
                </a:lnTo>
                <a:lnTo>
                  <a:pt x="14846" y="20814"/>
                </a:lnTo>
                <a:lnTo>
                  <a:pt x="14935" y="17167"/>
                </a:lnTo>
                <a:lnTo>
                  <a:pt x="18437" y="18437"/>
                </a:lnTo>
                <a:lnTo>
                  <a:pt x="17094" y="15045"/>
                </a:lnTo>
                <a:lnTo>
                  <a:pt x="20741" y="15020"/>
                </a:lnTo>
                <a:lnTo>
                  <a:pt x="18226" y="12378"/>
                </a:lnTo>
                <a:lnTo>
                  <a:pt x="21600" y="10800"/>
                </a:lnTo>
                <a:lnTo>
                  <a:pt x="18253" y="9351"/>
                </a:lnTo>
                <a:lnTo>
                  <a:pt x="20814" y="6754"/>
                </a:lnTo>
                <a:lnTo>
                  <a:pt x="17167" y="6665"/>
                </a:lnTo>
                <a:lnTo>
                  <a:pt x="18437" y="3163"/>
                </a:lnTo>
                <a:lnTo>
                  <a:pt x="15045" y="4506"/>
                </a:lnTo>
                <a:lnTo>
                  <a:pt x="15020" y="859"/>
                </a:lnTo>
                <a:lnTo>
                  <a:pt x="12378" y="3374"/>
                </a:lnTo>
                <a:lnTo>
                  <a:pt x="10800" y="0"/>
                </a:lnTo>
                <a:lnTo>
                  <a:pt x="9351" y="3347"/>
                </a:lnTo>
                <a:lnTo>
                  <a:pt x="6754" y="786"/>
                </a:lnTo>
                <a:lnTo>
                  <a:pt x="6665" y="4433"/>
                </a:lnTo>
                <a:lnTo>
                  <a:pt x="3163" y="3163"/>
                </a:lnTo>
                <a:lnTo>
                  <a:pt x="4506" y="6555"/>
                </a:lnTo>
                <a:lnTo>
                  <a:pt x="859" y="6580"/>
                </a:lnTo>
                <a:lnTo>
                  <a:pt x="3374" y="922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Ich trinke g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132000" y="2492280"/>
            <a:ext cx="2880000" cy="1081080"/>
          </a:xfrm>
          <a:custGeom>
            <a:avLst/>
            <a:gdLst>
              <a:gd name="textAreaLeft" fmla="*/ 723960 w 2880000"/>
              <a:gd name="textAreaRight" fmla="*/ 2156040 w 2880000"/>
              <a:gd name="textAreaTop" fmla="*/ 271800 h 1081080"/>
              <a:gd name="textAreaBottom" fmla="*/ 80928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347" y="12249"/>
                </a:lnTo>
                <a:lnTo>
                  <a:pt x="786" y="14846"/>
                </a:lnTo>
                <a:lnTo>
                  <a:pt x="4433" y="14935"/>
                </a:lnTo>
                <a:lnTo>
                  <a:pt x="3163" y="18437"/>
                </a:lnTo>
                <a:lnTo>
                  <a:pt x="6555" y="17094"/>
                </a:lnTo>
                <a:lnTo>
                  <a:pt x="6580" y="20741"/>
                </a:lnTo>
                <a:lnTo>
                  <a:pt x="9222" y="18226"/>
                </a:lnTo>
                <a:lnTo>
                  <a:pt x="10800" y="21600"/>
                </a:lnTo>
                <a:lnTo>
                  <a:pt x="12249" y="18253"/>
                </a:lnTo>
                <a:lnTo>
                  <a:pt x="14846" y="20814"/>
                </a:lnTo>
                <a:lnTo>
                  <a:pt x="14935" y="17167"/>
                </a:lnTo>
                <a:lnTo>
                  <a:pt x="18437" y="18437"/>
                </a:lnTo>
                <a:lnTo>
                  <a:pt x="17094" y="15045"/>
                </a:lnTo>
                <a:lnTo>
                  <a:pt x="20741" y="15020"/>
                </a:lnTo>
                <a:lnTo>
                  <a:pt x="18226" y="12378"/>
                </a:lnTo>
                <a:lnTo>
                  <a:pt x="21600" y="10800"/>
                </a:lnTo>
                <a:lnTo>
                  <a:pt x="18253" y="9351"/>
                </a:lnTo>
                <a:lnTo>
                  <a:pt x="20814" y="6754"/>
                </a:lnTo>
                <a:lnTo>
                  <a:pt x="17167" y="6665"/>
                </a:lnTo>
                <a:lnTo>
                  <a:pt x="18437" y="3163"/>
                </a:lnTo>
                <a:lnTo>
                  <a:pt x="15045" y="4506"/>
                </a:lnTo>
                <a:lnTo>
                  <a:pt x="15020" y="859"/>
                </a:lnTo>
                <a:lnTo>
                  <a:pt x="12378" y="3374"/>
                </a:lnTo>
                <a:lnTo>
                  <a:pt x="10800" y="0"/>
                </a:lnTo>
                <a:lnTo>
                  <a:pt x="9351" y="3347"/>
                </a:lnTo>
                <a:lnTo>
                  <a:pt x="6754" y="786"/>
                </a:lnTo>
                <a:lnTo>
                  <a:pt x="6665" y="4433"/>
                </a:lnTo>
                <a:lnTo>
                  <a:pt x="3163" y="3163"/>
                </a:lnTo>
                <a:lnTo>
                  <a:pt x="4506" y="6555"/>
                </a:lnTo>
                <a:lnTo>
                  <a:pt x="859" y="6580"/>
                </a:lnTo>
                <a:lnTo>
                  <a:pt x="3374" y="9222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Ich trinke g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9T17:36:40Z</dcterms:created>
  <dc:creator>Eleanor Abrahams </dc:creator>
  <dc:description/>
  <dc:language>en-US</dc:language>
  <cp:lastModifiedBy>CSeccombe</cp:lastModifiedBy>
  <dcterms:modified xsi:type="dcterms:W3CDTF">2007-07-11T13:06:13Z</dcterms:modified>
  <cp:revision>10</cp:revision>
  <dc:subject/>
  <dc:title>Slide 1</dc:title>
</cp:coreProperties>
</file>