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7CF-340A-46BE-BC72-1DB6F5E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347-FC28-4512-937C-791A1DF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AB6-DD43-42D4-8FB6-D21B9C65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ADD-4CDD-407B-8793-A022C7C6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50A-C230-4285-8223-34E5A81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D83-985E-4DF1-8625-8842E28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5C0-9A1C-469B-907C-633BDAE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758-A6FD-4CAF-93E6-C1035ED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2FB-B51F-415C-8556-89E8D067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02F-FDED-4C68-9512-3C83910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9CD-CAE8-40AD-AD87-BF53E01C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32C-9A2A-4EDF-8227-D4694E83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426-45C6-41C0-BEA1-95FB376F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ontag den sechsten Febr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3527280"/>
          </a:xfrm>
          <a:prstGeom prst="rect">
            <a:avLst/>
          </a:prstGeom>
          <a:noFill/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Letters in 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ing and writing longer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413000"/>
            <a:ext cx="3959280" cy="3024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Dear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203640" y="404640"/>
          <a:ext cx="5400720" cy="4104000"/>
        </p:xfrm>
        <a:graphic>
          <a:graphicData uri="http://schemas.openxmlformats.org/drawingml/2006/table">
            <a:tbl>
              <a:tblPr/>
              <a:tblGrid>
                <a:gridCol w="674640"/>
                <a:gridCol w="676080"/>
                <a:gridCol w="675000"/>
                <a:gridCol w="674640"/>
                <a:gridCol w="674640"/>
                <a:gridCol w="676080"/>
                <a:gridCol w="675000"/>
                <a:gridCol w="674640"/>
              </a:tblGrid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71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50920" y="907920"/>
            <a:ext cx="2808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______ Kir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6. Schreib _____ wi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33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   i   e   b  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2560" y="14842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u   n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206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   a   l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328464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   i  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72428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. Mein _______ ist lustig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5. _______ Mir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3. Schreib ________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60280"/>
            <a:ext cx="792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  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836640"/>
            <a:ext cx="504720" cy="9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w i         e   d e   r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4000" y="1484280"/>
            <a:ext cx="64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 e i n e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060640"/>
            <a:ext cx="6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 u c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Adding depth to you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iem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ch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ü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1400" y="1600200"/>
            <a:ext cx="3019320" cy="45259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q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87480" y="1620720"/>
            <a:ext cx="3260880" cy="192744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2205000"/>
            <a:ext cx="2808360" cy="79236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9999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2520" y="2876400"/>
            <a:ext cx="3525840" cy="2806920"/>
          </a:xfrm>
          <a:custGeom>
            <a:avLst/>
            <a:gdLst/>
            <a:ahLst/>
            <a:rect l="l" t="t" r="r" b="b"/>
            <a:pathLst>
              <a:path w="2221" h="1768">
                <a:moveTo>
                  <a:pt x="0" y="0"/>
                </a:moveTo>
                <a:cubicBezTo>
                  <a:pt x="217" y="43"/>
                  <a:pt x="1010" y="85"/>
                  <a:pt x="1301" y="260"/>
                </a:cubicBezTo>
                <a:cubicBezTo>
                  <a:pt x="1592" y="435"/>
                  <a:pt x="1659" y="815"/>
                  <a:pt x="1747" y="1049"/>
                </a:cubicBezTo>
                <a:cubicBezTo>
                  <a:pt x="1835" y="1283"/>
                  <a:pt x="1749" y="1562"/>
                  <a:pt x="1828" y="1665"/>
                </a:cubicBezTo>
                <a:cubicBezTo>
                  <a:pt x="1907" y="1768"/>
                  <a:pt x="2156" y="1665"/>
                  <a:pt x="2221" y="1665"/>
                </a:cubicBezTo>
              </a:path>
            </a:pathLst>
          </a:custGeom>
          <a:noFill/>
          <a:ln w="31680">
            <a:solidFill>
              <a:srgbClr val="99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8120" y="3403440"/>
            <a:ext cx="3540240" cy="1609920"/>
          </a:xfrm>
          <a:custGeom>
            <a:avLst/>
            <a:gdLst/>
            <a:ahLst/>
            <a:rect l="l" t="t" r="r" b="b"/>
            <a:pathLst>
              <a:path w="2230" h="1014">
                <a:moveTo>
                  <a:pt x="0" y="49"/>
                </a:moveTo>
                <a:cubicBezTo>
                  <a:pt x="224" y="61"/>
                  <a:pt x="1105" y="0"/>
                  <a:pt x="1346" y="132"/>
                </a:cubicBezTo>
                <a:cubicBezTo>
                  <a:pt x="1587" y="264"/>
                  <a:pt x="1362" y="698"/>
                  <a:pt x="1444" y="841"/>
                </a:cubicBezTo>
                <a:cubicBezTo>
                  <a:pt x="1527" y="984"/>
                  <a:pt x="1706" y="965"/>
                  <a:pt x="1837" y="989"/>
                </a:cubicBezTo>
                <a:cubicBezTo>
                  <a:pt x="1968" y="1014"/>
                  <a:pt x="2165" y="989"/>
                  <a:pt x="2230" y="989"/>
                </a:cubicBezTo>
              </a:path>
            </a:pathLst>
          </a:custGeom>
          <a:noFill/>
          <a:ln w="31680">
            <a:solidFill>
              <a:srgbClr val="6600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70120" y="1844640"/>
            <a:ext cx="2478240" cy="2131920"/>
          </a:xfrm>
          <a:custGeom>
            <a:avLst/>
            <a:gdLst/>
            <a:ahLst/>
            <a:rect l="l" t="t" r="r" b="b"/>
            <a:pathLst>
              <a:path w="1561" h="1343">
                <a:moveTo>
                  <a:pt x="0" y="1309"/>
                </a:moveTo>
                <a:cubicBezTo>
                  <a:pt x="159" y="1285"/>
                  <a:pt x="794" y="1343"/>
                  <a:pt x="966" y="1163"/>
                </a:cubicBezTo>
                <a:cubicBezTo>
                  <a:pt x="1138" y="983"/>
                  <a:pt x="976" y="417"/>
                  <a:pt x="1032" y="229"/>
                </a:cubicBezTo>
                <a:cubicBezTo>
                  <a:pt x="1087" y="40"/>
                  <a:pt x="1208" y="65"/>
                  <a:pt x="1296" y="33"/>
                </a:cubicBezTo>
                <a:cubicBezTo>
                  <a:pt x="1385" y="0"/>
                  <a:pt x="1517" y="33"/>
                  <a:pt x="1561" y="33"/>
                </a:cubicBezTo>
              </a:path>
            </a:pathLst>
          </a:custGeom>
          <a:noFill/>
          <a:ln w="31680">
            <a:solidFill>
              <a:srgbClr val="99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56000" y="4436280"/>
            <a:ext cx="2592360" cy="7164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99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3965400"/>
            <a:ext cx="3240360" cy="1033560"/>
          </a:xfrm>
          <a:custGeom>
            <a:avLst/>
            <a:gdLst/>
            <a:ahLst/>
            <a:rect l="l" t="t" r="r" b="b"/>
            <a:pathLst>
              <a:path w="2041" h="651">
                <a:moveTo>
                  <a:pt x="0" y="651"/>
                </a:moveTo>
                <a:cubicBezTo>
                  <a:pt x="191" y="578"/>
                  <a:pt x="915" y="303"/>
                  <a:pt x="1148" y="215"/>
                </a:cubicBezTo>
                <a:cubicBezTo>
                  <a:pt x="1381" y="127"/>
                  <a:pt x="1269" y="151"/>
                  <a:pt x="1399" y="122"/>
                </a:cubicBezTo>
                <a:cubicBezTo>
                  <a:pt x="1529" y="93"/>
                  <a:pt x="1822" y="58"/>
                  <a:pt x="1929" y="38"/>
                </a:cubicBezTo>
                <a:cubicBezTo>
                  <a:pt x="2036" y="18"/>
                  <a:pt x="2018" y="8"/>
                  <a:pt x="2041" y="0"/>
                </a:cubicBezTo>
              </a:path>
            </a:pathLst>
          </a:custGeom>
          <a:noFill/>
          <a:ln w="31680">
            <a:solidFill>
              <a:srgbClr val="ffff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6680" y="2433600"/>
            <a:ext cx="5211720" cy="3379680"/>
          </a:xfrm>
          <a:custGeom>
            <a:avLst/>
            <a:gdLst/>
            <a:ahLst/>
            <a:rect l="l" t="t" r="r" b="b"/>
            <a:pathLst>
              <a:path w="3283" h="2129">
                <a:moveTo>
                  <a:pt x="0" y="1951"/>
                </a:moveTo>
                <a:cubicBezTo>
                  <a:pt x="374" y="1975"/>
                  <a:pt x="1741" y="2129"/>
                  <a:pt x="2253" y="2095"/>
                </a:cubicBezTo>
                <a:cubicBezTo>
                  <a:pt x="2765" y="2061"/>
                  <a:pt x="2905" y="2021"/>
                  <a:pt x="3075" y="1746"/>
                </a:cubicBezTo>
                <a:cubicBezTo>
                  <a:pt x="3245" y="1471"/>
                  <a:pt x="3283" y="737"/>
                  <a:pt x="3271" y="446"/>
                </a:cubicBezTo>
                <a:cubicBezTo>
                  <a:pt x="3259" y="155"/>
                  <a:pt x="3057" y="93"/>
                  <a:pt x="3001" y="0"/>
                </a:cubicBezTo>
              </a:path>
            </a:pathLst>
          </a:custGeom>
          <a:noFill/>
          <a:ln w="31680">
            <a:solidFill>
              <a:srgbClr val="996633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32000" y="1052640"/>
            <a:ext cx="6480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Seite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Brief l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00000" y="765000"/>
            <a:ext cx="7417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Ex. 1a 1-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Draw the correct 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on the white boa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thanks for you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vielen Dank f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ür deinen Brie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Deine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K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öln, den 11.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yours,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Deine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K</a:t>
            </a:r>
            <a:r>
              <a:rPr b="0" lang="en-US" sz="5400" spc="-1" strike="noStrike">
                <a:solidFill>
                  <a:srgbClr val="da1c89"/>
                </a:solidFill>
                <a:latin typeface="Comic Sans MS"/>
              </a:rPr>
              <a:t>öln, 11</a:t>
            </a:r>
            <a:r>
              <a:rPr b="0" lang="en-US" sz="5400" spc="-1" strike="noStrike" baseline="30000">
                <a:solidFill>
                  <a:srgbClr val="da1c89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da1c89"/>
                </a:solidFill>
                <a:latin typeface="Comic Sans MS"/>
              </a:rPr>
              <a:t>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K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öln, den 11.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Dez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är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Ju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Okto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Write 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836640"/>
            <a:ext cx="3959280" cy="3960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here’s a photo of my 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46:49Z</dcterms:created>
  <dc:creator>Eleanor Abrahams </dc:creator>
  <dc:description/>
  <dc:language>en-US</dc:language>
  <cp:lastModifiedBy>CSeccombe</cp:lastModifiedBy>
  <dcterms:modified xsi:type="dcterms:W3CDTF">2007-07-11T13:36:13Z</dcterms:modified>
  <cp:revision>15</cp:revision>
  <dc:subject/>
  <dc:title>Freitag den dritten Februar</dc:title>
</cp:coreProperties>
</file>