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13C-3564-4920-BA60-0267BB4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12C-4C42-4B7E-91EF-B9E4AF5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530-1D95-42E0-9F81-DA73530C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196-B327-4BF0-A39B-3502C10E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731-05D6-4E9A-9AFD-D095E7C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314-2C92-4959-A4E4-BD411A1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FE9-EA24-47B2-AD74-11BA018E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A01-2721-44E9-A6AD-070333D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299-147F-43DE-9C3A-57C395B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A13-FA45-494D-9399-E1E80B9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A5C-E358-4B93-9E38-65A0566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D7F-D812-43B8-8504-2325508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0963-937F-4D1A-B962-DED51355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ontag den sechsten Febr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3527280"/>
          </a:xfrm>
          <a:prstGeom prst="rect">
            <a:avLst/>
          </a:prstGeom>
          <a:noFill/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Language Foc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Letters in G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Today’s The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ing and writing longer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6497640"/>
            <a:ext cx="59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ELA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413000"/>
            <a:ext cx="3959280" cy="3024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Dear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203640" y="404640"/>
          <a:ext cx="5400720" cy="4104000"/>
        </p:xfrm>
        <a:graphic>
          <a:graphicData uri="http://schemas.openxmlformats.org/drawingml/2006/table">
            <a:tbl>
              <a:tblPr/>
              <a:tblGrid>
                <a:gridCol w="674640"/>
                <a:gridCol w="676080"/>
                <a:gridCol w="675000"/>
                <a:gridCol w="674640"/>
                <a:gridCol w="674640"/>
                <a:gridCol w="676080"/>
                <a:gridCol w="675000"/>
                <a:gridCol w="674640"/>
              </a:tblGrid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871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50920" y="907920"/>
            <a:ext cx="2808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______ Kir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6. Schreib _____ wi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33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   i   e   b  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2560" y="14842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u   n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206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   a   l 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328464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   i  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72428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. Mein _______ ist lustig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5. _______ Mir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3. Schreib ________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60280"/>
            <a:ext cx="792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  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836640"/>
            <a:ext cx="504720" cy="9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w i         e   d e   r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4000" y="1484280"/>
            <a:ext cx="64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 e i n e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060640"/>
            <a:ext cx="6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 u c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Adding depth to you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ziem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ch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ür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1400" y="1600200"/>
            <a:ext cx="3019320" cy="45259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q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87480" y="1620720"/>
            <a:ext cx="3260880" cy="192744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2205000"/>
            <a:ext cx="2808360" cy="79236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9999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22520" y="2876400"/>
            <a:ext cx="3525840" cy="2806920"/>
          </a:xfrm>
          <a:custGeom>
            <a:avLst/>
            <a:gdLst/>
            <a:ahLst/>
            <a:rect l="l" t="t" r="r" b="b"/>
            <a:pathLst>
              <a:path w="2221" h="1768">
                <a:moveTo>
                  <a:pt x="0" y="0"/>
                </a:moveTo>
                <a:cubicBezTo>
                  <a:pt x="217" y="43"/>
                  <a:pt x="1010" y="85"/>
                  <a:pt x="1301" y="260"/>
                </a:cubicBezTo>
                <a:cubicBezTo>
                  <a:pt x="1592" y="435"/>
                  <a:pt x="1659" y="815"/>
                  <a:pt x="1747" y="1049"/>
                </a:cubicBezTo>
                <a:cubicBezTo>
                  <a:pt x="1835" y="1283"/>
                  <a:pt x="1749" y="1562"/>
                  <a:pt x="1828" y="1665"/>
                </a:cubicBezTo>
                <a:cubicBezTo>
                  <a:pt x="1907" y="1768"/>
                  <a:pt x="2156" y="1665"/>
                  <a:pt x="2221" y="1665"/>
                </a:cubicBezTo>
              </a:path>
            </a:pathLst>
          </a:custGeom>
          <a:noFill/>
          <a:ln w="31680">
            <a:solidFill>
              <a:srgbClr val="99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8120" y="3403440"/>
            <a:ext cx="3540240" cy="1609920"/>
          </a:xfrm>
          <a:custGeom>
            <a:avLst/>
            <a:gdLst/>
            <a:ahLst/>
            <a:rect l="l" t="t" r="r" b="b"/>
            <a:pathLst>
              <a:path w="2230" h="1014">
                <a:moveTo>
                  <a:pt x="0" y="49"/>
                </a:moveTo>
                <a:cubicBezTo>
                  <a:pt x="224" y="61"/>
                  <a:pt x="1105" y="0"/>
                  <a:pt x="1346" y="132"/>
                </a:cubicBezTo>
                <a:cubicBezTo>
                  <a:pt x="1587" y="264"/>
                  <a:pt x="1362" y="698"/>
                  <a:pt x="1444" y="841"/>
                </a:cubicBezTo>
                <a:cubicBezTo>
                  <a:pt x="1527" y="984"/>
                  <a:pt x="1706" y="965"/>
                  <a:pt x="1837" y="989"/>
                </a:cubicBezTo>
                <a:cubicBezTo>
                  <a:pt x="1968" y="1014"/>
                  <a:pt x="2165" y="989"/>
                  <a:pt x="2230" y="989"/>
                </a:cubicBezTo>
              </a:path>
            </a:pathLst>
          </a:custGeom>
          <a:noFill/>
          <a:ln w="31680">
            <a:solidFill>
              <a:srgbClr val="6600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70120" y="1844640"/>
            <a:ext cx="2478240" cy="2131920"/>
          </a:xfrm>
          <a:custGeom>
            <a:avLst/>
            <a:gdLst/>
            <a:ahLst/>
            <a:rect l="l" t="t" r="r" b="b"/>
            <a:pathLst>
              <a:path w="1561" h="1343">
                <a:moveTo>
                  <a:pt x="0" y="1309"/>
                </a:moveTo>
                <a:cubicBezTo>
                  <a:pt x="159" y="1285"/>
                  <a:pt x="794" y="1343"/>
                  <a:pt x="966" y="1163"/>
                </a:cubicBezTo>
                <a:cubicBezTo>
                  <a:pt x="1138" y="983"/>
                  <a:pt x="976" y="417"/>
                  <a:pt x="1032" y="229"/>
                </a:cubicBezTo>
                <a:cubicBezTo>
                  <a:pt x="1087" y="40"/>
                  <a:pt x="1208" y="65"/>
                  <a:pt x="1296" y="33"/>
                </a:cubicBezTo>
                <a:cubicBezTo>
                  <a:pt x="1385" y="0"/>
                  <a:pt x="1517" y="33"/>
                  <a:pt x="1561" y="33"/>
                </a:cubicBezTo>
              </a:path>
            </a:pathLst>
          </a:custGeom>
          <a:noFill/>
          <a:ln w="31680">
            <a:solidFill>
              <a:srgbClr val="99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56000" y="4436280"/>
            <a:ext cx="2592360" cy="71640"/>
          </a:xfrm>
          <a:custGeom>
            <a:avLst/>
            <a:gdLst/>
            <a:ahLst/>
            <a:rect l="l" t="t" r="r" b="b"/>
            <a:pathLst>
              <a:path w="2054" h="1214">
                <a:moveTo>
                  <a:pt x="0" y="159"/>
                </a:moveTo>
                <a:cubicBezTo>
                  <a:pt x="205" y="156"/>
                  <a:pt x="1016" y="0"/>
                  <a:pt x="1237" y="141"/>
                </a:cubicBezTo>
                <a:cubicBezTo>
                  <a:pt x="1458" y="282"/>
                  <a:pt x="1252" y="829"/>
                  <a:pt x="1328" y="1003"/>
                </a:cubicBezTo>
                <a:cubicBezTo>
                  <a:pt x="1404" y="1177"/>
                  <a:pt x="1570" y="1154"/>
                  <a:pt x="1691" y="1184"/>
                </a:cubicBezTo>
                <a:cubicBezTo>
                  <a:pt x="1812" y="1214"/>
                  <a:pt x="1994" y="1184"/>
                  <a:pt x="2054" y="1184"/>
                </a:cubicBezTo>
              </a:path>
            </a:pathLst>
          </a:custGeom>
          <a:noFill/>
          <a:ln w="31680">
            <a:solidFill>
              <a:srgbClr val="0099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3965400"/>
            <a:ext cx="3240360" cy="1033560"/>
          </a:xfrm>
          <a:custGeom>
            <a:avLst/>
            <a:gdLst/>
            <a:ahLst/>
            <a:rect l="l" t="t" r="r" b="b"/>
            <a:pathLst>
              <a:path w="2041" h="651">
                <a:moveTo>
                  <a:pt x="0" y="651"/>
                </a:moveTo>
                <a:cubicBezTo>
                  <a:pt x="191" y="578"/>
                  <a:pt x="915" y="303"/>
                  <a:pt x="1148" y="215"/>
                </a:cubicBezTo>
                <a:cubicBezTo>
                  <a:pt x="1381" y="127"/>
                  <a:pt x="1269" y="151"/>
                  <a:pt x="1399" y="122"/>
                </a:cubicBezTo>
                <a:cubicBezTo>
                  <a:pt x="1529" y="93"/>
                  <a:pt x="1822" y="58"/>
                  <a:pt x="1929" y="38"/>
                </a:cubicBezTo>
                <a:cubicBezTo>
                  <a:pt x="2036" y="18"/>
                  <a:pt x="2018" y="8"/>
                  <a:pt x="2041" y="0"/>
                </a:cubicBezTo>
              </a:path>
            </a:pathLst>
          </a:custGeom>
          <a:noFill/>
          <a:ln w="31680">
            <a:solidFill>
              <a:srgbClr val="ffff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6680" y="2433600"/>
            <a:ext cx="5211720" cy="3379680"/>
          </a:xfrm>
          <a:custGeom>
            <a:avLst/>
            <a:gdLst/>
            <a:ahLst/>
            <a:rect l="l" t="t" r="r" b="b"/>
            <a:pathLst>
              <a:path w="3283" h="2129">
                <a:moveTo>
                  <a:pt x="0" y="1951"/>
                </a:moveTo>
                <a:cubicBezTo>
                  <a:pt x="374" y="1975"/>
                  <a:pt x="1741" y="2129"/>
                  <a:pt x="2253" y="2095"/>
                </a:cubicBezTo>
                <a:cubicBezTo>
                  <a:pt x="2765" y="2061"/>
                  <a:pt x="2905" y="2021"/>
                  <a:pt x="3075" y="1746"/>
                </a:cubicBezTo>
                <a:cubicBezTo>
                  <a:pt x="3245" y="1471"/>
                  <a:pt x="3283" y="737"/>
                  <a:pt x="3271" y="446"/>
                </a:cubicBezTo>
                <a:cubicBezTo>
                  <a:pt x="3259" y="155"/>
                  <a:pt x="3057" y="93"/>
                  <a:pt x="3001" y="0"/>
                </a:cubicBezTo>
              </a:path>
            </a:pathLst>
          </a:custGeom>
          <a:noFill/>
          <a:ln w="31680">
            <a:solidFill>
              <a:srgbClr val="996633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32000" y="1052640"/>
            <a:ext cx="6480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Seite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Brief l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00000" y="765000"/>
            <a:ext cx="7417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Ex. 1a 1-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Draw the correct 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Snap ITC"/>
              </a:rPr>
              <a:t>on the white boa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thanks for you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vielen Dank f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ür deinen Brie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Deine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K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öln, den 11.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yours,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Deine Mir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Liebe Kirs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K</a:t>
            </a:r>
            <a:r>
              <a:rPr b="0" lang="en-US" sz="5400" spc="-1" strike="noStrike">
                <a:solidFill>
                  <a:srgbClr val="da1c89"/>
                </a:solidFill>
                <a:latin typeface="Comic Sans MS"/>
              </a:rPr>
              <a:t>öln, 11</a:t>
            </a:r>
            <a:r>
              <a:rPr b="0" lang="en-US" sz="5400" spc="-1" strike="noStrike" baseline="30000">
                <a:solidFill>
                  <a:srgbClr val="da1c89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da1c89"/>
                </a:solidFill>
                <a:latin typeface="Comic Sans MS"/>
              </a:rPr>
              <a:t>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K</a:t>
            </a:r>
            <a:r>
              <a:rPr b="1" lang="en-US" sz="5400" spc="-1" strike="noStrike">
                <a:solidFill>
                  <a:srgbClr val="333399"/>
                </a:solidFill>
                <a:latin typeface="Tempus Sans ITC"/>
              </a:rPr>
              <a:t>öln, den 11.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Dez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är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Ju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76280"/>
            <a:ext cx="4032000" cy="5905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Okto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484280"/>
            <a:ext cx="3959280" cy="29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Write 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Schreib bald wie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836640"/>
            <a:ext cx="3959280" cy="3960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a1c89"/>
                </a:solidFill>
                <a:latin typeface="Comic Sans MS"/>
              </a:rPr>
              <a:t>here’s a photo of my 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197000"/>
            <a:ext cx="3456000" cy="3527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Tempus Sans ITC"/>
              </a:rPr>
              <a:t>Hier ist ein Foto von meiner Famil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8:46:49Z</dcterms:created>
  <dc:creator>Eleanor Abrahams </dc:creator>
  <dc:description/>
  <dc:language>en-US</dc:language>
  <cp:lastModifiedBy>CSeccombe</cp:lastModifiedBy>
  <dcterms:modified xsi:type="dcterms:W3CDTF">2007-07-11T13:36:13Z</dcterms:modified>
  <cp:revision>15</cp:revision>
  <dc:subject/>
  <dc:title>Freitag den dritten Februar</dc:title>
</cp:coreProperties>
</file>