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23.wmf" ContentType="image/x-wmf"/>
  <Override PartName="/ppt/media/image11.jpeg" ContentType="image/jpeg"/>
  <Override PartName="/ppt/media/image4.png" ContentType="image/png"/>
  <Override PartName="/ppt/media/image12.wmf" ContentType="image/x-wmf"/>
  <Override PartName="/ppt/media/image9.wmf" ContentType="image/x-wm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.png" ContentType="image/png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6DA-2E57-4BAF-B5CA-B990CC15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09A-A6DB-4CBE-AF9E-3E94E3CF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BDA-70BD-410B-B4BD-CDC4C107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2CB-FF07-4932-905B-0B7F6C88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222-7337-4D8A-A1E9-E8F08208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635-0B0E-47EB-9BBC-F427B4C9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C5F-DD58-453A-81D2-92013C2B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D43-9E0B-408F-A981-75D919A0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093-2055-4EDD-8B6C-1C3EF3F3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4CE-B633-4CF6-A3B4-4BB2DCDC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25F-8829-4C59-9389-6EE37CE7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35A-3403-40A2-BA3E-6F1E5A18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0D6C-23EC-4189-884F-4C3F2AF02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www.sunderlandschools.org/mfl-sunderland" TargetMode="External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27.wmf"/><Relationship Id="rId20" Type="http://schemas.openxmlformats.org/officeDocument/2006/relationships/image" Target="../media/image28.wmf"/><Relationship Id="rId21" Type="http://schemas.openxmlformats.org/officeDocument/2006/relationships/image" Target="../media/image29.wmf"/><Relationship Id="rId22" Type="http://schemas.openxmlformats.org/officeDocument/2006/relationships/oleObject" Target="../embeddings/oleObject4.bin"/><Relationship Id="rId23" Type="http://schemas.openxmlformats.org/officeDocument/2006/relationships/image" Target="../media/image30.wmf"/><Relationship Id="rId24" Type="http://schemas.openxmlformats.org/officeDocument/2006/relationships/image" Target="../media/image31.wmf"/><Relationship Id="rId2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0"/>
            <a:ext cx="8338680" cy="6597360"/>
            <a:chOff x="250920" y="0"/>
            <a:chExt cx="8338680" cy="65973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258920" y="4980960"/>
              <a:ext cx="1550520" cy="15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5911560" y="5370120"/>
              <a:ext cx="2015640" cy="12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6996960" y="3346560"/>
              <a:ext cx="1581480" cy="14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3585240" y="4358160"/>
              <a:ext cx="1464840" cy="163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50920" y="3424320"/>
              <a:ext cx="1755720" cy="130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250920" y="311400"/>
              <a:ext cx="1733400" cy="12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6454080" y="311400"/>
              <a:ext cx="2135520" cy="13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3119760" y="0"/>
              <a:ext cx="2209680" cy="221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3672000"/>
          </a:xfrm>
          <a:prstGeom prst="rect">
            <a:avLst/>
          </a:prstGeom>
          <a:noFill/>
          <a:ln cap="rnd" w="5400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Today’s Lesson Objec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 able to name things in your bag</a:t>
            </a:r>
            <a:br>
              <a:rPr sz="3200"/>
            </a:br>
            <a:br>
              <a:rPr sz="3200"/>
            </a:b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Today’s Language Foc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ch habe einen / eine / 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9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098360" cy="4190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3048120"/>
            <a:ext cx="403704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ch habe einen Bleist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20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86200" cy="2357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43400" y="2209680"/>
            <a:ext cx="3276720" cy="2743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25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3048120"/>
            <a:ext cx="373392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ch habe ein Gum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86200" cy="23572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30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24280" y="1984320"/>
            <a:ext cx="4038840" cy="2863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91120" y="1066680"/>
            <a:ext cx="4952880" cy="4953240"/>
          </a:xfrm>
          <a:prstGeom prst="donut">
            <a:avLst>
              <a:gd name="adj" fmla="val 3569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35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3048120"/>
            <a:ext cx="373392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ch habe ein He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724280" y="1984320"/>
            <a:ext cx="4038840" cy="28638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40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876920" y="1371600"/>
            <a:ext cx="3962160" cy="3962520"/>
          </a:xfrm>
          <a:prstGeom prst="donut">
            <a:avLst>
              <a:gd name="adj" fmla="val 3569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45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3048120"/>
            <a:ext cx="373392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ch habe eine Tas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819520" cy="281952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50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000760" y="530064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96040" y="458136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0760" y="386064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00760" y="242100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08400" y="242100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8400" y="98100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602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170028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314172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458136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3680" y="2602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08400" y="386064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08400" y="53020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3680" y="458136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3680" y="314172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96040" y="2602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516720" y="47005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771640" y="1052640"/>
            <a:ext cx="1024200" cy="1164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292720" y="4005360"/>
            <a:ext cx="1150920" cy="947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403280" y="476280"/>
            <a:ext cx="1224000" cy="1030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476360" y="1773360"/>
            <a:ext cx="1079640" cy="1251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5292720" y="5516640"/>
            <a:ext cx="1079640" cy="866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1476360" y="4869000"/>
            <a:ext cx="973080" cy="100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5364000" y="263700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1332000" y="342900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6659640" y="333360"/>
            <a:ext cx="963360" cy="1224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296040" y="170028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96040" y="314172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0760" y="98100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3680" y="170028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1"/>
          <a:stretch/>
        </p:blipFill>
        <p:spPr>
          <a:xfrm>
            <a:off x="3995640" y="1989000"/>
            <a:ext cx="1127160" cy="824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tretch/>
        </p:blipFill>
        <p:spPr>
          <a:xfrm>
            <a:off x="2771640" y="2708280"/>
            <a:ext cx="938520" cy="923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"/>
          <a:stretch/>
        </p:blipFill>
        <p:spPr>
          <a:xfrm>
            <a:off x="5219640" y="981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2638440"/>
            <a:ext cx="1193760" cy="1006560"/>
          </a:xfrm>
          <a:prstGeom prst="hexagon">
            <a:avLst>
              <a:gd name="adj" fmla="val 29649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700360" y="4076640"/>
          <a:ext cx="1047600" cy="885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00360" y="4076640"/>
                    <a:ext cx="10476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659640" y="2060640"/>
          <a:ext cx="936720" cy="685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659640" y="2060640"/>
                    <a:ext cx="936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140360" y="3500280"/>
          <a:ext cx="792000" cy="736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140360" y="3500280"/>
                    <a:ext cx="79200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6443640" y="3429000"/>
            <a:ext cx="1347840" cy="846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1"/>
          <a:stretch/>
        </p:blipFill>
        <p:spPr>
          <a:xfrm>
            <a:off x="4067280" y="4797360"/>
            <a:ext cx="9144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751120" y="5516640"/>
          <a:ext cx="1028880" cy="8856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751120" y="5516640"/>
                    <a:ext cx="102888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24"/>
          <a:stretch/>
        </p:blipFill>
        <p:spPr>
          <a:xfrm>
            <a:off x="3995640" y="333360"/>
            <a:ext cx="1119240" cy="1362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116000" y="26028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26028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0" y="170028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170028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314172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16000" y="314172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16000" y="458136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458136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98100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981000"/>
            <a:ext cx="1694160" cy="1440000"/>
          </a:xfrm>
          <a:prstGeom prst="hexagon">
            <a:avLst>
              <a:gd name="adj" fmla="val 29413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242100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421000"/>
            <a:ext cx="1729080" cy="1439640"/>
          </a:xfrm>
          <a:prstGeom prst="hexagon">
            <a:avLst>
              <a:gd name="adj" fmla="val 30026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386064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3860640"/>
            <a:ext cx="1729080" cy="1440000"/>
          </a:xfrm>
          <a:prstGeom prst="hexagon">
            <a:avLst>
              <a:gd name="adj" fmla="val 30019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1280" y="530208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76360" y="5302080"/>
            <a:ext cx="1764000" cy="1440000"/>
          </a:xfrm>
          <a:prstGeom prst="hexagon">
            <a:avLst>
              <a:gd name="adj" fmla="val 30625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26028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72000" y="260280"/>
            <a:ext cx="1763640" cy="1440000"/>
          </a:xfrm>
          <a:prstGeom prst="hexagon">
            <a:avLst>
              <a:gd name="adj" fmla="val 30619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170028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72000" y="1700280"/>
            <a:ext cx="1763640" cy="1439640"/>
          </a:xfrm>
          <a:prstGeom prst="hexagon">
            <a:avLst>
              <a:gd name="adj" fmla="val 30626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14172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3141720"/>
            <a:ext cx="1763640" cy="1439640"/>
          </a:xfrm>
          <a:prstGeom prst="hexagon">
            <a:avLst>
              <a:gd name="adj" fmla="val 30626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458136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4581360"/>
            <a:ext cx="1763640" cy="1440000"/>
          </a:xfrm>
          <a:prstGeom prst="hexagon">
            <a:avLst>
              <a:gd name="adj" fmla="val 30619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98100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3640" y="981000"/>
            <a:ext cx="1764000" cy="1440000"/>
          </a:xfrm>
          <a:prstGeom prst="hexagon">
            <a:avLst>
              <a:gd name="adj" fmla="val 30625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242100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3640" y="2421000"/>
            <a:ext cx="1764000" cy="1439640"/>
          </a:xfrm>
          <a:prstGeom prst="hexagon">
            <a:avLst>
              <a:gd name="adj" fmla="val 30633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386064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3860640"/>
            <a:ext cx="1764000" cy="1440000"/>
          </a:xfrm>
          <a:prstGeom prst="hexagon">
            <a:avLst>
              <a:gd name="adj" fmla="val 30625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530208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03640" y="5302080"/>
            <a:ext cx="1764000" cy="1440000"/>
          </a:xfrm>
          <a:prstGeom prst="hexagon">
            <a:avLst>
              <a:gd name="adj" fmla="val 30625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00720" y="26028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00720" y="260280"/>
            <a:ext cx="1763640" cy="1440000"/>
          </a:xfrm>
          <a:prstGeom prst="hexagon">
            <a:avLst>
              <a:gd name="adj" fmla="val 30619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0720" y="170028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1700280"/>
            <a:ext cx="1763640" cy="1439640"/>
          </a:xfrm>
          <a:prstGeom prst="hexagon">
            <a:avLst>
              <a:gd name="adj" fmla="val 30626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00720" y="314172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0720" y="3141720"/>
            <a:ext cx="1763640" cy="1439640"/>
          </a:xfrm>
          <a:prstGeom prst="hexagon">
            <a:avLst>
              <a:gd name="adj" fmla="val 30626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00720" y="458136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00720" y="4581360"/>
            <a:ext cx="1763640" cy="1440000"/>
          </a:xfrm>
          <a:prstGeom prst="hexagon">
            <a:avLst>
              <a:gd name="adj" fmla="val 30619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at categories do these words belong 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585720"/>
                <a:gridCol w="1441440"/>
                <a:gridCol w="1440000"/>
                <a:gridCol w="1439640"/>
                <a:gridCol w="1368720"/>
                <a:gridCol w="19540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ie Katz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H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Elefa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L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Kristen ITC"/>
                          <a:ea typeface="Arial"/>
                        </a:rPr>
                        <a:t>öw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Anima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er Apf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ie Bana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ie Oran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ie Nu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Fo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as W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örter-buc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as Line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as Hef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Kul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Schoo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zeh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ei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re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el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numbe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6877080" y="2205000"/>
            <a:ext cx="15825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068640"/>
            <a:ext cx="15825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4005360"/>
            <a:ext cx="1582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5300640"/>
            <a:ext cx="1582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Can you find the odd-one-out in each 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362800" cy="4530600"/>
        </p:xfrm>
        <a:graphic>
          <a:graphicData uri="http://schemas.openxmlformats.org/drawingml/2006/table">
            <a:tbl>
              <a:tblPr/>
              <a:tblGrid>
                <a:gridCol w="585720"/>
                <a:gridCol w="1441440"/>
                <a:gridCol w="1440000"/>
                <a:gridCol w="1439640"/>
                <a:gridCol w="1152720"/>
                <a:gridCol w="2303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d one ou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ie Katz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H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Elefa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L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Kristen ITC"/>
                          <a:ea typeface="Arial"/>
                        </a:rPr>
                        <a:t>öw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er Apf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ie Bana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ie Oran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ie Nu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as W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örter-buc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as Line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as Hef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Kul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zeh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ei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re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el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00000" y="2421000"/>
            <a:ext cx="71312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ffff00"/>
                  </a:outerShdw>
                </a:effectLst>
                <a:latin typeface="Comic Sans MS"/>
              </a:rPr>
              <a:t>apfelöwelefantageschenkatzeins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ffff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49360"/>
            <a:ext cx="849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ow many German words can you find? Make a list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hen carry on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36600" y="0"/>
            <a:ext cx="8338680" cy="6597360"/>
            <a:chOff x="336600" y="0"/>
            <a:chExt cx="8338680" cy="659736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1344600" y="4980960"/>
              <a:ext cx="1550520" cy="15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5997240" y="5370120"/>
              <a:ext cx="2015640" cy="12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7082640" y="3346560"/>
              <a:ext cx="1581480" cy="14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670920" y="4358160"/>
              <a:ext cx="1464840" cy="163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336600" y="3424320"/>
              <a:ext cx="1755720" cy="130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336600" y="311400"/>
              <a:ext cx="1733400" cy="12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6539760" y="311400"/>
              <a:ext cx="2135520" cy="13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3205440" y="0"/>
              <a:ext cx="2209680" cy="221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 txBox="1"/>
          <p:nvPr/>
        </p:nvSpPr>
        <p:spPr>
          <a:xfrm>
            <a:off x="2484360" y="2205000"/>
            <a:ext cx="4103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Eras Demi ITC"/>
              </a:rPr>
              <a:t>Was hast d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Eras Demi ITC"/>
              <a:ea typeface="Eras Demi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Eras Demi ITC"/>
              </a:rPr>
              <a:t>in deiner Tasch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Eras Demi ITC"/>
              <a:ea typeface="Eras Demi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00000" y="549360"/>
            <a:ext cx="73058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Kristen ITC"/>
              </a:rPr>
              <a:t>Wie sagt man "the" auf Deutsch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Kristen ITC"/>
              <a:ea typeface="Kristen ITC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1197000"/>
            <a:ext cx="718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16000" y="1628640"/>
            <a:ext cx="1038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Ravie"/>
              </a:rPr>
              <a:t>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Ravie"/>
              <a:ea typeface="Ravi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08360" y="1628640"/>
            <a:ext cx="1038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Ravie"/>
              </a:rPr>
              <a:t>d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Ravie"/>
              <a:ea typeface="Ravi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300720" y="1557360"/>
            <a:ext cx="1038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Ravie"/>
              </a:rPr>
              <a:t>d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Ravie"/>
              <a:ea typeface="Ravi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26920" y="2997360"/>
            <a:ext cx="73058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Kristen ITC"/>
              </a:rPr>
              <a:t>Wie sagt man "a/an" auf Deutsch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Kristen ITC"/>
              <a:ea typeface="Kristen ITC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3645000"/>
            <a:ext cx="863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5640" y="4292640"/>
            <a:ext cx="1800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Ravie"/>
              </a:rPr>
              <a:t>ein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Ravie"/>
              <a:ea typeface="Ravie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64000" y="4292640"/>
            <a:ext cx="14396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Ravie"/>
              </a:rPr>
              <a:t>e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Ravie"/>
              <a:ea typeface="Ravie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00720" y="4292640"/>
            <a:ext cx="1038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Ravie"/>
              </a:rPr>
              <a:t>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Ravie"/>
              <a:ea typeface="Ravie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2492280"/>
            <a:ext cx="792360" cy="1657440"/>
          </a:xfrm>
          <a:prstGeom prst="downArrow">
            <a:avLst>
              <a:gd name="adj1" fmla="val 53509"/>
              <a:gd name="adj2" fmla="val 6872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2492280"/>
            <a:ext cx="792000" cy="1657440"/>
          </a:xfrm>
          <a:prstGeom prst="downArrow">
            <a:avLst>
              <a:gd name="adj1" fmla="val 53509"/>
              <a:gd name="adj2" fmla="val 6875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2421000"/>
            <a:ext cx="792360" cy="1657440"/>
          </a:xfrm>
          <a:prstGeom prst="downArrow">
            <a:avLst>
              <a:gd name="adj1" fmla="val 53509"/>
              <a:gd name="adj2" fmla="val 6872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rot="2327400">
            <a:off x="7092720" y="3789360"/>
            <a:ext cx="1981080" cy="1201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987640" y="333360"/>
            <a:ext cx="1265400" cy="188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238880" y="533520"/>
            <a:ext cx="1554120" cy="138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3716280"/>
            <a:ext cx="1725480" cy="1279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09480" y="609480"/>
            <a:ext cx="1703520" cy="1257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4724280" y="304920"/>
            <a:ext cx="2171880" cy="2171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5651640" y="3357720"/>
            <a:ext cx="519120" cy="198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304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04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04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04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35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3500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3500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3059280" y="3645000"/>
            <a:ext cx="1081080" cy="1584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1773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einen K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220500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008000"/>
                </a:solidFill>
                <a:latin typeface="Comic Sans MS"/>
              </a:rPr>
              <a:t>ein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210168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008000"/>
                </a:solidFill>
                <a:latin typeface="Comic Sans MS"/>
              </a:rPr>
              <a:t>ein Et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8200" y="1989000"/>
            <a:ext cx="21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008000"/>
                </a:solidFill>
                <a:latin typeface="Comic Sans MS"/>
              </a:rPr>
              <a:t>ein 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941720"/>
            <a:ext cx="21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008000"/>
                </a:solidFill>
                <a:latin typeface="Comic Sans MS"/>
              </a:rPr>
              <a:t>ein H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5157720"/>
            <a:ext cx="21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008000"/>
                </a:solidFill>
                <a:latin typeface="Comic Sans MS"/>
              </a:rPr>
              <a:t>ein W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örter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522936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einen Bleist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28000" y="5229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einen Gum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84360" y="1557360"/>
            <a:ext cx="7772400" cy="2362320"/>
            <a:chOff x="684360" y="1557360"/>
            <a:chExt cx="7772400" cy="2362320"/>
          </a:xfrm>
        </p:grpSpPr>
        <p:sp>
          <p:nvSpPr>
            <p:cNvPr id="110" name=""/>
            <p:cNvSpPr/>
            <p:nvPr/>
          </p:nvSpPr>
          <p:spPr>
            <a:xfrm>
              <a:off x="912960" y="1557360"/>
              <a:ext cx="7238880" cy="2362320"/>
            </a:xfrm>
            <a:prstGeom prst="irregularSeal1">
              <a:avLst/>
            </a:prstGeom>
            <a:solidFill>
              <a:srgbClr val="ffff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360" y="2243160"/>
              <a:ext cx="7772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333399"/>
                  </a:solidFill>
                  <a:latin typeface="Comic Sans MS"/>
                </a:rPr>
                <a:t>Ein Spie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13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098360" cy="4190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943600" y="1066680"/>
            <a:ext cx="198108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7:28:12Z</dcterms:created>
  <dc:creator>Eleanor Abrahams </dc:creator>
  <dc:description/>
  <dc:language>en-US</dc:language>
  <cp:lastModifiedBy>CSeccombe</cp:lastModifiedBy>
  <dcterms:modified xsi:type="dcterms:W3CDTF">2007-07-11T13:11:19Z</dcterms:modified>
  <cp:revision>13</cp:revision>
  <dc:subject/>
  <dc:title>Today’s Lesson Objective: To be able to name things in your bag  Today’s Language Focus: einen / eine / ein</dc:title>
</cp:coreProperties>
</file>