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23.wmf" ContentType="image/x-wmf"/>
  <Override PartName="/ppt/media/image11.jpeg" ContentType="image/jpeg"/>
  <Override PartName="/ppt/media/image4.png" ContentType="image/png"/>
  <Override PartName="/ppt/media/image12.wmf" ContentType="image/x-wmf"/>
  <Override PartName="/ppt/media/image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.png" ContentType="image/png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4CE-F346-4BD5-8982-1CA3FA7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09E-1AD3-460C-8B2E-75A0DBF9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703-06C9-4219-AF56-526C7423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D2A-55D4-4752-B188-AE893F54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AA6-21DE-4F67-927B-5211881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DB8-09CB-4F26-8D53-A4E27809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8C4-D2F5-411D-ACDC-F4D973B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FEF-E78F-4C02-AF95-30C49E7B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7E8-6799-4684-9C69-E2C7010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BD7-4A9B-4489-8F8E-C15C97B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54F-0D91-4D38-BEE5-B76007C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D60-33B6-4376-8B65-369164F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576-53A9-4A28-B1E7-820FF828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27.wmf"/><Relationship Id="rId20" Type="http://schemas.openxmlformats.org/officeDocument/2006/relationships/image" Target="../media/image28.wmf"/><Relationship Id="rId21" Type="http://schemas.openxmlformats.org/officeDocument/2006/relationships/image" Target="../media/image29.wmf"/><Relationship Id="rId22" Type="http://schemas.openxmlformats.org/officeDocument/2006/relationships/oleObject" Target="../embeddings/oleObject4.bin"/><Relationship Id="rId23" Type="http://schemas.openxmlformats.org/officeDocument/2006/relationships/image" Target="../media/image30.wmf"/><Relationship Id="rId24" Type="http://schemas.openxmlformats.org/officeDocument/2006/relationships/image" Target="../media/image31.wmf"/><Relationship Id="rId2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0"/>
            <a:ext cx="8338680" cy="6597360"/>
            <a:chOff x="250920" y="0"/>
            <a:chExt cx="8338680" cy="6597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58920" y="4980960"/>
              <a:ext cx="1550520" cy="15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911560" y="5370120"/>
              <a:ext cx="201564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996960" y="3346560"/>
              <a:ext cx="1581480" cy="14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585240" y="4358160"/>
              <a:ext cx="1464840" cy="163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50920" y="3424320"/>
              <a:ext cx="1755720" cy="13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250920" y="311400"/>
              <a:ext cx="173340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6454080" y="311400"/>
              <a:ext cx="213552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3119760" y="0"/>
              <a:ext cx="2209680" cy="22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3672000"/>
          </a:xfrm>
          <a:prstGeom prst="rect">
            <a:avLst/>
          </a:prstGeom>
          <a:noFill/>
          <a:ln cap="rnd" w="5400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esson Objec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able to name things in your bag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ch habe einen / eine /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09836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048120"/>
            <a:ext cx="40370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en Bleist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2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35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2209680"/>
            <a:ext cx="327672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2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 Gu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3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1984320"/>
            <a:ext cx="4038840" cy="286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91120" y="1066680"/>
            <a:ext cx="4952880" cy="4953240"/>
          </a:xfrm>
          <a:prstGeom prst="donut">
            <a:avLst>
              <a:gd name="adj" fmla="val 3569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3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 H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1984320"/>
            <a:ext cx="4038840" cy="28638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4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76920" y="1371600"/>
            <a:ext cx="3962160" cy="3962520"/>
          </a:xfrm>
          <a:prstGeom prst="donut">
            <a:avLst>
              <a:gd name="adj" fmla="val 3569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45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3048120"/>
            <a:ext cx="3733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ch habe eine Tas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50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00760" y="530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9604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076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076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840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840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368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840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8400" y="53020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368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368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9604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16720" y="47005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771640" y="1052640"/>
            <a:ext cx="1024200" cy="1164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1150920" cy="947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24000" cy="103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1079640" cy="125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292720" y="5516640"/>
            <a:ext cx="1079640" cy="866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476360" y="4869000"/>
            <a:ext cx="973080" cy="100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5364000" y="2637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1332000" y="342900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6659640" y="333360"/>
            <a:ext cx="963360" cy="122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9604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9604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076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368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3995640" y="1989000"/>
            <a:ext cx="1127160" cy="824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2771640" y="2708280"/>
            <a:ext cx="938520" cy="923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5219640" y="9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38440"/>
            <a:ext cx="1193760" cy="1006560"/>
          </a:xfrm>
          <a:prstGeom prst="hexagon">
            <a:avLst>
              <a:gd name="adj" fmla="val 29649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700360" y="4076640"/>
          <a:ext cx="1047600" cy="885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4076640"/>
                    <a:ext cx="1047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659640" y="2060640"/>
          <a:ext cx="93672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659640" y="2060640"/>
                    <a:ext cx="93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140360" y="3500280"/>
          <a:ext cx="792000" cy="736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40360" y="3500280"/>
                    <a:ext cx="792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6443640" y="3429000"/>
            <a:ext cx="1347840" cy="84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067280" y="4797360"/>
            <a:ext cx="914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751120" y="5516640"/>
          <a:ext cx="1028880" cy="885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751120" y="5516640"/>
                    <a:ext cx="10288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24"/>
          <a:stretch/>
        </p:blipFill>
        <p:spPr>
          <a:xfrm>
            <a:off x="3995640" y="333360"/>
            <a:ext cx="1119240" cy="1362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98100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981000"/>
            <a:ext cx="1694160" cy="1440000"/>
          </a:xfrm>
          <a:prstGeom prst="hexagon">
            <a:avLst>
              <a:gd name="adj" fmla="val 29413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42100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421000"/>
            <a:ext cx="1729080" cy="1439640"/>
          </a:xfrm>
          <a:prstGeom prst="hexagon">
            <a:avLst>
              <a:gd name="adj" fmla="val 300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86064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3860640"/>
            <a:ext cx="1729080" cy="1440000"/>
          </a:xfrm>
          <a:prstGeom prst="hexagon">
            <a:avLst>
              <a:gd name="adj" fmla="val 300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53020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530208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72000" y="26028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170028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314172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458136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98100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98100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242100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2421000"/>
            <a:ext cx="1764000" cy="1439640"/>
          </a:xfrm>
          <a:prstGeom prst="hexagon">
            <a:avLst>
              <a:gd name="adj" fmla="val 30633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386064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386064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53020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3640" y="5302080"/>
            <a:ext cx="1764000" cy="1440000"/>
          </a:xfrm>
          <a:prstGeom prst="hexagon">
            <a:avLst>
              <a:gd name="adj" fmla="val 30625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26028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26028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170028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170028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3141720"/>
            <a:ext cx="1727280" cy="14396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0720" y="3141720"/>
            <a:ext cx="1763640" cy="1439640"/>
          </a:xfrm>
          <a:prstGeom prst="hexagon">
            <a:avLst>
              <a:gd name="adj" fmla="val 30626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00720" y="4581360"/>
            <a:ext cx="1727280" cy="1440000"/>
          </a:xfrm>
          <a:prstGeom prst="hexagon">
            <a:avLst>
              <a:gd name="adj" fmla="val 29988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4581360"/>
            <a:ext cx="1763640" cy="1440000"/>
          </a:xfrm>
          <a:prstGeom prst="hexagon">
            <a:avLst>
              <a:gd name="adj" fmla="val 30619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categories do these words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585720"/>
                <a:gridCol w="1441440"/>
                <a:gridCol w="1440000"/>
                <a:gridCol w="1439640"/>
                <a:gridCol w="1368720"/>
                <a:gridCol w="1954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ie Katz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H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Elef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L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  <a:ea typeface="Arial"/>
                        </a:rPr>
                        <a:t>öw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Anim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er Apf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Ban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Oran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Nu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F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W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örter-bu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Line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He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Ku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Scho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zeh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i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re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l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numb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877080" y="2205000"/>
            <a:ext cx="15825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068640"/>
            <a:ext cx="15825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4005360"/>
            <a:ext cx="158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5300640"/>
            <a:ext cx="1582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Can you find the odd-one-out in each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362800" cy="4530600"/>
        </p:xfrm>
        <a:graphic>
          <a:graphicData uri="http://schemas.openxmlformats.org/drawingml/2006/table">
            <a:tbl>
              <a:tblPr/>
              <a:tblGrid>
                <a:gridCol w="585720"/>
                <a:gridCol w="1441440"/>
                <a:gridCol w="1440000"/>
                <a:gridCol w="1439640"/>
                <a:gridCol w="1152720"/>
                <a:gridCol w="2303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 one ou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ie Katz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H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Elef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L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  <a:ea typeface="Arial"/>
                        </a:rPr>
                        <a:t>öw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er Apf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Bana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Oran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ie Nu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W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örter-bu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Line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as He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der Ku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zeh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i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dre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8000"/>
                          </a:solidFill>
                          <a:latin typeface="Kristen ITC"/>
                        </a:rPr>
                        <a:t>el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00000" y="2421000"/>
            <a:ext cx="7131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ffff00"/>
                  </a:outerShdw>
                </a:effectLst>
                <a:latin typeface="Comic Sans MS"/>
              </a:rPr>
              <a:t>apfelöwelefantageschenkatzein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ffff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4936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many German words can you find? Make a list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hen carry on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36600" y="0"/>
            <a:ext cx="8338680" cy="6597360"/>
            <a:chOff x="336600" y="0"/>
            <a:chExt cx="8338680" cy="65973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344600" y="4980960"/>
              <a:ext cx="1550520" cy="15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5997240" y="5370120"/>
              <a:ext cx="2015640" cy="12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7082640" y="3346560"/>
              <a:ext cx="1581480" cy="14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670920" y="4358160"/>
              <a:ext cx="1464840" cy="163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336600" y="3424320"/>
              <a:ext cx="1755720" cy="13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336600" y="311400"/>
              <a:ext cx="1733400" cy="12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6539760" y="311400"/>
              <a:ext cx="213552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3205440" y="0"/>
              <a:ext cx="2209680" cy="22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 txBox="1"/>
          <p:nvPr/>
        </p:nvSpPr>
        <p:spPr>
          <a:xfrm>
            <a:off x="2484360" y="2205000"/>
            <a:ext cx="410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Eras Demi ITC"/>
              </a:rPr>
              <a:t>Was hast d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Eras Demi ITC"/>
              <a:ea typeface="Eras Demi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Eras Demi ITC"/>
              </a:rPr>
              <a:t>in deiner Tasch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Eras Demi ITC"/>
              <a:ea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549360"/>
            <a:ext cx="7305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Kristen ITC"/>
              </a:rPr>
              <a:t>Wie sagt man "the" auf Deutsc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Kristen ITC"/>
              <a:ea typeface="Kristen ITC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1197000"/>
            <a:ext cx="718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1628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08360" y="1628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Ravie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Ravie"/>
              <a:ea typeface="Ravi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00720" y="155736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Ravie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Ravie"/>
              <a:ea typeface="Ravi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2997360"/>
            <a:ext cx="7305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Kristen ITC"/>
              </a:rPr>
              <a:t>Wie sagt man "a/an" auf Deutsch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Kristen ITC"/>
              <a:ea typeface="Kristen ITC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645000"/>
            <a:ext cx="863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5640" y="4292640"/>
            <a:ext cx="1800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ei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4000" y="4292640"/>
            <a:ext cx="1439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Ravie"/>
              </a:rPr>
              <a:t>e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Ravie"/>
              <a:ea typeface="Ravi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00720" y="4292640"/>
            <a:ext cx="1038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Ravie"/>
              </a:rPr>
              <a:t>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Ravie"/>
              <a:ea typeface="Ravie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2492280"/>
            <a:ext cx="792360" cy="1657440"/>
          </a:xfrm>
          <a:prstGeom prst="downArrow">
            <a:avLst>
              <a:gd name="adj1" fmla="val 53509"/>
              <a:gd name="adj2" fmla="val 6872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2492280"/>
            <a:ext cx="792000" cy="1657440"/>
          </a:xfrm>
          <a:prstGeom prst="downArrow">
            <a:avLst>
              <a:gd name="adj1" fmla="val 53509"/>
              <a:gd name="adj2" fmla="val 687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2421000"/>
            <a:ext cx="792360" cy="1657440"/>
          </a:xfrm>
          <a:prstGeom prst="downArrow">
            <a:avLst>
              <a:gd name="adj1" fmla="val 53509"/>
              <a:gd name="adj2" fmla="val 6872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327400">
            <a:off x="7092720" y="3789360"/>
            <a:ext cx="198108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87640" y="333360"/>
            <a:ext cx="1265400" cy="18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238880" y="533520"/>
            <a:ext cx="155412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1725480" cy="127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09480" y="609480"/>
            <a:ext cx="170352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651640" y="3357720"/>
            <a:ext cx="51912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304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04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04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04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35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500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3500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3645000"/>
            <a:ext cx="1081080" cy="158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773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K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20500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1016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Et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198900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941720"/>
            <a:ext cx="21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515772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ein W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örter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229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Bleist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00" y="5229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einen Gu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84360" y="1557360"/>
            <a:ext cx="7772400" cy="2362320"/>
            <a:chOff x="684360" y="1557360"/>
            <a:chExt cx="7772400" cy="2362320"/>
          </a:xfrm>
        </p:grpSpPr>
        <p:sp>
          <p:nvSpPr>
            <p:cNvPr id="110" name=""/>
            <p:cNvSpPr/>
            <p:nvPr/>
          </p:nvSpPr>
          <p:spPr>
            <a:xfrm>
              <a:off x="912960" y="1557360"/>
              <a:ext cx="7238880" cy="2362320"/>
            </a:xfrm>
            <a:prstGeom prst="irregularSeal1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2243160"/>
              <a:ext cx="77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333399"/>
                  </a:solidFill>
                  <a:latin typeface="Comic Sans MS"/>
                </a:rPr>
                <a:t>Ein Spie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14400" y="457200"/>
            <a:ext cx="3809880" cy="1171440"/>
            <a:chOff x="914400" y="457200"/>
            <a:chExt cx="3809880" cy="1171440"/>
          </a:xfrm>
        </p:grpSpPr>
        <p:sp>
          <p:nvSpPr>
            <p:cNvPr id="113" name=""/>
            <p:cNvSpPr/>
            <p:nvPr/>
          </p:nvSpPr>
          <p:spPr>
            <a:xfrm>
              <a:off x="914400" y="457200"/>
              <a:ext cx="3809880" cy="1171440"/>
            </a:xfrm>
            <a:prstGeom prst="wedgeRoundRectCallout">
              <a:avLst>
                <a:gd name="adj1" fmla="val -45750"/>
                <a:gd name="adj2" fmla="val 74768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0720" y="58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Comic Sans MS"/>
                </a:rPr>
                <a:t>Was hast du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09836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943600" y="1066680"/>
            <a:ext cx="198108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7:28:12Z</dcterms:created>
  <dc:creator>Eleanor Abrahams </dc:creator>
  <dc:description/>
  <dc:language>en-US</dc:language>
  <cp:lastModifiedBy>CSeccombe</cp:lastModifiedBy>
  <dcterms:modified xsi:type="dcterms:W3CDTF">2007-07-11T13:11:19Z</dcterms:modified>
  <cp:revision>13</cp:revision>
  <dc:subject/>
  <dc:title>Today’s Lesson Objective: To be able to name things in your bag  Today’s Language Focus: einen / eine / ein</dc:title>
</cp:coreProperties>
</file>