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7FAC-C510-4590-8932-1AEEE347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44F9-0E4C-4926-9F57-3BAC22B6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A2B8-38E7-418D-8EA4-639C8528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16D5-08F6-4166-9367-D08F7792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AC25-F064-4449-ACA3-06134A5E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C365-BB96-42A7-8024-51091E88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CFE4-0A1B-4B69-A0F7-CF66E457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D8C5-CF14-4DC8-9447-1533095A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049D-0F85-49FC-9622-45603B77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4B9F-97D5-44B9-AC20-D32BD679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DD03-C468-4AC7-AA39-3FFB1121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211D-B41F-4F63-8119-1965CD59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2002-7429-4C30-834D-E2348AFB9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hyperlink" Target="http://www.sunderlandschools.org/mfl-sunderland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ine Fami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304920"/>
            <a:ext cx="2209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te Lau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228600"/>
            <a:ext cx="228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lechte La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100980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156440" y="762120"/>
            <a:ext cx="774720" cy="990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22096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26668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end of today’s lesson you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able to recognise and use adjectives to describe your family and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41148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end of today’s lesson you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increasing the number of adjectives you know to describe peo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3640" y="649116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ELA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 Rounded MT Bold"/>
                <a:hlinkClick r:id="rId3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ine Fami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304920"/>
            <a:ext cx="2209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te Lau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0" y="228600"/>
            <a:ext cx="228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lechte La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100980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56440" y="762120"/>
            <a:ext cx="774720" cy="990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22096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tändnisvo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6668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rvi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1240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ti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35812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at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0384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4197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t gela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8006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51814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56386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22096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601992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25909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o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2971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a good m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34290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39625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r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43434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un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480060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51814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no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556272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ike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2438280"/>
            <a:ext cx="274320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895480"/>
            <a:ext cx="3733920" cy="251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3429000"/>
            <a:ext cx="38862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3809880"/>
            <a:ext cx="3276720" cy="19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447920" y="2514600"/>
            <a:ext cx="350496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752480" y="3276720"/>
            <a:ext cx="320040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143000" y="4191120"/>
            <a:ext cx="380988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914400" y="2895120"/>
            <a:ext cx="4038480" cy="25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5943600"/>
            <a:ext cx="3962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838080" y="5105520"/>
            <a:ext cx="4114800" cy="12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8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ine Fami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295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e sind diese Personen? Finde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jektiv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en Wörterbüchern und im Logo-H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2860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3733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3733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43600" y="3733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5638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54864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1111320" cy="1170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743200" y="2209680"/>
            <a:ext cx="770040" cy="1046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572000" y="2057400"/>
            <a:ext cx="1015920" cy="1522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705720" y="2209680"/>
            <a:ext cx="1062000" cy="901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2743200" y="3733920"/>
            <a:ext cx="762120" cy="1295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4572000" y="3733920"/>
            <a:ext cx="762120" cy="1447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6400800" y="3657600"/>
            <a:ext cx="990720" cy="1292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2362320" y="5486400"/>
            <a:ext cx="99036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4495680" y="5410080"/>
            <a:ext cx="822600" cy="1219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609480" y="3657600"/>
            <a:ext cx="101124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ine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 Fami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ie ist deine Famili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ie sind deine Freund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chreib ein Paar Sätze über deine Familie und Freunde – mit ADJEKTIVEN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7T08:34:33Z</dcterms:created>
  <dc:creator>eleanor2</dc:creator>
  <dc:description/>
  <dc:language>en-US</dc:language>
  <cp:lastModifiedBy>CSeccombe</cp:lastModifiedBy>
  <dcterms:modified xsi:type="dcterms:W3CDTF">2007-07-11T13:14:05Z</dcterms:modified>
  <cp:revision>5</cp:revision>
  <dc:subject/>
  <dc:title>Meine Familie</dc:title>
</cp:coreProperties>
</file>