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EC9-9EAB-4D41-AEFD-5CBD27CE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C7C-92E7-4E1A-8717-3B08FBFA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B1E-9917-42DC-9F58-1F19FF6D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CF5-9D5E-44D6-B6AB-91274888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3B8-F6F3-4C85-9374-13EF1B05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CF9-F514-4AD5-9475-C6216A99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A72-D08A-4FB9-B85D-4BF0B17E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1FB-1C06-4806-9CD1-EA9CC81D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099-9D28-4A1F-837A-3257ACFE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612-CB30-4D3A-8C58-0C255AEB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939-49F8-467D-BBD4-7040EDF2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BD2-9E9C-45FC-B78F-2F0A781D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015E-F70C-4EE0-A1A3-F6ED5F97B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ine Fami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304920"/>
            <a:ext cx="2209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e Lau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22860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chte La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10098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56440" y="762120"/>
            <a:ext cx="774720" cy="99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2096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666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oday’s lesson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ble to recognise and use adjectives to describe your family an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41148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oday’s lesson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increasing the number of adjectives you know to describe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649116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eine Fami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304920"/>
            <a:ext cx="2209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e Lau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22860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chte La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10098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56440" y="762120"/>
            <a:ext cx="774720" cy="99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22096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tändnisvo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6668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rv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1240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5812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at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0384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4197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t gela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8006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1814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6386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0958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2096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60199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25909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2971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a good m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34290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39625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43434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48006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51814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no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55627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k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438280"/>
            <a:ext cx="27432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895480"/>
            <a:ext cx="373392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3429000"/>
            <a:ext cx="38862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3809880"/>
            <a:ext cx="3276720" cy="19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447920" y="2514600"/>
            <a:ext cx="350496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752480" y="3276720"/>
            <a:ext cx="32004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143000" y="4191120"/>
            <a:ext cx="38098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914400" y="2895120"/>
            <a:ext cx="403848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943600"/>
            <a:ext cx="3962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38080" y="5105520"/>
            <a:ext cx="411480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e Fami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sind diese Personen? Finde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jekt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en Wörterbüchern und im Logo-H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286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638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486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770040" cy="1046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72000" y="2057400"/>
            <a:ext cx="1015920" cy="1522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705720" y="2209680"/>
            <a:ext cx="1062000" cy="90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743200" y="3733920"/>
            <a:ext cx="762120" cy="129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572000" y="3733920"/>
            <a:ext cx="762120" cy="1447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400800" y="3657600"/>
            <a:ext cx="990720" cy="1292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2362320" y="548640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4495680" y="5410080"/>
            <a:ext cx="82260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609480" y="3657600"/>
            <a:ext cx="10112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ine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 Fami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e ist deine Famil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e sind deine Freund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hreib ein Paar Sätze über deine Familie und Freunde – mit ADJEKTIVEN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08:34:33Z</dcterms:created>
  <dc:creator>eleanor2</dc:creator>
  <dc:description/>
  <dc:language>en-US</dc:language>
  <cp:lastModifiedBy>CSeccombe</cp:lastModifiedBy>
  <dcterms:modified xsi:type="dcterms:W3CDTF">2007-07-11T13:14:05Z</dcterms:modified>
  <cp:revision>5</cp:revision>
  <dc:subject/>
  <dc:title>Meine Familie</dc:title>
</cp:coreProperties>
</file>