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gif" ContentType="image/gif"/>
  <Override PartName="/ppt/media/image8.wmf" ContentType="image/x-wmf"/>
  <Override PartName="/ppt/media/image6.wmf" ContentType="image/x-wmf"/>
  <Override PartName="/ppt/media/image7.wmf" ContentType="image/x-wmf"/>
  <Override PartName="/ppt/media/image9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820A-C692-4130-B996-2DB8CF8CF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DECB-193B-4D23-B618-1B4B7A57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A6C1-002F-4B21-9DC0-39041F642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EDDF-B7E6-44A6-B9EA-2F5A20B8C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66E1-BC80-487F-BC5A-EA10BCC2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E13A-FC48-4898-993B-3A7BCC3E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83F7-D6F8-4FC6-AC94-18BEF783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4FB5-482C-4BC6-B325-99A36E93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A5B6-37DD-4851-B2A7-4D357B37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47AE-7B40-4E89-981C-83468589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263D-AD73-498E-8E74-3BBD00E7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B151-25E6-4414-9270-0EA451E8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29E1-03DF-4965-B523-69E51580C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underlandschools.org/mfl-sunderland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7.wmf"/><Relationship Id="rId15" Type="http://schemas.openxmlformats.org/officeDocument/2006/relationships/image" Target="../media/image7.wmf"/><Relationship Id="rId16" Type="http://schemas.openxmlformats.org/officeDocument/2006/relationships/image" Target="../media/image7.wmf"/><Relationship Id="rId17" Type="http://schemas.openxmlformats.org/officeDocument/2006/relationships/image" Target="../media/image7.wmf"/><Relationship Id="rId18" Type="http://schemas.openxmlformats.org/officeDocument/2006/relationships/image" Target="../media/image7.wmf"/><Relationship Id="rId19" Type="http://schemas.openxmlformats.org/officeDocument/2006/relationships/image" Target="../media/image7.wmf"/><Relationship Id="rId20" Type="http://schemas.openxmlformats.org/officeDocument/2006/relationships/image" Target="../media/image7.wmf"/><Relationship Id="rId21" Type="http://schemas.openxmlformats.org/officeDocument/2006/relationships/image" Target="../media/image7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8.wmf"/><Relationship Id="rId27" Type="http://schemas.openxmlformats.org/officeDocument/2006/relationships/image" Target="../media/image9.wmf"/><Relationship Id="rId28" Type="http://schemas.openxmlformats.org/officeDocument/2006/relationships/image" Target="../media/image9.wmf"/><Relationship Id="rId29" Type="http://schemas.openxmlformats.org/officeDocument/2006/relationships/image" Target="../media/image9.wmf"/><Relationship Id="rId30" Type="http://schemas.openxmlformats.org/officeDocument/2006/relationships/image" Target="../media/image9.wmf"/><Relationship Id="rId31" Type="http://schemas.openxmlformats.org/officeDocument/2006/relationships/image" Target="../media/image8.wmf"/><Relationship Id="rId3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7.wmf"/><Relationship Id="rId15" Type="http://schemas.openxmlformats.org/officeDocument/2006/relationships/image" Target="../media/image7.wmf"/><Relationship Id="rId16" Type="http://schemas.openxmlformats.org/officeDocument/2006/relationships/image" Target="../media/image7.wmf"/><Relationship Id="rId17" Type="http://schemas.openxmlformats.org/officeDocument/2006/relationships/image" Target="../media/image7.wmf"/><Relationship Id="rId18" Type="http://schemas.openxmlformats.org/officeDocument/2006/relationships/image" Target="../media/image7.wmf"/><Relationship Id="rId19" Type="http://schemas.openxmlformats.org/officeDocument/2006/relationships/image" Target="../media/image7.wmf"/><Relationship Id="rId20" Type="http://schemas.openxmlformats.org/officeDocument/2006/relationships/image" Target="../media/image7.wmf"/><Relationship Id="rId21" Type="http://schemas.openxmlformats.org/officeDocument/2006/relationships/image" Target="../media/image7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8.wmf"/><Relationship Id="rId27" Type="http://schemas.openxmlformats.org/officeDocument/2006/relationships/image" Target="../media/image9.wmf"/><Relationship Id="rId28" Type="http://schemas.openxmlformats.org/officeDocument/2006/relationships/image" Target="../media/image9.wmf"/><Relationship Id="rId29" Type="http://schemas.openxmlformats.org/officeDocument/2006/relationships/image" Target="../media/image9.wmf"/><Relationship Id="rId30" Type="http://schemas.openxmlformats.org/officeDocument/2006/relationships/image" Target="../media/image9.wmf"/><Relationship Id="rId31" Type="http://schemas.openxmlformats.org/officeDocument/2006/relationships/image" Target="../media/image8.wmf"/><Relationship Id="rId3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150200">
            <a:off x="6392520" y="1693800"/>
            <a:ext cx="291960" cy="2124000"/>
          </a:xfrm>
          <a:prstGeom prst="upArrow">
            <a:avLst>
              <a:gd name="adj1" fmla="val 50000"/>
              <a:gd name="adj2" fmla="val 18187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Meine Famil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2133720"/>
            <a:ext cx="45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day’s Object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1268280"/>
            <a:ext cx="187200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aust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43640" y="1197000"/>
            <a:ext cx="18716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eschreib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3500280"/>
            <a:ext cx="216072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92360" y="2997360"/>
            <a:ext cx="590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y the end of this lesson you will be able to give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escription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eschwister and Hausti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90920" y="4624560"/>
            <a:ext cx="2376360" cy="1442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03640" y="6497640"/>
            <a:ext cx="59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©MFL Sunderland 2007 ELA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Meine Famil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1628640"/>
            <a:ext cx="1871640" cy="576360"/>
          </a:xfrm>
          <a:prstGeom prst="roundRect">
            <a:avLst>
              <a:gd name="adj" fmla="val 16667"/>
            </a:avLst>
          </a:prstGeom>
          <a:solidFill>
            <a:srgbClr val="bbe0e3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Geschw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659640" y="3141720"/>
            <a:ext cx="1871640" cy="576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aust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08720" y="5157720"/>
            <a:ext cx="1871640" cy="576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eschreib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47640" y="5157720"/>
            <a:ext cx="187200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ami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3141720"/>
            <a:ext cx="18716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harak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58920" y="1628640"/>
            <a:ext cx="18716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rie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003640" y="2204640"/>
            <a:ext cx="648000" cy="79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24360" y="3500280"/>
            <a:ext cx="935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4076640"/>
            <a:ext cx="865080" cy="1081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203640" y="4149720"/>
            <a:ext cx="792000" cy="10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340000" y="3500280"/>
            <a:ext cx="936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3132000" y="1988640"/>
            <a:ext cx="935280" cy="863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2781360"/>
            <a:ext cx="2447640" cy="144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ine Fami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956720" y="2421000"/>
            <a:ext cx="688680" cy="917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77080" y="3933720"/>
            <a:ext cx="1727280" cy="1008000"/>
          </a:xfrm>
          <a:prstGeom prst="wedgeEllipseCallout">
            <a:avLst>
              <a:gd name="adj1" fmla="val -39615"/>
              <a:gd name="adj2" fmla="val 9141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hwar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 kl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Meine Famil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0000" y="2421000"/>
            <a:ext cx="45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ast du Hausti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50920" y="3573360"/>
            <a:ext cx="518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a, ich habe einen Hund und eine Katze. Mein Hund hei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β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 Blacky und ist 5 Jahre alt. Meine Katze hei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β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 Tigger und ist 18 Mo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1268280"/>
            <a:ext cx="187200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aust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43640" y="1197000"/>
            <a:ext cx="18716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eschreib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11280" y="4221000"/>
            <a:ext cx="925560" cy="1231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7451640" y="4581360"/>
          <a:ext cx="1047960" cy="88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1640" y="4581360"/>
                    <a:ext cx="104796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4427640" y="3645000"/>
            <a:ext cx="93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95640" y="4076640"/>
            <a:ext cx="863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720" y="407664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494172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411280" y="2781360"/>
            <a:ext cx="936720" cy="979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87280" y="2565360"/>
            <a:ext cx="1055880" cy="882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042920" y="1197000"/>
            <a:ext cx="574920" cy="7318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Meine Famil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755640" y="1628640"/>
            <a:ext cx="574560" cy="731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258920" y="1628640"/>
            <a:ext cx="574560" cy="731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3132000" y="3068640"/>
            <a:ext cx="574920" cy="731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1619280" y="1268280"/>
            <a:ext cx="574560" cy="731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1979640" y="4005360"/>
            <a:ext cx="574560" cy="7318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9"/>
          <a:stretch/>
        </p:blipFill>
        <p:spPr>
          <a:xfrm>
            <a:off x="2195640" y="4221000"/>
            <a:ext cx="574560" cy="731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0"/>
          <a:stretch/>
        </p:blipFill>
        <p:spPr>
          <a:xfrm>
            <a:off x="3564000" y="2708280"/>
            <a:ext cx="574560" cy="731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324000" y="1268280"/>
            <a:ext cx="12852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Unicode MS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Unicode MS"/>
              <a:ea typeface="Arial Unicode MS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4000" y="2781360"/>
            <a:ext cx="12852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Unicode MS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Unicode MS"/>
              <a:ea typeface="Arial Unicode MS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24000" y="4149720"/>
            <a:ext cx="12852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Unicode MS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Unicode MS"/>
              <a:ea typeface="Arial Unicode MS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50920" y="5589720"/>
            <a:ext cx="12852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Unicode MS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Unicode MS"/>
              <a:ea typeface="Arial Unicode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2195640" y="1268280"/>
            <a:ext cx="982440" cy="1001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684360" y="2852640"/>
            <a:ext cx="1055520" cy="882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684360" y="5300640"/>
            <a:ext cx="982440" cy="1001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4"/>
          <a:stretch/>
        </p:blipFill>
        <p:spPr>
          <a:xfrm>
            <a:off x="755640" y="3933720"/>
            <a:ext cx="473040" cy="1173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5"/>
          <a:stretch/>
        </p:blipFill>
        <p:spPr>
          <a:xfrm>
            <a:off x="1042920" y="3933720"/>
            <a:ext cx="473040" cy="11732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6"/>
          <a:stretch/>
        </p:blipFill>
        <p:spPr>
          <a:xfrm>
            <a:off x="2627280" y="3933720"/>
            <a:ext cx="473040" cy="1173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7"/>
          <a:stretch/>
        </p:blipFill>
        <p:spPr>
          <a:xfrm>
            <a:off x="1763640" y="3933720"/>
            <a:ext cx="473040" cy="1173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8"/>
          <a:stretch/>
        </p:blipFill>
        <p:spPr>
          <a:xfrm>
            <a:off x="3132000" y="1125360"/>
            <a:ext cx="473040" cy="1173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9"/>
          <a:stretch/>
        </p:blipFill>
        <p:spPr>
          <a:xfrm>
            <a:off x="3492360" y="1125360"/>
            <a:ext cx="473040" cy="1173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0"/>
          <a:stretch/>
        </p:blipFill>
        <p:spPr>
          <a:xfrm>
            <a:off x="1692360" y="5229360"/>
            <a:ext cx="473040" cy="1172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1"/>
          <a:stretch/>
        </p:blipFill>
        <p:spPr>
          <a:xfrm>
            <a:off x="2124000" y="2637000"/>
            <a:ext cx="473040" cy="1172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2"/>
          <a:stretch/>
        </p:blipFill>
        <p:spPr>
          <a:xfrm>
            <a:off x="2843280" y="4005360"/>
            <a:ext cx="936720" cy="979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3"/>
          <a:stretch/>
        </p:blipFill>
        <p:spPr>
          <a:xfrm>
            <a:off x="2195640" y="5373720"/>
            <a:ext cx="936360" cy="979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4"/>
          <a:stretch/>
        </p:blipFill>
        <p:spPr>
          <a:xfrm>
            <a:off x="2700360" y="5445000"/>
            <a:ext cx="936720" cy="979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5"/>
          <a:stretch/>
        </p:blipFill>
        <p:spPr>
          <a:xfrm>
            <a:off x="3780000" y="2852640"/>
            <a:ext cx="936360" cy="979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6"/>
          <a:stretch/>
        </p:blipFill>
        <p:spPr>
          <a:xfrm>
            <a:off x="3276720" y="5084640"/>
            <a:ext cx="1511280" cy="1397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7"/>
          <a:stretch/>
        </p:blipFill>
        <p:spPr>
          <a:xfrm>
            <a:off x="3492360" y="3933720"/>
            <a:ext cx="1371600" cy="1149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8"/>
          <a:stretch/>
        </p:blipFill>
        <p:spPr>
          <a:xfrm rot="18043800">
            <a:off x="4066920" y="3644640"/>
            <a:ext cx="1371600" cy="1149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9"/>
          <a:stretch/>
        </p:blipFill>
        <p:spPr>
          <a:xfrm>
            <a:off x="4500720" y="5300640"/>
            <a:ext cx="1371600" cy="1149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0"/>
          <a:stretch/>
        </p:blipFill>
        <p:spPr>
          <a:xfrm rot="20815200">
            <a:off x="4716000" y="1125360"/>
            <a:ext cx="1371600" cy="1149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1"/>
          <a:stretch/>
        </p:blipFill>
        <p:spPr>
          <a:xfrm>
            <a:off x="3635280" y="1052640"/>
            <a:ext cx="1511280" cy="1396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300720" y="1052640"/>
            <a:ext cx="2519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Arial"/>
              </a:rPr>
              <a:t>Ich habe vier V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  <a:ea typeface="Arial"/>
              </a:rPr>
              <a:t>ögel, einen Hund, zwei Kaninchen, ein Pferd und zwei Spinn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48360" y="2637000"/>
            <a:ext cx="331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Arial"/>
              </a:rPr>
              <a:t>Ich habe zwei Hunde, ein Kaninchen, zwei M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  <a:ea typeface="Arial"/>
              </a:rPr>
              <a:t>äuse und zwei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ög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35640" y="3789360"/>
            <a:ext cx="331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Arial"/>
              </a:rPr>
              <a:t>Ich habe vier Spinnen, vier Kaninchen, eine M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  <a:ea typeface="Arial"/>
              </a:rPr>
              <a:t>aus und zwei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ög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08720" y="5013360"/>
            <a:ext cx="331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Arial"/>
              </a:rPr>
              <a:t>Ich habe einen Hund, ein Kaninchen, zwei M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  <a:ea typeface="Arial"/>
              </a:rPr>
              <a:t>äuse, ein Pferd und zwei Spi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700360" y="476280"/>
            <a:ext cx="352728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eschreib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982800" cy="1001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332000" y="4076640"/>
            <a:ext cx="1152360" cy="10652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 rot="20815200">
            <a:off x="1258560" y="5300640"/>
            <a:ext cx="1371600" cy="11494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50920" y="1844640"/>
            <a:ext cx="100800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r (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3068640"/>
            <a:ext cx="1008000" cy="504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e 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4508640"/>
            <a:ext cx="100800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5589720"/>
            <a:ext cx="1008000" cy="5047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e (p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56000" y="177336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ch habe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ein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grau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H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27280" y="3068640"/>
            <a:ext cx="50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ch habe </a:t>
            </a:r>
            <a:r>
              <a:rPr b="0" lang="en-GB" sz="2400" spc="-1" strike="noStrike">
                <a:solidFill>
                  <a:srgbClr val="d60093"/>
                </a:solidFill>
                <a:latin typeface="Arial"/>
              </a:rPr>
              <a:t>ei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chwarz</a:t>
            </a:r>
            <a:r>
              <a:rPr b="0" lang="en-GB" sz="2400" spc="-1" strike="noStrike">
                <a:solidFill>
                  <a:srgbClr val="d60093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Kat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27280" y="4437000"/>
            <a:ext cx="50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ch habe </a:t>
            </a:r>
            <a:r>
              <a:rPr b="0" lang="en-GB" sz="2400" spc="-1" strike="noStrike">
                <a:solidFill>
                  <a:srgbClr val="009900"/>
                </a:solidFill>
                <a:latin typeface="Arial"/>
              </a:rPr>
              <a:t>ein</a:t>
            </a:r>
            <a:r>
              <a:rPr b="0" lang="en-GB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aun</a:t>
            </a:r>
            <a:r>
              <a:rPr b="0" lang="en-GB" sz="2400" spc="-1" strike="noStrike">
                <a:solidFill>
                  <a:srgbClr val="009900"/>
                </a:solidFill>
                <a:latin typeface="Arial"/>
              </a:rPr>
              <a:t>es</a:t>
            </a:r>
            <a:r>
              <a:rPr b="0" lang="en-GB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fe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00360" y="573408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ch habe schwarz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inn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547640" y="2781360"/>
          <a:ext cx="736920" cy="113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47640" y="2781360"/>
                    <a:ext cx="73692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411280" y="2781360"/>
            <a:ext cx="936720" cy="979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187280" y="2565360"/>
            <a:ext cx="1055880" cy="882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84360" y="333360"/>
            <a:ext cx="574560" cy="731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11280" y="836640"/>
            <a:ext cx="574560" cy="731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116000" y="836640"/>
            <a:ext cx="574560" cy="731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3132000" y="3068640"/>
            <a:ext cx="574920" cy="7318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1116000" y="260280"/>
            <a:ext cx="574560" cy="731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>
            <a:off x="1979640" y="4005360"/>
            <a:ext cx="574560" cy="731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2195640" y="4221000"/>
            <a:ext cx="574560" cy="7318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0"/>
          <a:stretch/>
        </p:blipFill>
        <p:spPr>
          <a:xfrm>
            <a:off x="3564000" y="2708280"/>
            <a:ext cx="574560" cy="7318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324000" y="404640"/>
            <a:ext cx="128520" cy="3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Unicode MS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Unicode MS"/>
              <a:ea typeface="Arial Unicode MS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4000" y="2781360"/>
            <a:ext cx="12852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Unicode MS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Unicode MS"/>
              <a:ea typeface="Arial Unicode MS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24000" y="4149720"/>
            <a:ext cx="12852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Unicode MS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Unicode MS"/>
              <a:ea typeface="Arial Unicode MS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0920" y="5589720"/>
            <a:ext cx="12852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Unicode MS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Unicode MS"/>
              <a:ea typeface="Arial Unicode MS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1"/>
          <a:stretch/>
        </p:blipFill>
        <p:spPr>
          <a:xfrm>
            <a:off x="1908000" y="333360"/>
            <a:ext cx="982800" cy="10018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2"/>
          <a:stretch/>
        </p:blipFill>
        <p:spPr>
          <a:xfrm>
            <a:off x="684360" y="2852640"/>
            <a:ext cx="1055520" cy="882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3"/>
          <a:stretch/>
        </p:blipFill>
        <p:spPr>
          <a:xfrm>
            <a:off x="684360" y="5300640"/>
            <a:ext cx="982440" cy="1001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4"/>
          <a:stretch/>
        </p:blipFill>
        <p:spPr>
          <a:xfrm>
            <a:off x="755640" y="3933720"/>
            <a:ext cx="473040" cy="11732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5"/>
          <a:stretch/>
        </p:blipFill>
        <p:spPr>
          <a:xfrm>
            <a:off x="1042920" y="3933720"/>
            <a:ext cx="473040" cy="11732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6"/>
          <a:stretch/>
        </p:blipFill>
        <p:spPr>
          <a:xfrm>
            <a:off x="2627280" y="3933720"/>
            <a:ext cx="473040" cy="11732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7"/>
          <a:stretch/>
        </p:blipFill>
        <p:spPr>
          <a:xfrm>
            <a:off x="1763640" y="3933720"/>
            <a:ext cx="473040" cy="11732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8"/>
          <a:stretch/>
        </p:blipFill>
        <p:spPr>
          <a:xfrm>
            <a:off x="2987640" y="189000"/>
            <a:ext cx="473040" cy="11732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9"/>
          <a:stretch/>
        </p:blipFill>
        <p:spPr>
          <a:xfrm>
            <a:off x="3419640" y="189000"/>
            <a:ext cx="473040" cy="11732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0"/>
          <a:stretch/>
        </p:blipFill>
        <p:spPr>
          <a:xfrm>
            <a:off x="1692360" y="5229360"/>
            <a:ext cx="473040" cy="1172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1"/>
          <a:stretch/>
        </p:blipFill>
        <p:spPr>
          <a:xfrm>
            <a:off x="2124000" y="2637000"/>
            <a:ext cx="473040" cy="1172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2"/>
          <a:stretch/>
        </p:blipFill>
        <p:spPr>
          <a:xfrm>
            <a:off x="2843280" y="4005360"/>
            <a:ext cx="936720" cy="979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3"/>
          <a:stretch/>
        </p:blipFill>
        <p:spPr>
          <a:xfrm>
            <a:off x="2195640" y="5373720"/>
            <a:ext cx="936360" cy="979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4"/>
          <a:stretch/>
        </p:blipFill>
        <p:spPr>
          <a:xfrm>
            <a:off x="2700360" y="5445000"/>
            <a:ext cx="936720" cy="9795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5"/>
          <a:stretch/>
        </p:blipFill>
        <p:spPr>
          <a:xfrm>
            <a:off x="3780000" y="2852640"/>
            <a:ext cx="936360" cy="9795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6"/>
          <a:stretch/>
        </p:blipFill>
        <p:spPr>
          <a:xfrm>
            <a:off x="3276720" y="5084640"/>
            <a:ext cx="1511280" cy="13971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7"/>
          <a:stretch/>
        </p:blipFill>
        <p:spPr>
          <a:xfrm>
            <a:off x="3492360" y="3933720"/>
            <a:ext cx="1371600" cy="11494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8"/>
          <a:stretch/>
        </p:blipFill>
        <p:spPr>
          <a:xfrm rot="18043800">
            <a:off x="4066920" y="3644640"/>
            <a:ext cx="1371600" cy="11494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9"/>
          <a:stretch/>
        </p:blipFill>
        <p:spPr>
          <a:xfrm>
            <a:off x="4500720" y="5300640"/>
            <a:ext cx="1371600" cy="11494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0"/>
          <a:stretch/>
        </p:blipFill>
        <p:spPr>
          <a:xfrm rot="20815200">
            <a:off x="5003280" y="189000"/>
            <a:ext cx="1371600" cy="11491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1"/>
          <a:stretch/>
        </p:blipFill>
        <p:spPr>
          <a:xfrm>
            <a:off x="3851280" y="189000"/>
            <a:ext cx="1511280" cy="13968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24000" y="148428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Ich habe vier </a:t>
            </a:r>
            <a:r>
              <a:rPr b="0" lang="en-GB" sz="2400" spc="-1" strike="noStrike" u="sng">
                <a:solidFill>
                  <a:srgbClr val="990000"/>
                </a:solidFill>
                <a:uFillTx/>
                <a:latin typeface="Arial"/>
              </a:rPr>
              <a:t>bunten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 V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  <a:ea typeface="Arial"/>
              </a:rPr>
              <a:t>ögel, einen grau</a:t>
            </a:r>
            <a:r>
              <a:rPr b="0" lang="en-US" sz="2400" spc="-1" strike="noStrike" u="sng">
                <a:solidFill>
                  <a:srgbClr val="990000"/>
                </a:solidFill>
                <a:uFillTx/>
                <a:latin typeface="Arial"/>
                <a:ea typeface="Arial"/>
              </a:rPr>
              <a:t>en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  <a:ea typeface="Arial"/>
              </a:rPr>
              <a:t> Hund, zwei braun</a:t>
            </a:r>
            <a:r>
              <a:rPr b="0" lang="en-US" sz="2400" spc="-1" strike="noStrike" u="sng">
                <a:solidFill>
                  <a:srgbClr val="990000"/>
                </a:solidFill>
                <a:uFillTx/>
                <a:latin typeface="Arial"/>
                <a:ea typeface="Arial"/>
              </a:rPr>
              <a:t>en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  <a:ea typeface="Arial"/>
              </a:rPr>
              <a:t> Kaninchen, ein braun</a:t>
            </a:r>
            <a:r>
              <a:rPr b="0" lang="en-US" sz="2400" spc="-1" strike="noStrike" u="sng">
                <a:solidFill>
                  <a:srgbClr val="990000"/>
                </a:solidFill>
                <a:uFillTx/>
                <a:latin typeface="Arial"/>
                <a:ea typeface="Arial"/>
              </a:rPr>
              <a:t>es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  <a:ea typeface="Arial"/>
              </a:rPr>
              <a:t> Pferd und zwei schwarz</a:t>
            </a:r>
            <a:r>
              <a:rPr b="0" lang="en-US" sz="2400" spc="-1" strike="noStrike" u="sng">
                <a:solidFill>
                  <a:srgbClr val="990000"/>
                </a:solidFill>
                <a:uFillTx/>
                <a:latin typeface="Arial"/>
                <a:ea typeface="Arial"/>
              </a:rPr>
              <a:t>en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  <a:ea typeface="Arial"/>
              </a:rPr>
              <a:t> Spin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132000" y="404640"/>
            <a:ext cx="295272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eschreib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2203200" cy="2663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50920" y="3284640"/>
            <a:ext cx="26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ch habe eine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gro</a:t>
            </a:r>
            <a:r>
              <a:rPr b="1" lang="el-GR" sz="2400" spc="-1" strike="noStrike">
                <a:solidFill>
                  <a:srgbClr val="000000"/>
                </a:solidFill>
                <a:latin typeface="Comic Sans MS"/>
              </a:rPr>
              <a:t>β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1249560" cy="1511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796000" y="1413000"/>
            <a:ext cx="26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ch habe eine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klein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6300720" y="5157720"/>
            <a:ext cx="1152720" cy="10652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1042920" y="4660920"/>
            <a:ext cx="2376720" cy="21970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24000" y="4437000"/>
            <a:ext cx="26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ch habe ein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gro</a:t>
            </a:r>
            <a:r>
              <a:rPr b="1" lang="el-GR" sz="2400" spc="-1" strike="noStrike">
                <a:solidFill>
                  <a:srgbClr val="000000"/>
                </a:solidFill>
                <a:latin typeface="Comic Sans MS"/>
              </a:rPr>
              <a:t>β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Pfe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32360" y="472428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ch habe ein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kleine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Pfe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8:00:14Z</dcterms:created>
  <dc:creator>Eleanor Abrahams </dc:creator>
  <dc:description/>
  <dc:language>en-US</dc:language>
  <cp:lastModifiedBy>CSeccombe</cp:lastModifiedBy>
  <dcterms:modified xsi:type="dcterms:W3CDTF">2007-07-11T13:35:44Z</dcterms:modified>
  <cp:revision>10</cp:revision>
  <dc:subject/>
  <dc:title>Meine Familie</dc:title>
</cp:coreProperties>
</file>