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005-8E8C-4B7D-A65B-CA938DA9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484-6FC5-42B7-A255-227FD8B6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915-8E32-4564-9F17-660C4FDA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5E9-A161-4EDA-AE6E-FC9FEC13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FE6-7690-4BA7-A600-49E917BD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6EB-3BFE-4288-90ED-2B9848A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717-1A95-46F0-ADB3-EAAB1DA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C35-ACBE-4A94-8746-F0CE824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B09-A426-4185-A133-056A210E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010-5CB1-4A83-900D-131D581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5C2-27BE-4B55-91E2-1F6E89D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D02-5920-459C-AD71-CE4FFF6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0EF3-5B93-4AA7-BB47-42211DE7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8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8.wmf"/><Relationship Id="rId3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8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8.wmf"/><Relationship Id="rId3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150200">
            <a:off x="6392520" y="1693800"/>
            <a:ext cx="291960" cy="2124000"/>
          </a:xfrm>
          <a:prstGeom prst="upArrow">
            <a:avLst>
              <a:gd name="adj1" fmla="val 50000"/>
              <a:gd name="adj2" fmla="val 1818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26828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119700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500280"/>
            <a:ext cx="2160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299736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will be able to giv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schwister and Haust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0920" y="4624560"/>
            <a:ext cx="2376360" cy="144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5157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15772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m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i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03640" y="2204640"/>
            <a:ext cx="64800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500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4076640"/>
            <a:ext cx="86508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03640" y="4149720"/>
            <a:ext cx="79200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40000" y="3500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132000" y="1988640"/>
            <a:ext cx="935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781360"/>
            <a:ext cx="2447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ine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956720" y="2421000"/>
            <a:ext cx="688680" cy="91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77080" y="3933720"/>
            <a:ext cx="1727280" cy="1008000"/>
          </a:xfrm>
          <a:prstGeom prst="wedgeEllipseCallout">
            <a:avLst>
              <a:gd name="adj1" fmla="val -39615"/>
              <a:gd name="adj2" fmla="val 91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w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 k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242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t du Hausti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3573360"/>
            <a:ext cx="51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, ich habe einen Hund und eine Katze. Mein Hund hei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Blacky und ist 5 Jahre alt. Meine Katze hei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Tigger und ist 18 M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26828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19700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925560" cy="1231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451640" y="4581360"/>
          <a:ext cx="1047960" cy="8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4581360"/>
                    <a:ext cx="1047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427640" y="3645000"/>
            <a:ext cx="93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4076640"/>
            <a:ext cx="863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407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94172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1055880" cy="88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42920" y="1197000"/>
            <a:ext cx="574920" cy="731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8920" y="1628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132000" y="3068640"/>
            <a:ext cx="57492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1619280" y="126828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979640" y="4005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195640" y="422100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564000" y="2708280"/>
            <a:ext cx="574560" cy="73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24000" y="126828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78136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414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558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95640" y="126828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84360" y="2852640"/>
            <a:ext cx="1055520" cy="8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4360" y="530064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755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104292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1763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3132000" y="112536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3492360" y="112536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1692360" y="522936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2124000" y="263700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>
            <a:off x="2843280" y="4005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>
            <a:off x="2195640" y="537372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>
            <a:off x="2700360" y="544500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5"/>
          <a:stretch/>
        </p:blipFill>
        <p:spPr>
          <a:xfrm>
            <a:off x="3780000" y="285264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6"/>
          <a:stretch/>
        </p:blipFill>
        <p:spPr>
          <a:xfrm>
            <a:off x="3276720" y="5084640"/>
            <a:ext cx="15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7"/>
          <a:stretch/>
        </p:blipFill>
        <p:spPr>
          <a:xfrm>
            <a:off x="3492360" y="393372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8"/>
          <a:stretch/>
        </p:blipFill>
        <p:spPr>
          <a:xfrm rot="18043800">
            <a:off x="4066920" y="3644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9"/>
          <a:stretch/>
        </p:blipFill>
        <p:spPr>
          <a:xfrm>
            <a:off x="4500720" y="5300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0"/>
          <a:stretch/>
        </p:blipFill>
        <p:spPr>
          <a:xfrm rot="20815200">
            <a:off x="4716000" y="112536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1"/>
          <a:stretch/>
        </p:blipFill>
        <p:spPr>
          <a:xfrm>
            <a:off x="3635280" y="1052640"/>
            <a:ext cx="1511280" cy="139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1052640"/>
            <a:ext cx="251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vier V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ögel, einen Hund, zwei Kaninchen, ein Pferd und zwei Spi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63700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zwei Hunde, ein Kaninchen, zwei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äuse und zwei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ö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78936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vier Spinnen, vier Kaninchen, eine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aus und zwei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ö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501336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Arial"/>
              </a:rPr>
              <a:t>Ich habe einen Hund, ein Kaninchen, zwei M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äuse, ein Pferd und zwei Sp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00360" y="476280"/>
            <a:ext cx="352728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982800" cy="1001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1152360" cy="1065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 rot="20815200">
            <a:off x="1258560" y="5300640"/>
            <a:ext cx="1371600" cy="114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1844640"/>
            <a:ext cx="100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068640"/>
            <a:ext cx="10080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508640"/>
            <a:ext cx="1008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589720"/>
            <a:ext cx="1008000" cy="504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773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in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rau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306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e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chwarz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at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4437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ein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un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e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57340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 habe schwarz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n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47640" y="2781360"/>
          <a:ext cx="73692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2781360"/>
                    <a:ext cx="7369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1055880" cy="88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1280" y="836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132000" y="3068640"/>
            <a:ext cx="574920" cy="731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116000" y="26028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979640" y="400536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195640" y="4221000"/>
            <a:ext cx="574560" cy="731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3564000" y="2708280"/>
            <a:ext cx="574560" cy="731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4000" y="404640"/>
            <a:ext cx="128520" cy="3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278136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414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5589720"/>
            <a:ext cx="1285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1908000" y="333360"/>
            <a:ext cx="982800" cy="1001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684360" y="2852640"/>
            <a:ext cx="1055520" cy="88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84360" y="5300640"/>
            <a:ext cx="982440" cy="100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55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104292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763640" y="393372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987640" y="18900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419640" y="18900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692360" y="522936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2124000" y="2637000"/>
            <a:ext cx="473040" cy="117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2843280" y="400536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2195640" y="537372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2700360" y="5445000"/>
            <a:ext cx="936720" cy="97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3780000" y="2852640"/>
            <a:ext cx="936360" cy="979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>
            <a:off x="3276720" y="5084640"/>
            <a:ext cx="15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3492360" y="393372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 rot="18043800">
            <a:off x="4066920" y="3644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500720" y="5300640"/>
            <a:ext cx="1371600" cy="1149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 rot="20815200">
            <a:off x="5003280" y="189000"/>
            <a:ext cx="1371600" cy="1149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3851280" y="189000"/>
            <a:ext cx="1511280" cy="1396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1484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Ich habe vier </a:t>
            </a:r>
            <a:r>
              <a:rPr b="0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bunten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 V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ögel, einen grau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Hund, zwei braun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Kaninchen, ein braun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s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Pferd und zwei schwarz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e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 Spi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40464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203200" cy="266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0920" y="328464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ro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1249560" cy="151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6000" y="1413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lei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1152720" cy="1065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042920" y="4660920"/>
            <a:ext cx="2376720" cy="2197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4437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ro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f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724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habe ei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lein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f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00:14Z</dcterms:created>
  <dc:creator>Eleanor Abrahams </dc:creator>
  <dc:description/>
  <dc:language>en-US</dc:language>
  <cp:lastModifiedBy>CSeccombe</cp:lastModifiedBy>
  <dcterms:modified xsi:type="dcterms:W3CDTF">2007-07-11T13:35:44Z</dcterms:modified>
  <cp:revision>10</cp:revision>
  <dc:subject/>
  <dc:title>Meine Familie</dc:title>
</cp:coreProperties>
</file>