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1B5-A5A0-4BDE-9EE2-A1C0E9A8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1BF-94BD-4843-9294-DA3596B3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00E-BB21-4B41-9683-0340AB9E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D97-8AD3-49BF-95C9-63FF7E8B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50E-98DF-45C4-88F6-D11B0F1E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3C4-96C4-4155-A9A1-4C3718E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117-8126-4E35-9E99-9414B00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FB6-F03B-4821-90C1-0A0D6677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FA7-E699-480C-9E3E-48954EF9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418-13ED-4852-B708-1D369DFA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7F8-83DD-481A-B88E-D16E9215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2B8-4B2B-4613-85CB-98B2A8F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A58D-2027-49BF-8E5B-20B48D196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hyperlink" Target="http://www.sunderlandschools.org/mfl-sunderland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reitag den 24sten 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är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1628280"/>
            <a:ext cx="6985080" cy="3961080"/>
          </a:xfrm>
          <a:prstGeom prst="rect">
            <a:avLst/>
          </a:prstGeom>
          <a:noFill/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in / Meine Lieblin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r / die / 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The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lking about my favourit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5516640"/>
            <a:ext cx="925560" cy="687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401840" cy="93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16000" y="836640"/>
            <a:ext cx="100800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Kopier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2920" y="1052640"/>
            <a:ext cx="76680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51280" y="1084320"/>
            <a:ext cx="76680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d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59640" y="1052640"/>
            <a:ext cx="76680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19700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119700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700280"/>
            <a:ext cx="813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st das Wort 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der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di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 oder </a:t>
            </a:r>
            <a:r>
              <a:rPr b="0" lang="en-GB" sz="4400" spc="-1" strike="noStrike" u="sng">
                <a:solidFill>
                  <a:srgbClr val="006600"/>
                </a:solidFill>
                <a:uFillTx/>
                <a:latin typeface="Arial"/>
              </a:rPr>
              <a:t>das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20620800">
            <a:off x="323640" y="1700280"/>
            <a:ext cx="185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Haust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 rot="916200">
            <a:off x="2771640" y="1844640"/>
            <a:ext cx="15130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Unicode MS"/>
              </a:rPr>
              <a:t>Spo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Unicode MS"/>
              <a:ea typeface="Arial Unicode MS"/>
            </a:endParaRPr>
          </a:p>
        </p:txBody>
      </p:sp>
      <p:sp>
        <p:nvSpPr>
          <p:cNvPr id="57" name=""/>
          <p:cNvSpPr txBox="1"/>
          <p:nvPr/>
        </p:nvSpPr>
        <p:spPr>
          <a:xfrm rot="20620800">
            <a:off x="4787640" y="1628640"/>
            <a:ext cx="1854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Blackadder ITC"/>
              </a:rPr>
              <a:t>Far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Blackadder ITC"/>
              <a:ea typeface="Blackadder ITC"/>
            </a:endParaRPr>
          </a:p>
        </p:txBody>
      </p:sp>
      <p:sp>
        <p:nvSpPr>
          <p:cNvPr id="58" name=""/>
          <p:cNvSpPr txBox="1"/>
          <p:nvPr/>
        </p:nvSpPr>
        <p:spPr>
          <a:xfrm rot="1806600">
            <a:off x="7092720" y="1844280"/>
            <a:ext cx="12985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oor Richard"/>
              </a:rPr>
              <a:t>T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oor Richard"/>
              <a:ea typeface="Poor Richard"/>
            </a:endParaRPr>
          </a:p>
        </p:txBody>
      </p:sp>
      <p:sp>
        <p:nvSpPr>
          <p:cNvPr id="59" name=""/>
          <p:cNvSpPr txBox="1"/>
          <p:nvPr/>
        </p:nvSpPr>
        <p:spPr>
          <a:xfrm rot="840600">
            <a:off x="598320" y="3051000"/>
            <a:ext cx="17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urlz MT"/>
              </a:rPr>
              <a:t>F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urlz MT"/>
              <a:ea typeface="Curlz MT"/>
            </a:endParaRPr>
          </a:p>
        </p:txBody>
      </p:sp>
      <p:sp>
        <p:nvSpPr>
          <p:cNvPr id="60" name=""/>
          <p:cNvSpPr txBox="1"/>
          <p:nvPr/>
        </p:nvSpPr>
        <p:spPr>
          <a:xfrm rot="20620800">
            <a:off x="2700000" y="3284640"/>
            <a:ext cx="185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Stencil"/>
              </a:rPr>
              <a:t>Au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Stencil"/>
              <a:ea typeface="Stencil"/>
            </a:endParaRPr>
          </a:p>
        </p:txBody>
      </p:sp>
      <p:sp>
        <p:nvSpPr>
          <p:cNvPr id="61" name=""/>
          <p:cNvSpPr txBox="1"/>
          <p:nvPr/>
        </p:nvSpPr>
        <p:spPr>
          <a:xfrm rot="970800">
            <a:off x="5148360" y="2997000"/>
            <a:ext cx="838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Garamond"/>
              </a:rPr>
              <a:t>C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Garamond"/>
              <a:ea typeface="Garamond"/>
            </a:endParaRPr>
          </a:p>
        </p:txBody>
      </p:sp>
      <p:sp>
        <p:nvSpPr>
          <p:cNvPr id="62" name=""/>
          <p:cNvSpPr txBox="1"/>
          <p:nvPr/>
        </p:nvSpPr>
        <p:spPr>
          <a:xfrm rot="20620800">
            <a:off x="6659280" y="3141720"/>
            <a:ext cx="936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erpetua"/>
              </a:rPr>
              <a:t>E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erpetua"/>
              <a:ea typeface="Perpetua"/>
            </a:endParaRPr>
          </a:p>
        </p:txBody>
      </p:sp>
      <p:sp>
        <p:nvSpPr>
          <p:cNvPr id="63" name=""/>
          <p:cNvSpPr txBox="1"/>
          <p:nvPr/>
        </p:nvSpPr>
        <p:spPr>
          <a:xfrm rot="20620800">
            <a:off x="468360" y="443664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Viner Hand ITC"/>
              </a:rPr>
              <a:t>Fi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Viner Hand ITC"/>
              <a:ea typeface="Viner Hand ITC"/>
            </a:endParaRPr>
          </a:p>
        </p:txBody>
      </p:sp>
      <p:sp>
        <p:nvSpPr>
          <p:cNvPr id="64" name=""/>
          <p:cNvSpPr txBox="1"/>
          <p:nvPr/>
        </p:nvSpPr>
        <p:spPr>
          <a:xfrm rot="415200">
            <a:off x="2392200" y="4692600"/>
            <a:ext cx="375948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Kleidungsstü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 rot="193800">
            <a:off x="593280" y="5589720"/>
            <a:ext cx="469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Kristen ITC"/>
              </a:rPr>
              <a:t>Fußballmannschaf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Kristen ITC"/>
              <a:ea typeface="Kristen ITC"/>
            </a:endParaRPr>
          </a:p>
        </p:txBody>
      </p:sp>
      <p:sp>
        <p:nvSpPr>
          <p:cNvPr id="66" name=""/>
          <p:cNvSpPr txBox="1"/>
          <p:nvPr/>
        </p:nvSpPr>
        <p:spPr>
          <a:xfrm rot="20620800">
            <a:off x="6943320" y="4621320"/>
            <a:ext cx="115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apyrus"/>
              </a:rPr>
              <a:t>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apyrus"/>
              <a:ea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st das Wort 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der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di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 oder </a:t>
            </a:r>
            <a:r>
              <a:rPr b="0" lang="en-GB" sz="4400" spc="-1" strike="noStrike" u="sng">
                <a:solidFill>
                  <a:srgbClr val="006600"/>
                </a:solidFill>
                <a:uFillTx/>
                <a:latin typeface="Arial"/>
              </a:rPr>
              <a:t>das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76360" y="112536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24360" y="112536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d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59640" y="112536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119700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119700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700280"/>
            <a:ext cx="813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84720" y="1773360"/>
            <a:ext cx="1854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Haust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9640" y="1773360"/>
            <a:ext cx="15130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Unicode MS"/>
              </a:rPr>
              <a:t>Spo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Unicode MS"/>
              <a:ea typeface="Arial Unicode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76720" y="1773360"/>
            <a:ext cx="185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Blackadder ITC"/>
              </a:rPr>
              <a:t>Far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Blackadder ITC"/>
              <a:ea typeface="Blackadder ITC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1280" y="2239920"/>
            <a:ext cx="12985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oor Richard"/>
              </a:rPr>
              <a:t>T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oor Richard"/>
              <a:ea typeface="Poor Richar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84720" y="2492280"/>
            <a:ext cx="17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urlz MT"/>
              </a:rPr>
              <a:t>F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urlz MT"/>
              <a:ea typeface="Curlz M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156360" y="3068640"/>
            <a:ext cx="185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Stencil"/>
              </a:rPr>
              <a:t>Au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Stencil"/>
              <a:ea typeface="Stenci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348000" y="2492280"/>
            <a:ext cx="8380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Garamond"/>
              </a:rPr>
              <a:t>C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Garamond"/>
              <a:ea typeface="Garamond"/>
            </a:endParaRPr>
          </a:p>
        </p:txBody>
      </p:sp>
      <p:sp>
        <p:nvSpPr>
          <p:cNvPr id="81" name=""/>
          <p:cNvSpPr txBox="1"/>
          <p:nvPr/>
        </p:nvSpPr>
        <p:spPr>
          <a:xfrm rot="21468600">
            <a:off x="6372000" y="3789000"/>
            <a:ext cx="936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erpetua"/>
              </a:rPr>
              <a:t>E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erpetua"/>
              <a:ea typeface="Perpetu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285264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Viner Hand ITC"/>
              </a:rPr>
              <a:t>Fi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Viner Hand ITC"/>
              <a:ea typeface="Viner Hand IT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40360" y="4365720"/>
            <a:ext cx="31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Kleidungsstü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27640" y="5013360"/>
            <a:ext cx="115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apyrus"/>
              </a:rPr>
              <a:t>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apyrus"/>
              <a:ea typeface="Papyru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19240" y="3068640"/>
            <a:ext cx="2805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Kristen ITC"/>
              </a:rPr>
              <a:t>Fußballmannschaf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ine Lieblingssa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1280" y="1413000"/>
            <a:ext cx="76680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306864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d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479736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155736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321300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494172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59280" y="1413000"/>
            <a:ext cx="4897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Was ist dein Lieblingstag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916280"/>
            <a:ext cx="720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1916280"/>
            <a:ext cx="720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59280" y="2060640"/>
            <a:ext cx="453708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Mein Lieblingstag ist 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2565360"/>
            <a:ext cx="792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565360"/>
            <a:ext cx="720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16360" y="3141720"/>
            <a:ext cx="4897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Was ist deine LieblingsC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3645000"/>
            <a:ext cx="93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3645000"/>
            <a:ext cx="4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16360" y="3789360"/>
            <a:ext cx="439236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Meine LieblingsCD ist .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4292640"/>
            <a:ext cx="93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4292640"/>
            <a:ext cx="4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16360" y="4941720"/>
            <a:ext cx="489744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Was ist dein Lieblingslan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5445000"/>
            <a:ext cx="7207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5445000"/>
            <a:ext cx="7207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916360" y="5516640"/>
            <a:ext cx="453528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Mein Lieblingsland ist 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6021360"/>
            <a:ext cx="7207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6021360"/>
            <a:ext cx="7207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9:39:12Z</dcterms:created>
  <dc:creator>Eleanor Abrahams </dc:creator>
  <dc:description/>
  <dc:language>en-US</dc:language>
  <cp:lastModifiedBy>CSeccombe</cp:lastModifiedBy>
  <dcterms:modified xsi:type="dcterms:W3CDTF">2007-07-11T13:17:11Z</dcterms:modified>
  <cp:revision>5</cp:revision>
  <dc:subject/>
  <dc:title>Dienstag den 21sten März</dc:title>
</cp:coreProperties>
</file>