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6C57-0301-4720-A823-A45FC4491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CDD5-CFB1-4B55-9E8A-73B30991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26C3-ED8F-4F65-9FC5-7814C532B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D05D-F008-4680-BBAD-760BBE586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5C9E-B4E0-472B-8CFF-0E14CC75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1D3C-F239-4E7B-84C7-5814E509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DD2A-29C1-4154-B34A-72461FC1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F1A4-36FD-4F5D-BCDD-876EC544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7E94-1270-48CB-A493-B821FA35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ECF3-B6BF-4C3F-AC52-F4E622BE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14B3-7A96-474A-BF29-298C6910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6221-B8DF-40F7-915A-1FD85BB0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A2C8-C729-438C-8988-0258C5F7D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www.sunderlandschools.org/mfl-sunderland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40000" y="1916280"/>
            <a:ext cx="4032360" cy="3817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58327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ffffff"/>
                </a:solidFill>
                <a:uFillTx/>
                <a:latin typeface="Comic Sans MS"/>
              </a:rPr>
              <a:t>Was machst du in deiner Freize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23560" y="2493720"/>
            <a:ext cx="676116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n today’s lesson you will 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understanding short tex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finding out information about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03640" y="6497640"/>
            <a:ext cx="59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©MFL Sunderland 2007 ELA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 Rounded MT Bold"/>
                <a:hlinkClick r:id="rId2"/>
              </a:rPr>
              <a:t>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58327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ffffff"/>
                </a:solidFill>
                <a:uFillTx/>
                <a:latin typeface="Comic Sans MS"/>
              </a:rPr>
              <a:t>Was machst du in deiner Freize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23560" y="2133360"/>
            <a:ext cx="676116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ulia ist dreizehn Jahre alt, sie liest gern B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ücher und sie sieht nicht gern fern. Sie geht aber sehr gern ins Kino mit Freunden. Sie ist sportlich und intelligent und hat eine gro</a:t>
            </a:r>
            <a:r>
              <a:rPr b="0" lang="el-GR" sz="3200" spc="-1" strike="noStrike">
                <a:solidFill>
                  <a:srgbClr val="ffffff"/>
                </a:solidFill>
                <a:latin typeface="Comic Sans MS"/>
              </a:rPr>
              <a:t>β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 Famil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1916280"/>
            <a:ext cx="7777080" cy="3817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orgia"/>
              </a:rPr>
              <a:t>Find 5 details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Georgia"/>
              </a:rPr>
              <a:t>AUF DEUTSCH</a:t>
            </a:r>
            <a:r>
              <a:rPr b="0" lang="en-GB" sz="2400" spc="-1" strike="noStrike">
                <a:solidFill>
                  <a:srgbClr val="ffffff"/>
                </a:solidFill>
                <a:latin typeface="Georgia"/>
              </a:rPr>
              <a:t> in the following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58327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ffffff"/>
                </a:solidFill>
                <a:uFillTx/>
                <a:latin typeface="Comic Sans MS"/>
              </a:rPr>
              <a:t>Was machst du in deiner Freize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23560" y="2133360"/>
            <a:ext cx="676116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Paul ist __ _____ __ , er spielt ______ und ______. Er spielt gern mit seinem ______ . Er ______ gern B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ücher und er _______ Kara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132000" y="2205000"/>
            <a:ext cx="360360" cy="32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 Narrow"/>
              </a:rPr>
              <a:t>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 Narrow"/>
              <a:ea typeface="Arial Narrow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 rot="17878200">
            <a:off x="2132640" y="2625840"/>
            <a:ext cx="477720" cy="641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356000" y="2708280"/>
            <a:ext cx="831960" cy="43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5867280" y="3068640"/>
          <a:ext cx="649440" cy="54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3068640"/>
                    <a:ext cx="64944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611280" y="1916280"/>
            <a:ext cx="7777080" cy="3817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orgia"/>
              </a:rPr>
              <a:t>Copy out the following text, filling in the gaps as w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4T17:44:25Z</dcterms:created>
  <dc:creator>Eleanor Abrahams </dc:creator>
  <dc:description/>
  <dc:language>en-US</dc:language>
  <cp:lastModifiedBy>CSeccombe</cp:lastModifiedBy>
  <dcterms:modified xsi:type="dcterms:W3CDTF">2007-07-11T13:47:45Z</dcterms:modified>
  <cp:revision>4</cp:revision>
  <dc:subject/>
  <dc:title>Was machst du in deiner Freizeit?</dc:title>
</cp:coreProperties>
</file>