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061D-25A1-461C-8338-619ABF10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9E8B-C417-47FF-9D55-83CEC95F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743F-FFE9-4EA3-873B-B7F9A7AE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D129-7AFB-479F-A35B-FEF2D527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02DF-44F0-4A85-B457-81A0E8D2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ADC9-49FE-4026-ABAA-FA1C6C2B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6DE-833D-4F97-8783-874DFC8C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1A6E-AD14-4324-94A6-17DD5015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D048-5E8B-4287-AD9F-B50D302E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3E6A-04AE-4121-82A4-1D394D66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D547-C195-41BD-831B-A51F07A7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AC21-4B83-4D01-B842-EC7F0A46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9549-AB99-4649-B6E3-ABA20EAF7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032360" cy="3817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5832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Comic Sans MS"/>
              </a:rPr>
              <a:t>Was machst du in deiner Freize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23560" y="2493720"/>
            <a:ext cx="676116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n today’s lesson you will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understanding short 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finding out information about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3640" y="649764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ELA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5832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Comic Sans MS"/>
              </a:rPr>
              <a:t>Was machst du in deiner Freize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23560" y="2133360"/>
            <a:ext cx="676116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ulia ist dreizehn Jahre alt, sie liest gern B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ücher und sie sieht nicht gern fern. Sie geht aber sehr gern ins Kino mit Freunden. Sie ist sportlich und intelligent und hat eine gro</a:t>
            </a:r>
            <a:r>
              <a:rPr b="0" lang="el-GR" sz="3200" spc="-1" strike="noStrike">
                <a:solidFill>
                  <a:srgbClr val="ffffff"/>
                </a:solidFill>
                <a:latin typeface="Comic Sans MS"/>
              </a:rPr>
              <a:t>β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 Famil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1916280"/>
            <a:ext cx="7777080" cy="3817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orgia"/>
              </a:rPr>
              <a:t>Find 5 detail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eorgia"/>
              </a:rPr>
              <a:t>AUF DEUTSCH</a:t>
            </a:r>
            <a:r>
              <a:rPr b="0" lang="en-GB" sz="2400" spc="-1" strike="noStrike">
                <a:solidFill>
                  <a:srgbClr val="ffffff"/>
                </a:solidFill>
                <a:latin typeface="Georgia"/>
              </a:rPr>
              <a:t> in the following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5832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Comic Sans MS"/>
              </a:rPr>
              <a:t>Was machst du in deiner Freize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23560" y="2133360"/>
            <a:ext cx="676116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aul ist __ _____ __ , er spielt ______ und ______. Er spielt gern mit seinem ______ . Er ______ gern B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ücher und er _______ Kar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132000" y="2205000"/>
            <a:ext cx="360360" cy="3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 Narrow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 Narrow"/>
              <a:ea typeface="Arial Narrow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 rot="17878200">
            <a:off x="2132640" y="2625840"/>
            <a:ext cx="477720" cy="641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356000" y="2708280"/>
            <a:ext cx="831960" cy="43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5867280" y="3068640"/>
          <a:ext cx="649440" cy="5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3068640"/>
                    <a:ext cx="64944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611280" y="1916280"/>
            <a:ext cx="7777080" cy="3817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orgia"/>
              </a:rPr>
              <a:t>Copy out the following text, filling in the gaps a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7:44:25Z</dcterms:created>
  <dc:creator>Eleanor Abrahams </dc:creator>
  <dc:description/>
  <dc:language>en-US</dc:language>
  <cp:lastModifiedBy>CSeccombe</cp:lastModifiedBy>
  <dcterms:modified xsi:type="dcterms:W3CDTF">2007-07-11T13:47:45Z</dcterms:modified>
  <cp:revision>4</cp:revision>
  <dc:subject/>
  <dc:title>Was machst du in deiner Freizeit?</dc:title>
</cp:coreProperties>
</file>