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CF8-9B12-4193-90EE-A7F7F37C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F5B-2E97-44BE-9B28-0B28E190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21F-94C3-44F9-8EBD-0866CD6A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1B8-2090-4A25-8E40-FB670FA8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979-3C45-4363-B7E4-A3F3EFC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BAD-51FA-49CE-8173-F8E1E4F4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77B-FCE4-4990-89E8-38838C3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CDD-A6EE-4987-93D1-2F30B0B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51F-BC05-4428-9314-3279932A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B9B-858A-4046-BCEA-A7D7AED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FD-833C-4554-8AC2-4D1860D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722-EAAD-40BF-AB0D-3DBAEDC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FCC4-6220-47A0-9762-659C4CFD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12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6.wmf"/><Relationship Id="rId21" Type="http://schemas.openxmlformats.org/officeDocument/2006/relationships/image" Target="../media/image10.wmf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4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42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04812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rebuchet MS"/>
              </a:rPr>
              <a:t>Today’s Language Focus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olours and the rules for e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0880"/>
            <a:ext cx="813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rebuchet MS"/>
              </a:rPr>
              <a:t>Mittwoch den fünften Ok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7 ELA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76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as hast du in deiner Tasc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628640"/>
            <a:ext cx="82090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Ich habe einen blau__ Kuli, einen schwarz__ Bleistift und einen gelb__ Klebst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Ich habe eine orange Orange, eine rot_ Banane und eine bunt_ Kasset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Ich habe ein wei</a:t>
            </a:r>
            <a:r>
              <a:rPr b="0" lang="el-GR" sz="2800" spc="-1" strike="noStrike">
                <a:solidFill>
                  <a:srgbClr val="bbe0e3"/>
                </a:solidFill>
                <a:latin typeface="Trebuchet MS"/>
              </a:rPr>
              <a:t>β</a:t>
            </a: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__ Buch, ein braun__ Heft und ein grau__ U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46240" y="3371760"/>
          <a:ext cx="86040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371760"/>
                    <a:ext cx="8604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564000" y="3144960"/>
            <a:ext cx="4680000" cy="2938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076720" y="260280"/>
            <a:ext cx="3602160" cy="354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11280" y="404640"/>
            <a:ext cx="5040360" cy="415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468360" y="2436840"/>
          <a:ext cx="4535280" cy="382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436840"/>
                    <a:ext cx="453528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2268360" y="98100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042920" y="2908440"/>
            <a:ext cx="727416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Eras Bold ITC"/>
              </a:rPr>
              <a:t>...Und jetzt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Eras Bold ITC"/>
              </a:rPr>
              <a:t>Partnerarbei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000760" y="530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9604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076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076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0840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0840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368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0840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8400" y="53020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368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368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9604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16720" y="47005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771640" y="1052640"/>
            <a:ext cx="1024200" cy="1164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1150920" cy="947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403280" y="476280"/>
            <a:ext cx="1224000" cy="1030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476360" y="1773360"/>
            <a:ext cx="1079640" cy="1251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5292720" y="5516640"/>
            <a:ext cx="1079640" cy="866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924360" y="476280"/>
            <a:ext cx="1224000" cy="952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1476360" y="4869000"/>
            <a:ext cx="973080" cy="100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364000" y="2637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1332000" y="342900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6659640" y="333360"/>
            <a:ext cx="963360" cy="1224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29604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9604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076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368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3995640" y="1989000"/>
            <a:ext cx="1127160" cy="824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2771640" y="2708280"/>
            <a:ext cx="938520" cy="923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5219640" y="9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700360" y="4076640"/>
          <a:ext cx="104760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00360" y="4076640"/>
                    <a:ext cx="1047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659640" y="2060640"/>
          <a:ext cx="93672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59640" y="2060640"/>
                    <a:ext cx="93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140360" y="3500280"/>
          <a:ext cx="792000" cy="736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0360" y="3500280"/>
                    <a:ext cx="792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443640" y="3429000"/>
            <a:ext cx="1347840" cy="846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4067280" y="47973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751120" y="5516640"/>
          <a:ext cx="1028880" cy="885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51120" y="5516640"/>
                    <a:ext cx="10288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1676520"/>
            <a:ext cx="12189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571500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3657600"/>
            <a:ext cx="1295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905120"/>
            <a:ext cx="12956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4360" y="2637000"/>
          <a:ext cx="7920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792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55640" y="4508640"/>
          <a:ext cx="865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508640"/>
                    <a:ext cx="865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91440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684360" y="1773360"/>
          <a:ext cx="93636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773360"/>
                    <a:ext cx="936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611280" y="5445000"/>
            <a:ext cx="900000" cy="90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4360" y="5589720"/>
            <a:ext cx="215640" cy="287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4581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Das Haus ist _______, _______, _______ und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6194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63640" y="57340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27748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er Apfel ist </a:t>
            </a: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rot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99cc00"/>
                </a:solidFill>
                <a:latin typeface="Kristen ITC"/>
              </a:rPr>
              <a:t>gr</a:t>
            </a:r>
            <a:r>
              <a:rPr b="0" lang="en-US" sz="2400" spc="-1" strike="noStrike">
                <a:solidFill>
                  <a:srgbClr val="99cc00"/>
                </a:solidFill>
                <a:latin typeface="Kristen ITC"/>
              </a:rPr>
              <a:t>ü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35280" y="36194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ie Katze ist </a:t>
            </a:r>
            <a:r>
              <a:rPr b="0" lang="en-GB" sz="2400" spc="-1" strike="noStrike">
                <a:solidFill>
                  <a:srgbClr val="ff6600"/>
                </a:solidFill>
                <a:latin typeface="Kristen ITC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as Xylophon ist 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64000" y="458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00720" y="458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wei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08720" y="4581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Kristen ITC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6436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Kristen ITC"/>
              </a:rPr>
              <a:t>ge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566100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er Volkswagen ist 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71600"/>
            <a:ext cx="144756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l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371600"/>
            <a:ext cx="1447920" cy="990720"/>
          </a:xfrm>
          <a:prstGeom prst="rect">
            <a:avLst/>
          </a:prstGeom>
          <a:solidFill>
            <a:srgbClr val="f92e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371600"/>
            <a:ext cx="14475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371600"/>
            <a:ext cx="144792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rü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743200"/>
            <a:ext cx="144756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743200"/>
            <a:ext cx="16002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chwa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743200"/>
            <a:ext cx="14475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i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743200"/>
            <a:ext cx="14479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114800"/>
            <a:ext cx="144756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114800"/>
            <a:ext cx="144792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114800"/>
            <a:ext cx="144792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r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4114800"/>
            <a:ext cx="1447920" cy="990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u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74560" y="1844640"/>
            <a:ext cx="6337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In Germ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begin with ‘b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begin with ‘g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rhy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have 2 vow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92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981000"/>
            <a:ext cx="0" cy="49690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907920"/>
            <a:ext cx="0" cy="504216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07640" y="242100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907640" y="436572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908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1125360"/>
            <a:ext cx="1081080" cy="100836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1125360"/>
            <a:ext cx="1081080" cy="1008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1125360"/>
            <a:ext cx="1081080" cy="1008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2852640"/>
            <a:ext cx="1081080" cy="100800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852640"/>
            <a:ext cx="1081080" cy="10080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2852640"/>
            <a:ext cx="1081080" cy="100800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4724280"/>
            <a:ext cx="1081080" cy="1008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724280"/>
            <a:ext cx="1081080" cy="10083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24280"/>
            <a:ext cx="1081080" cy="1008360"/>
          </a:xfrm>
          <a:prstGeom prst="diamond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952800">
            <a:off x="331920" y="2788920"/>
            <a:ext cx="1439640" cy="1440000"/>
          </a:xfrm>
          <a:prstGeom prst="plus">
            <a:avLst>
              <a:gd name="adj" fmla="val 39699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19920" y="3005280"/>
            <a:ext cx="1224000" cy="115236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836640"/>
            <a:ext cx="0" cy="5113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836640"/>
            <a:ext cx="0" cy="5113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7640" y="242100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907640" y="436572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908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2781360"/>
            <a:ext cx="1081080" cy="100800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1268280"/>
            <a:ext cx="1081080" cy="100836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4797360"/>
            <a:ext cx="1081080" cy="10080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2852640"/>
            <a:ext cx="1081080" cy="10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4653000"/>
            <a:ext cx="1081080" cy="100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2560" y="1197000"/>
            <a:ext cx="1081080" cy="1008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2997360"/>
            <a:ext cx="1081080" cy="10080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1125360"/>
            <a:ext cx="1081080" cy="10083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4653000"/>
            <a:ext cx="1081080" cy="1008000"/>
          </a:xfrm>
          <a:prstGeom prst="diamond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052640"/>
            <a:ext cx="0" cy="4897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1052640"/>
            <a:ext cx="0" cy="4897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7640" y="242100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436572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908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4724280"/>
            <a:ext cx="1081080" cy="100836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2852640"/>
            <a:ext cx="1081080" cy="1008000"/>
          </a:xfrm>
          <a:prstGeom prst="diamond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653000"/>
            <a:ext cx="1081080" cy="100800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125360"/>
            <a:ext cx="1081080" cy="1008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2924280"/>
            <a:ext cx="1081080" cy="100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1125360"/>
            <a:ext cx="1081080" cy="1008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653000"/>
            <a:ext cx="1081080" cy="100800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2852640"/>
            <a:ext cx="1081080" cy="10080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1052640"/>
            <a:ext cx="1081080" cy="1008000"/>
          </a:xfrm>
          <a:prstGeom prst="diamond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52800">
            <a:off x="331920" y="2788920"/>
            <a:ext cx="1439640" cy="1440000"/>
          </a:xfrm>
          <a:prstGeom prst="plus">
            <a:avLst>
              <a:gd name="adj" fmla="val 39699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819520"/>
            <a:ext cx="1224000" cy="115236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63640" cy="691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692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Ist das richtig oder fals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26845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2. Die Kassette ist 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6360" y="1700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1. Der Taschenrechner ist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690840" cy="863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76360" y="36194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3. Das Tagebuch ist 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181440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58920" y="4437000"/>
            <a:ext cx="115236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458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4. Die Diskette ist 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11280" y="5516640"/>
            <a:ext cx="839520" cy="839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76360" y="57340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5. Die Schere ist ge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628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4508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</a:t>
            </a: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R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3168720"/>
            <a:ext cx="863640" cy="69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" y="692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Our new grammar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33321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2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i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Kassette ist b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76360" y="1700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1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er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Taschenrechner ist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4726080"/>
            <a:ext cx="690840" cy="86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76360" y="47721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3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as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Tagebuch ist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27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inen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blau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n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Taschenrec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354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in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bunt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K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3006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in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rot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s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Tage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15000" y="380988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08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72388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2467080"/>
          <a:ext cx="6476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67080"/>
                    <a:ext cx="6476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5280" y="5157720"/>
          <a:ext cx="865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157720"/>
                    <a:ext cx="865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447920" y="3670200"/>
            <a:ext cx="91440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684360" y="1052640"/>
          <a:ext cx="93636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052640"/>
                    <a:ext cx="936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332000" y="5157720"/>
            <a:ext cx="691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as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Haus ist </a:t>
            </a: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rot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, wei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ß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, </a:t>
            </a:r>
            <a:r>
              <a:rPr b="0" lang="en-GB" sz="2400" spc="-1" strike="noStrike">
                <a:solidFill>
                  <a:srgbClr val="993300"/>
                </a:solidFill>
                <a:latin typeface="Kristen ITC"/>
              </a:rPr>
              <a:t>braun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ffcc00"/>
                </a:solidFill>
                <a:latin typeface="Kristen ITC"/>
              </a:rPr>
              <a:t>gelb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ein </a:t>
            </a: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_____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, _______, </a:t>
            </a:r>
            <a:r>
              <a:rPr b="0" lang="en-GB" sz="2400" spc="-1" strike="noStrike">
                <a:solidFill>
                  <a:srgbClr val="993300"/>
                </a:solidFill>
                <a:latin typeface="Kristen ITC"/>
              </a:rPr>
              <a:t>_______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ffcc00"/>
                </a:solidFill>
                <a:latin typeface="Kristen ITC"/>
              </a:rPr>
              <a:t>_______ 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427120"/>
            <a:ext cx="6480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Der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Apfel ist 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rot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200" spc="-1" strike="noStrike">
                <a:solidFill>
                  <a:srgbClr val="99cc00"/>
                </a:solidFill>
                <a:latin typeface="Kristen ITC"/>
              </a:rPr>
              <a:t>gr</a:t>
            </a:r>
            <a:r>
              <a:rPr b="0" lang="en-US" sz="2200" spc="-1" strike="noStrike">
                <a:solidFill>
                  <a:srgbClr val="99cc00"/>
                </a:solidFill>
                <a:latin typeface="Kristen ITC"/>
              </a:rPr>
              <a:t>ü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inen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_______ 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und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99cc00"/>
                </a:solidFill>
                <a:latin typeface="Kristen ITC"/>
              </a:rPr>
              <a:t>_______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Apf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1760" y="3867120"/>
            <a:ext cx="640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Die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Katze ist </a:t>
            </a:r>
            <a:r>
              <a:rPr b="0" lang="en-GB" sz="2200" spc="-1" strike="noStrike">
                <a:solidFill>
                  <a:srgbClr val="ff6600"/>
                </a:solidFill>
                <a:latin typeface="Kristen ITC"/>
              </a:rPr>
              <a:t>orange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2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ine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ff6600"/>
                </a:solidFill>
                <a:latin typeface="Kristen ITC"/>
              </a:rPr>
              <a:t>________ 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und </a:t>
            </a:r>
            <a:r>
              <a:rPr b="0" lang="en-GB" sz="2200" spc="-1" strike="noStrike">
                <a:solidFill>
                  <a:srgbClr val="000000"/>
                </a:solidFill>
                <a:latin typeface="Kristen ITC"/>
              </a:rPr>
              <a:t>_________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Kat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1052640"/>
            <a:ext cx="576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Das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Xylophon ist schwa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in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schwarz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s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Xyloph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362320"/>
            <a:ext cx="7086600" cy="1218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657600"/>
            <a:ext cx="7162920" cy="1219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5:57:37Z</dcterms:created>
  <dc:creator>Eleanor Abrahams </dc:creator>
  <dc:description/>
  <dc:language>en-US</dc:language>
  <cp:lastModifiedBy>CSeccombe</cp:lastModifiedBy>
  <dcterms:modified xsi:type="dcterms:W3CDTF">2007-07-11T13:49:47Z</dcterms:modified>
  <cp:revision>35</cp:revision>
  <dc:subject/>
  <dc:title>Welche Farbe ist das?</dc:title>
</cp:coreProperties>
</file>