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532-9DE6-4E3A-B7C0-E0189E76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132-DE45-4363-85C3-A69E85F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CE6-2AD7-4CA5-B4EF-8909F4AA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CD5-8491-4B13-B8AE-0D7253E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0D6-01AD-4D00-BF23-C2C0B87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717-B203-4F26-9824-0FFA149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0B6-8CC9-471F-AC8E-CE2D2F4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36C-ECBC-4236-874C-C83ED300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D7B-D690-4385-885F-FB2C6B5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396-080E-4ABF-81FA-CBDE538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FA1-87CF-4BE7-B353-71C5E28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1CB-829F-426C-B934-5A68056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BAA-1C56-4EE9-8D97-D386B2AA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12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6.wmf"/><Relationship Id="rId21" Type="http://schemas.openxmlformats.org/officeDocument/2006/relationships/image" Target="../media/image10.wmf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4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42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04812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rebuchet MS"/>
              </a:rPr>
              <a:t>Today’s Language Focus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olours and the rules for e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0880"/>
            <a:ext cx="813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rebuchet MS"/>
              </a:rPr>
              <a:t>Mittwoch den fünften Ok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ELA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76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as hast du in deiner Tasc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628640"/>
            <a:ext cx="8209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en blau__ Kuli, einen schwarz__ Bleistift und einen gelb__ Klebsti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e orange Orange, eine rot_ Banane und eine bunt_ Kasset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Ich habe ein wei</a:t>
            </a:r>
            <a:r>
              <a:rPr b="0" lang="el-GR" sz="2800" spc="-1" strike="noStrike">
                <a:solidFill>
                  <a:srgbClr val="bbe0e3"/>
                </a:solidFill>
                <a:latin typeface="Trebuchet MS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Trebuchet MS"/>
              </a:rPr>
              <a:t>__ Buch, ein braun__ Heft und ein grau__ U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46240" y="3371760"/>
          <a:ext cx="86040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371760"/>
                    <a:ext cx="8604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564000" y="3144960"/>
            <a:ext cx="4680000" cy="2938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76720" y="260280"/>
            <a:ext cx="3602160" cy="354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5040360" cy="415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468360" y="2436840"/>
          <a:ext cx="4535280" cy="382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436840"/>
                    <a:ext cx="453528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268360" y="98100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042920" y="2908440"/>
            <a:ext cx="727416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Eras Bold ITC"/>
              </a:rPr>
              <a:t>...Und jetzt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Eras Bold ITC"/>
              </a:rPr>
              <a:t>Partnerarbe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000760" y="530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9604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076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076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08400" y="242100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0840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368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08400" y="386064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8400" y="53020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3680" y="458136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368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96040" y="26028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16720" y="47005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771640" y="1052640"/>
            <a:ext cx="1024200" cy="1164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1150920" cy="947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24000" cy="1030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1079640" cy="1251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292720" y="5516640"/>
            <a:ext cx="1079640" cy="866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924360" y="476280"/>
            <a:ext cx="1224000" cy="952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1476360" y="4869000"/>
            <a:ext cx="973080" cy="100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364000" y="2637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1332000" y="342900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6659640" y="333360"/>
            <a:ext cx="963360" cy="1224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29604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96040" y="314172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0760" y="981000"/>
            <a:ext cx="1731960" cy="1440000"/>
          </a:xfrm>
          <a:prstGeom prst="hexagon">
            <a:avLst>
              <a:gd name="adj" fmla="val 30069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3680" y="1700280"/>
            <a:ext cx="1731960" cy="1439640"/>
          </a:xfrm>
          <a:prstGeom prst="hexagon">
            <a:avLst>
              <a:gd name="adj" fmla="val 30076"/>
              <a:gd name="vf" fmla="val 11547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3995640" y="1989000"/>
            <a:ext cx="1127160" cy="824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2771640" y="2708280"/>
            <a:ext cx="938520" cy="923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5219640" y="9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4072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33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2637000"/>
            <a:ext cx="1193760" cy="1006200"/>
          </a:xfrm>
          <a:prstGeom prst="hexagon">
            <a:avLst>
              <a:gd name="adj" fmla="val 29660"/>
              <a:gd name="vf" fmla="val 115470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700360" y="4076640"/>
          <a:ext cx="104760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00360" y="4076640"/>
                    <a:ext cx="1047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659640" y="2060640"/>
          <a:ext cx="93672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2060640"/>
                    <a:ext cx="936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140360" y="3500280"/>
          <a:ext cx="792000" cy="736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0360" y="3500280"/>
                    <a:ext cx="792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443640" y="3429000"/>
            <a:ext cx="1347840" cy="846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4067280" y="4797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751120" y="5516640"/>
          <a:ext cx="1028880" cy="885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51120" y="5516640"/>
                    <a:ext cx="10288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1676520"/>
            <a:ext cx="12189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57150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65760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905120"/>
            <a:ext cx="1295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4360" y="2637000"/>
          <a:ext cx="7920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792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55640" y="4508640"/>
          <a:ext cx="865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508640"/>
                    <a:ext cx="865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91440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684360" y="1773360"/>
          <a:ext cx="93636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773360"/>
                    <a:ext cx="936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611280" y="5445000"/>
            <a:ext cx="900000" cy="90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360" y="5589720"/>
            <a:ext cx="215640" cy="287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4581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Das Haus ist _______, _______, _______ und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6194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63640" y="57340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27748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er Apfel ist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99cc00"/>
                </a:solidFill>
                <a:latin typeface="Kristen ITC"/>
              </a:rPr>
              <a:t>gr</a:t>
            </a:r>
            <a:r>
              <a:rPr b="0" lang="en-US" sz="2400" spc="-1" strike="noStrike">
                <a:solidFill>
                  <a:srgbClr val="99cc00"/>
                </a:solidFill>
                <a:latin typeface="Kristen ITC"/>
              </a:rPr>
              <a:t>ü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36194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ie Katze ist </a:t>
            </a:r>
            <a:r>
              <a:rPr b="0" lang="en-GB" sz="2400" spc="-1" strike="noStrike">
                <a:solidFill>
                  <a:srgbClr val="ff6600"/>
                </a:solidFill>
                <a:latin typeface="Kristen ITC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as Xylophon ist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64000" y="458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00720" y="45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wei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08720" y="4581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6436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ge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566100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Der Volkswagen ist 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71600"/>
            <a:ext cx="144756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l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371600"/>
            <a:ext cx="1447920" cy="990720"/>
          </a:xfrm>
          <a:prstGeom prst="rect">
            <a:avLst/>
          </a:prstGeom>
          <a:solidFill>
            <a:srgbClr val="f92e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371600"/>
            <a:ext cx="14475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371600"/>
            <a:ext cx="144792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rü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743200"/>
            <a:ext cx="144756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743200"/>
            <a:ext cx="1600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chwa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743200"/>
            <a:ext cx="14475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i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743200"/>
            <a:ext cx="14479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114800"/>
            <a:ext cx="144756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114800"/>
            <a:ext cx="14479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114800"/>
            <a:ext cx="14479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r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4114800"/>
            <a:ext cx="1447920" cy="990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u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74560" y="1844640"/>
            <a:ext cx="6337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In Germ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begin with ‘b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begin with ‘g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rhy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which colours have 2 vow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981000"/>
            <a:ext cx="0" cy="49690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907920"/>
            <a:ext cx="0" cy="504216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1125360"/>
            <a:ext cx="1081080" cy="100836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1125360"/>
            <a:ext cx="1081080" cy="1008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2852640"/>
            <a:ext cx="1081080" cy="100800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852640"/>
            <a:ext cx="1081080" cy="10080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2852640"/>
            <a:ext cx="1081080" cy="100800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4724280"/>
            <a:ext cx="1081080" cy="1008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724280"/>
            <a:ext cx="1081080" cy="10083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24280"/>
            <a:ext cx="1081080" cy="1008360"/>
          </a:xfrm>
          <a:prstGeom prst="diamond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952800">
            <a:off x="331920" y="2788920"/>
            <a:ext cx="1439640" cy="144000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19920" y="3005280"/>
            <a:ext cx="1224000" cy="115236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836640"/>
            <a:ext cx="0" cy="5113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836640"/>
            <a:ext cx="0" cy="5113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2781360"/>
            <a:ext cx="1081080" cy="100800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1268280"/>
            <a:ext cx="1081080" cy="100836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4797360"/>
            <a:ext cx="1081080" cy="10080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2852640"/>
            <a:ext cx="1081080" cy="10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653000"/>
            <a:ext cx="1081080" cy="100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2560" y="1197000"/>
            <a:ext cx="1081080" cy="1008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2997360"/>
            <a:ext cx="1081080" cy="1008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4653000"/>
            <a:ext cx="1081080" cy="1008000"/>
          </a:xfrm>
          <a:prstGeom prst="diamond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052640"/>
            <a:ext cx="0" cy="4897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1052640"/>
            <a:ext cx="0" cy="4897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7640" y="242100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4365720"/>
            <a:ext cx="525636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908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2852640"/>
            <a:ext cx="1224000" cy="11527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952800">
            <a:off x="179280" y="2636640"/>
            <a:ext cx="1440000" cy="1439640"/>
          </a:xfrm>
          <a:prstGeom prst="plus">
            <a:avLst>
              <a:gd name="adj" fmla="val 39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4724280"/>
            <a:ext cx="1081080" cy="10083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2852640"/>
            <a:ext cx="1081080" cy="1008000"/>
          </a:xfrm>
          <a:prstGeom prst="diamond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653000"/>
            <a:ext cx="1081080" cy="100800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125360"/>
            <a:ext cx="1081080" cy="100836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2924280"/>
            <a:ext cx="1081080" cy="100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125360"/>
            <a:ext cx="1081080" cy="1008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653000"/>
            <a:ext cx="1081080" cy="100800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2852640"/>
            <a:ext cx="1081080" cy="10080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1052640"/>
            <a:ext cx="1081080" cy="1008000"/>
          </a:xfrm>
          <a:prstGeom prst="diamond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52800">
            <a:off x="331920" y="2788920"/>
            <a:ext cx="1439640" cy="1440000"/>
          </a:xfrm>
          <a:prstGeom prst="plus">
            <a:avLst>
              <a:gd name="adj" fmla="val 39699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819520"/>
            <a:ext cx="1224000" cy="1152360"/>
          </a:xfrm>
          <a:prstGeom prst="donut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63640" cy="69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Ist das richtig oder fals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26845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2. Die Kassette ist 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6360" y="1700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1. Der Taschenrechner ist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69084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76360" y="36194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3. Das Tagebuch ist 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81440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58920" y="4437000"/>
            <a:ext cx="115236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458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4. Die Diskette ist bra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839520" cy="839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76360" y="57340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5. Die Schere ist ge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62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450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</a:t>
            </a: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Ri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Berlin Sans FB"/>
              </a:rPr>
              <a:t>X Fal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3168720"/>
            <a:ext cx="863640" cy="691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692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Our new grammar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3332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2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i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Kassette ist b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6360" y="1700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1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er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Taschenrechner ist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4726080"/>
            <a:ext cx="690840" cy="86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76360" y="4772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3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Tagebuch ist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27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e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blau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n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Taschenrec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38354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bunt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K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53006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i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rot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es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Tage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15000" y="380988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08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72388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Trebuchet MS"/>
              </a:rPr>
              <a:t>Welche Farbe ist 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467080"/>
          <a:ext cx="6476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67080"/>
                    <a:ext cx="647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5280" y="5157720"/>
          <a:ext cx="865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157720"/>
                    <a:ext cx="865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447920" y="3670200"/>
            <a:ext cx="91440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684360" y="1052640"/>
          <a:ext cx="93636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052640"/>
                    <a:ext cx="936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332000" y="5157720"/>
            <a:ext cx="691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Haus ist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, wei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ß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, </a:t>
            </a: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braun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gelb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Ich habe ein </a:t>
            </a:r>
            <a:r>
              <a:rPr b="0" lang="en-GB" sz="2400" spc="-1" strike="noStrike">
                <a:solidFill>
                  <a:srgbClr val="ff0000"/>
                </a:solidFill>
                <a:latin typeface="Kristen ITC"/>
              </a:rPr>
              <a:t>_____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, _______, </a:t>
            </a:r>
            <a:r>
              <a:rPr b="0" lang="en-GB" sz="2400" spc="-1" strike="noStrike">
                <a:solidFill>
                  <a:srgbClr val="993300"/>
                </a:solidFill>
                <a:latin typeface="Kristen ITC"/>
              </a:rPr>
              <a:t>_______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400" spc="-1" strike="noStrike">
                <a:solidFill>
                  <a:srgbClr val="ffcc00"/>
                </a:solidFill>
                <a:latin typeface="Kristen ITC"/>
              </a:rPr>
              <a:t>_______ </a:t>
            </a:r>
            <a:r>
              <a:rPr b="0" lang="en-GB" sz="2400" spc="-1" strike="noStrike">
                <a:solidFill>
                  <a:srgbClr val="ffffff"/>
                </a:solidFill>
                <a:latin typeface="Kristen ITC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427120"/>
            <a:ext cx="6480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er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Apfel ist 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rot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200" spc="-1" strike="noStrike">
                <a:solidFill>
                  <a:srgbClr val="99cc00"/>
                </a:solidFill>
                <a:latin typeface="Kristen ITC"/>
              </a:rPr>
              <a:t>gr</a:t>
            </a:r>
            <a:r>
              <a:rPr b="0" lang="en-US" sz="2200" spc="-1" strike="noStrike">
                <a:solidFill>
                  <a:srgbClr val="99cc00"/>
                </a:solidFill>
                <a:latin typeface="Kristen ITC"/>
              </a:rPr>
              <a:t>ü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en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_______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und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99cc00"/>
                </a:solidFill>
                <a:latin typeface="Kristen ITC"/>
              </a:rPr>
              <a:t>_______</a:t>
            </a:r>
            <a:r>
              <a:rPr b="0" lang="en-GB" sz="22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Apf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1760" y="3867120"/>
            <a:ext cx="640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i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Katze ist </a:t>
            </a:r>
            <a:r>
              <a:rPr b="0" lang="en-GB" sz="2200" spc="-1" strike="noStrike">
                <a:solidFill>
                  <a:srgbClr val="ff6600"/>
                </a:solidFill>
                <a:latin typeface="Kristen ITC"/>
              </a:rPr>
              <a:t>orang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und </a:t>
            </a:r>
            <a:r>
              <a:rPr b="0" lang="en-GB" sz="2200" spc="-1" strike="noStrike">
                <a:solidFill>
                  <a:srgbClr val="000000"/>
                </a:solidFill>
                <a:latin typeface="Kristen ITC"/>
              </a:rPr>
              <a:t>schwa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e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GB" sz="2200" spc="-1" strike="noStrike">
                <a:solidFill>
                  <a:srgbClr val="ff6600"/>
                </a:solidFill>
                <a:latin typeface="Kristen ITC"/>
              </a:rPr>
              <a:t>________ 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und </a:t>
            </a:r>
            <a:r>
              <a:rPr b="0" lang="en-GB" sz="2200" spc="-1" strike="noStrike">
                <a:solidFill>
                  <a:srgbClr val="000000"/>
                </a:solidFill>
                <a:latin typeface="Kristen ITC"/>
              </a:rPr>
              <a:t>_________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Kat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1052640"/>
            <a:ext cx="576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Das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Xylophon ist schwar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Ich hab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in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schwarz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Kristen ITC"/>
              </a:rPr>
              <a:t>es</a:t>
            </a:r>
            <a:r>
              <a:rPr b="0" lang="en-GB" sz="2200" spc="-1" strike="noStrike">
                <a:solidFill>
                  <a:srgbClr val="ffffff"/>
                </a:solidFill>
                <a:latin typeface="Kristen ITC"/>
              </a:rPr>
              <a:t> Xyloph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179280" y="6165720"/>
            <a:ext cx="574920" cy="476280"/>
          </a:xfrm>
          <a:custGeom>
            <a:avLst/>
            <a:gdLst>
              <a:gd name="textAreaLeft" fmla="*/ 30600 w 574920"/>
              <a:gd name="textAreaRight" fmla="*/ 544320 w 574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70" h="21600">
                <a:moveTo>
                  <a:pt x="0" y="0"/>
                </a:moveTo>
                <a:lnTo>
                  <a:pt x="26070" y="0"/>
                </a:lnTo>
                <a:lnTo>
                  <a:pt x="26070" y="21600"/>
                </a:lnTo>
                <a:lnTo>
                  <a:pt x="0" y="21600"/>
                </a:lnTo>
                <a:close/>
              </a:path>
              <a:path fill="lightenLess" w="26070" h="21600">
                <a:moveTo>
                  <a:pt x="0" y="0"/>
                </a:moveTo>
                <a:lnTo>
                  <a:pt x="26070" y="0"/>
                </a:lnTo>
                <a:lnTo>
                  <a:pt x="24670" y="1400"/>
                </a:lnTo>
                <a:lnTo>
                  <a:pt x="1400" y="1400"/>
                </a:lnTo>
                <a:close/>
              </a:path>
              <a:path fill="darken" w="26070" h="21600">
                <a:moveTo>
                  <a:pt x="26070" y="0"/>
                </a:moveTo>
                <a:lnTo>
                  <a:pt x="26070" y="21600"/>
                </a:lnTo>
                <a:lnTo>
                  <a:pt x="24670" y="20200"/>
                </a:lnTo>
                <a:lnTo>
                  <a:pt x="24670" y="1400"/>
                </a:lnTo>
                <a:close/>
              </a:path>
              <a:path fill="darkenLess" w="26070" h="21600">
                <a:moveTo>
                  <a:pt x="26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0" y="20200"/>
                </a:lnTo>
                <a:close/>
              </a:path>
              <a:path fill="lighten" w="26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0" h="21600">
                <a:moveTo>
                  <a:pt x="6029" y="10800"/>
                </a:moveTo>
                <a:lnTo>
                  <a:pt x="20042" y="3794"/>
                </a:lnTo>
                <a:lnTo>
                  <a:pt x="2004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362320"/>
            <a:ext cx="7086600" cy="1218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657600"/>
            <a:ext cx="7162920" cy="1219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57:37Z</dcterms:created>
  <dc:creator>Eleanor Abrahams </dc:creator>
  <dc:description/>
  <dc:language>en-US</dc:language>
  <cp:lastModifiedBy>CSeccombe</cp:lastModifiedBy>
  <dcterms:modified xsi:type="dcterms:W3CDTF">2007-07-11T13:49:47Z</dcterms:modified>
  <cp:revision>35</cp:revision>
  <dc:subject/>
  <dc:title>Welche Farbe ist das?</dc:title>
</cp:coreProperties>
</file>