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EA8-9C6E-4666-94AB-F7D68457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113-7A8B-443D-B762-73637573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87A-D26B-4FD1-9DBD-1DB59C90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C67-DB8B-4B80-B79A-919855FB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4FC-C8BE-4CF3-B3F7-47B3AE85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4D7-54D5-456F-B42E-27E9A09C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A3E-2D6A-467B-AC17-6E0AAB94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965-CC98-4E32-9319-3CFB9561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36C-1464-4411-B9DD-B892DFB8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0D6-B11A-46D0-A2B9-AC62E29F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860-392B-46AB-9F5F-2790DE93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824-5696-46AF-8931-E74930B0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BF7B-49E9-47B0-8BB5-6B5242C6D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2.gif"/><Relationship Id="rId7" Type="http://schemas.openxmlformats.org/officeDocument/2006/relationships/image" Target="../media/image8.gif"/><Relationship Id="rId8" Type="http://schemas.openxmlformats.org/officeDocument/2006/relationships/image" Target="../media/image7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gif"/><Relationship Id="rId3" Type="http://schemas.openxmlformats.org/officeDocument/2006/relationships/image" Target="../media/image13.gif"/><Relationship Id="rId4" Type="http://schemas.openxmlformats.org/officeDocument/2006/relationships/image" Target="../media/image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pic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997360"/>
            <a:ext cx="5832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y the end of this half term you will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st the members of your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ay what pets you have or would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scribe yourself, family, pets and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scribe pers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rite a letter about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0" y="162864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schw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59640" y="3141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ust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5157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schrei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5157720"/>
            <a:ext cx="1872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mi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31417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162864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i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03640" y="2204640"/>
            <a:ext cx="64800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350028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076640"/>
            <a:ext cx="865080" cy="10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03640" y="4149720"/>
            <a:ext cx="79200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40000" y="350028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132000" y="1988640"/>
            <a:ext cx="9352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781360"/>
            <a:ext cx="244764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ine 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93080" y="1125360"/>
            <a:ext cx="87444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1413000"/>
            <a:ext cx="187164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schw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874800" cy="698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0000" y="242100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st du Geschwi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357336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, ich habe einen Bruder und eine Schw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26920" y="4724280"/>
            <a:ext cx="12351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1234800" cy="123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1165320" cy="1245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1063800" cy="126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639720" cy="1085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572000" y="1484280"/>
            <a:ext cx="1403280" cy="1643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5580000" y="458136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372360" y="4653000"/>
            <a:ext cx="1218960" cy="1427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1403280" y="3429000"/>
            <a:ext cx="797040" cy="1023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755640" y="4941720"/>
            <a:ext cx="798480" cy="100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1547640" y="4797360"/>
            <a:ext cx="765360" cy="1085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2411280" y="4797360"/>
            <a:ext cx="9493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5360" cy="1085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1063440" cy="126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796000" y="4221000"/>
            <a:ext cx="1222200" cy="1097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1165320" cy="1246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771640" y="4292640"/>
            <a:ext cx="66384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Meine Famil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276640"/>
            <a:ext cx="288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ch habe einen Br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ch habe zwei B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ü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ch habe drei B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ü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ch habe keinen Br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2276640"/>
            <a:ext cx="309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ch habe eine Schw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ch habe zwei Schwes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ch habe drei Schwes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ch habe keine Schw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707760" cy="1257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61272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1:12:58Z</dcterms:created>
  <dc:creator>Eleanor Abrahams </dc:creator>
  <dc:description/>
  <dc:language>en-US</dc:language>
  <cp:lastModifiedBy>CSeccombe</cp:lastModifiedBy>
  <dcterms:modified xsi:type="dcterms:W3CDTF">2007-07-11T13:52:30Z</dcterms:modified>
  <cp:revision>8</cp:revision>
  <dc:subject/>
  <dc:title>Meine Familie</dc:title>
</cp:coreProperties>
</file>