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3E2-4799-4E11-94F4-A660A079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E02-8600-43B4-BE96-5C58BCF9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82D-63ED-4CC1-BB19-01E25793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D15-0805-43DD-BED0-026931D8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D48-8FA9-4E09-BEFC-D815190C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3BAE-F0B9-4BEE-B73A-FD9210E9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E3E-FD09-4CDC-9BE0-9EF58B78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3BE-F092-4CF1-9079-A9F17AB1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595-F0B9-4A8E-9DCF-2FA57F30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1D0-1078-435D-8E54-4CE27262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F94-1EBF-4FB3-878F-C6F3CE3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075-57A8-44BB-9FE0-AAB1E819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0D6A-9F9B-40B6-A77A-06F37B248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2.gif"/><Relationship Id="rId7" Type="http://schemas.openxmlformats.org/officeDocument/2006/relationships/image" Target="../media/image8.gif"/><Relationship Id="rId8" Type="http://schemas.openxmlformats.org/officeDocument/2006/relationships/image" Target="../media/image7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gif"/><Relationship Id="rId3" Type="http://schemas.openxmlformats.org/officeDocument/2006/relationships/image" Target="../media/image13.gif"/><Relationship Id="rId4" Type="http://schemas.openxmlformats.org/officeDocument/2006/relationships/image" Target="../media/image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34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pic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997360"/>
            <a:ext cx="5832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y the end of this half term you will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st the members of your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ay what pets you have or would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scribe yourself, family, pets and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scribe pers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rite a letter about 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0000" y="162864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schw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59640" y="31417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ust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51577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schrei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5157720"/>
            <a:ext cx="18720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mi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31417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ra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162864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i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003640" y="2204640"/>
            <a:ext cx="64800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350028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4076640"/>
            <a:ext cx="865080" cy="10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03640" y="4149720"/>
            <a:ext cx="79200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40000" y="3500280"/>
            <a:ext cx="93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132000" y="1988640"/>
            <a:ext cx="9352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781360"/>
            <a:ext cx="244764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ine 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93080" y="1125360"/>
            <a:ext cx="87444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1413000"/>
            <a:ext cx="187164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schw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874800" cy="698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40000" y="242100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st du Geschwi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3573360"/>
            <a:ext cx="46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, ich habe einen Bruder und eine Schw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26920" y="4724280"/>
            <a:ext cx="12351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1234800" cy="1235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1165320" cy="1245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1063800" cy="126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639720" cy="1085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572000" y="1484280"/>
            <a:ext cx="1403280" cy="1643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859280" y="465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5580000" y="458136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6372360" y="4653000"/>
            <a:ext cx="1218960" cy="1427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1403280" y="3429000"/>
            <a:ext cx="797040" cy="1023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755640" y="4941720"/>
            <a:ext cx="798480" cy="100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1547640" y="4797360"/>
            <a:ext cx="765360" cy="1085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2411280" y="4797360"/>
            <a:ext cx="9493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65360" cy="1085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1063440" cy="126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796000" y="4221000"/>
            <a:ext cx="1222200" cy="1097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1165320" cy="1246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771640" y="4292640"/>
            <a:ext cx="66384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276640"/>
            <a:ext cx="2881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ch habe einen Br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ch habe zwei B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ü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ch habe drei B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ü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ch habe keinen Br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2276640"/>
            <a:ext cx="3097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ch habe eine Schw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ch habe zwei Schwes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ch habe drei Schwes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ch habe keine Schw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707760" cy="1257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61272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1:12:58Z</dcterms:created>
  <dc:creator>Eleanor Abrahams </dc:creator>
  <dc:description/>
  <dc:language>en-US</dc:language>
  <cp:lastModifiedBy>CSeccombe</cp:lastModifiedBy>
  <dcterms:modified xsi:type="dcterms:W3CDTF">2007-07-11T13:52:30Z</dcterms:modified>
  <cp:revision>8</cp:revision>
  <dc:subject/>
  <dc:title>Meine Familie</dc:title>
</cp:coreProperties>
</file>