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19.gif" ContentType="image/gif"/>
  <Override PartName="/ppt/media/image4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E0A4-F053-48C7-8004-A7DAABF1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8694-2C99-44DC-AE20-33D9A50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637C-AA89-45D3-B6CB-34D8C0A2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6301-BA50-4D53-B22C-0590166A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138-318C-48F9-BBE5-BAF15CB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A4C5-06EA-4E6B-A5BC-3EC5203F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A960-E72B-478F-AF0A-466EA6B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B788-7DF8-4352-A0D6-E4AD3079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1A75-CE34-4255-9C1D-765CD02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EDC-E753-49A6-A4B0-A42BFE4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276-7EE6-473C-8885-2B9C0A8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56CA-50CD-4BDD-8199-E5ECB37E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DB05-A824-41E8-990F-050433B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D7D-B732-498E-BC2E-AEA69ED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87D4-5218-445B-A145-91B01F8E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CF14-B950-4676-BC9C-7B9B5843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2890-012E-4874-9ECB-1426F968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1F86-1746-4745-8865-EFCB32B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F5D0-6A83-4FE9-A050-2B016274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66D4-BC70-429A-8D43-6331805B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74C7-AE01-4A70-8114-B40CF81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0D14-0D1A-4E15-B2AA-F53D288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8EF9-23F5-4CCF-BAA0-2650C12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511B-0E03-4968-8B8E-768AF41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D11C-CC5C-4EF4-A5A5-E8E9CF7AC4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0747-AAF1-4D28-B48B-7AB326378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00200" y="762120"/>
            <a:ext cx="579132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läne mac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4382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Garamond"/>
              </a:rPr>
              <a:t>Modal Verb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7339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By the end of this lesson you will have a better understanding and use of modal ver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 Sagt Man Das!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might ask your friend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willst du mach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magst du ess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darfst du nicht trink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kannst du nicht spiel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 So Sagt Man Das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might rep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will einen Film se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mag Pizza ess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darf Schokolade nicht ess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kann Tennis nicht spiel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0880" y="3657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lking about when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th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 rot="20915400">
            <a:off x="1828440" y="1066320"/>
            <a:ext cx="6324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iscuss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3434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lking about when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29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lking about when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nt 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7913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ODAL VERB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2362320"/>
            <a:ext cx="8153280" cy="38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ohin können wir gehen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s sollen wir machen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76212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 u="sng">
                <a:solidFill>
                  <a:srgbClr val="ffffff"/>
                </a:solidFill>
                <a:uFillTx/>
                <a:latin typeface="Garamond"/>
              </a:rPr>
              <a:t>Plän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470720" y="533520"/>
            <a:ext cx="102240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33520" y="533520"/>
            <a:ext cx="1600200" cy="92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239920" cy="1986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141120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1990440" cy="254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832040" cy="157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3048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ollen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wir bei McDonalds ess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133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illst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du Fußball spie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1240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ill</a:t>
            </a: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 nach Deutschland fahr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1911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ill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er ein neues Hemd kauf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4038480"/>
            <a:ext cx="1905120" cy="261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812960" cy="1685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820880" cy="1765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rammatik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woll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n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 wa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 want to 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 The forms of the verb - and of other modal verbs - are different from those of regular verb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in Eis ess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ill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usik hö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/Si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nzen ge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ennis spiel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s Kino geh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eine Disco geh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Click To Download"/>
          <p:cNvPicPr/>
          <p:nvPr/>
        </p:nvPicPr>
        <p:blipFill>
          <a:blip r:embed="rId1"/>
          <a:stretch/>
        </p:blipFill>
        <p:spPr>
          <a:xfrm>
            <a:off x="7162920" y="1143000"/>
            <a:ext cx="1143000" cy="96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295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522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ffffff"/>
                </a:solidFill>
                <a:uFillTx/>
                <a:latin typeface="Garamond"/>
              </a:rPr>
              <a:t>woll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295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chwimmen ge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657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514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ns Kino ge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514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648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486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Garamond"/>
              </a:rPr>
              <a:t>(th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36576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it dem Zug fa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ine Cola t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54864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die Cha-Cha-Slide-CD kauf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91520" y="3124080"/>
            <a:ext cx="1509480" cy="1281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2920" y="2209680"/>
            <a:ext cx="1218960" cy="12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848720" y="5996160"/>
            <a:ext cx="1066680" cy="718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858000" y="4267080"/>
            <a:ext cx="887400" cy="1200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295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51460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ill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57200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48640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38640" cy="195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24080" y="9144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ollen wir ins Konzert ge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590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illst du nach Hause ge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010280" y="2133720"/>
            <a:ext cx="1413000" cy="179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476280" cy="591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33720" y="4724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ollen sie Basketball nicht spielen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33520" y="499104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Modal Ver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2860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könn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be able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an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ann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an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ön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14300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2193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The other modal verb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905120"/>
            <a:ext cx="22860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üss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hav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us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ü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üs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ü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1905120"/>
            <a:ext cx="22860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ög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ag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ö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ö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ö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1905120"/>
            <a:ext cx="21337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dürf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be allow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a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arf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a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ür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ür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ür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15:48:08Z</dcterms:created>
  <dc:creator>03McGuirek</dc:creator>
  <dc:description/>
  <dc:language>en-US</dc:language>
  <cp:lastModifiedBy>CSeccombe</cp:lastModifiedBy>
  <dcterms:modified xsi:type="dcterms:W3CDTF">2006-03-13T20:29:22Z</dcterms:modified>
  <cp:revision>41</cp:revision>
  <dc:subject/>
  <dc:title>Slide 1</dc:title>
</cp:coreProperties>
</file>