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19.gif" ContentType="image/gif"/>
  <Override PartName="/ppt/media/image4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54F2-79D6-469A-A52B-A3299548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E9E4-17F3-4F1E-B892-8D9EDA6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D87E-7FF5-4ACF-B34D-87D1C84F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2E91-54E8-4FA7-BAF6-0C90799D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2C9F-1440-48E1-8324-84530A60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8C3A-A319-4F31-9ADA-F490957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F706-0434-4E4A-B183-BB61811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BD0-8697-4F46-9A33-DA35D310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B9C8-FF4B-4627-8E0F-7B169911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2906-F1E7-49C5-B659-9DB1BAA4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E16E-877B-4642-BFD9-0E593CE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969D-E6A9-4813-B479-574CDFB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3E1-C833-48D6-9F8C-55F8CA36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D163-FFD8-4C67-BD64-A5CBEB9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4CA4-C28E-4467-808A-54B4659F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4C5-58A2-454E-98F4-A57A3775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6FCC-FDBF-4E22-B7FF-00F1E6A4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BFB0-E4F7-4370-B75F-D5AA870D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CE25-DC73-4BAC-9AD7-C1D1B1A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EFA6-0428-4A44-9B6D-4687409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3D78-973F-4B4D-9B76-22189A37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5EE4-F2D5-4D0C-8633-7355761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C219-5577-4027-94BF-FE6F757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524C-CE55-43DB-8765-33ADDDCA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60D9-68F9-4CCE-BC26-77AFCD0F83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76A-6FC7-4BAC-A904-A0330828D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00200" y="762120"/>
            <a:ext cx="579132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läne mac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4382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Garamond"/>
              </a:rPr>
              <a:t>Modal Verb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7339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By the end of this lesson you will have a better understanding and use of modal ver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 Sagt Man Das!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might ask your friend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willst du mach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magst du ess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darfst du nicht trink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as kannst du nicht spiele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 So Sagt Man Das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might rep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will einen Film se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mag Pizza ess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darf Schokolade nicht ess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ch kann Tennis nicht spiel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0880" y="3657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lking about when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th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 rot="20915400">
            <a:off x="1828440" y="1066320"/>
            <a:ext cx="6324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iscuss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3434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lking about when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29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lking about when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nt 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7913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ODAL VERB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2362320"/>
            <a:ext cx="8153280" cy="38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ohin können wir gehen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s sollen wir machen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76212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 u="sng">
                <a:solidFill>
                  <a:srgbClr val="ffffff"/>
                </a:solidFill>
                <a:uFillTx/>
                <a:latin typeface="Garamond"/>
              </a:rPr>
              <a:t>Plän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470720" y="533520"/>
            <a:ext cx="102240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33520" y="533520"/>
            <a:ext cx="1600200" cy="923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239920" cy="1986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141120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1990440" cy="254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832040" cy="157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3048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ollen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wir bei McDonalds ess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133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illst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du Fußball spie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1240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ill</a:t>
            </a: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 nach Deutschland fahr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1911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Garamond"/>
              </a:rPr>
              <a:t>Will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Garamond"/>
              </a:rPr>
              <a:t>er ein neues Hemd kauf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4038480"/>
            <a:ext cx="1905120" cy="261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812960" cy="1685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820880" cy="1765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rammatik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woll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e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n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 wa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o want to 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 The forms of the verb - and of other modal verbs - are different from those of regular verb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in Eis ess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ill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usik hö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/Si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nzen ge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ennis spiel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s Kino geh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eine Disco geh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Click To Download"/>
          <p:cNvPicPr/>
          <p:nvPr/>
        </p:nvPicPr>
        <p:blipFill>
          <a:blip r:embed="rId1"/>
          <a:stretch/>
        </p:blipFill>
        <p:spPr>
          <a:xfrm>
            <a:off x="7162920" y="1143000"/>
            <a:ext cx="1143000" cy="96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1295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522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ffffff"/>
                </a:solidFill>
                <a:uFillTx/>
                <a:latin typeface="Garamond"/>
              </a:rPr>
              <a:t>woll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295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chwimmen ge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657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514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ins Kino ge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514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648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486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Garamond"/>
              </a:rPr>
              <a:t>(th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36576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it dem Zug fa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ine Cola t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54864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die Cha-Cha-Slide-CD kauf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91520" y="3124080"/>
            <a:ext cx="1509480" cy="1281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2920" y="2209680"/>
            <a:ext cx="1218960" cy="12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848720" y="5996160"/>
            <a:ext cx="1066680" cy="718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858000" y="4267080"/>
            <a:ext cx="887400" cy="1200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295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51460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ill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57200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48640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Garamond"/>
              </a:rPr>
              <a:t>w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38640" cy="195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124080" y="9144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ollen wir ins Konzert ge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590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illst du nach Hause ge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010280" y="2133720"/>
            <a:ext cx="1413000" cy="179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476280" cy="591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33720" y="4724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Wollen sie Basketball nicht spielen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33520" y="499104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Modal Ver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2860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könn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be able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an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ann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an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ön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könn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14300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2193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70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The other modal verb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905120"/>
            <a:ext cx="22860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üss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hav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us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ü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üs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ü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1905120"/>
            <a:ext cx="22860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ög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ag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ö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ö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mö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1905120"/>
            <a:ext cx="213372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dürfe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to be allow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a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arf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r/sie/es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a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i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ür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hr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ür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ie/sie </a:t>
            </a:r>
            <a:r>
              <a:rPr b="0" lang="en-GB" sz="2400" spc="-1" strike="noStrike">
                <a:solidFill>
                  <a:srgbClr val="f5530b"/>
                </a:solidFill>
                <a:latin typeface="Garamond"/>
              </a:rPr>
              <a:t>dür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15:48:08Z</dcterms:created>
  <dc:creator>03McGuirek</dc:creator>
  <dc:description/>
  <dc:language>en-US</dc:language>
  <cp:lastModifiedBy>CSeccombe</cp:lastModifiedBy>
  <dcterms:modified xsi:type="dcterms:W3CDTF">2006-03-13T20:29:22Z</dcterms:modified>
  <cp:revision>41</cp:revision>
  <dc:subject/>
  <dc:title>Slide 1</dc:title>
</cp:coreProperties>
</file>