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0DC-DA77-4199-81F6-CA0BE19E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5C8-2809-41F1-AE27-689F1C54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869-727B-46EA-98BF-9CA1D6B5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30B-91B3-49F3-B3E7-4A42AC66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58C-6B4B-4604-B701-02F3B896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583-AA49-47D0-AB52-08E7BE90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0CF-3996-49D6-9F62-D10F163C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398-82AD-4A04-BCAA-AC06D428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A49-BEF4-4F8A-86E2-9335A2FD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C8A-2C2A-4346-A88D-80F86F2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45A-2E3B-4ED4-A628-D7390D9B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4FD-7EC7-493F-BD52-DD2BAE3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127-2BC7-4832-A491-472405EA4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63528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602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530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2"/>
          <a:stretch/>
        </p:blipFill>
        <p:spPr>
          <a:xfrm>
            <a:off x="277164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20000" y="530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43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12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270036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30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7236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8472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73272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5"/>
          <a:stretch/>
        </p:blipFill>
        <p:spPr>
          <a:xfrm>
            <a:off x="32400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8"/>
          <a:stretch/>
        </p:blipFill>
        <p:spPr>
          <a:xfrm>
            <a:off x="673272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9"/>
          <a:stretch/>
        </p:blipFill>
        <p:spPr>
          <a:xfrm>
            <a:off x="6877080" y="306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0"/>
          <a:stretch/>
        </p:blipFill>
        <p:spPr>
          <a:xfrm>
            <a:off x="5940360" y="1052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1"/>
          <a:stretch/>
        </p:blipFill>
        <p:spPr>
          <a:xfrm>
            <a:off x="5508720" y="530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2"/>
          <a:stretch/>
        </p:blipFill>
        <p:spPr>
          <a:xfrm>
            <a:off x="324000" y="5084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3"/>
          <a:stretch/>
        </p:blipFill>
        <p:spPr>
          <a:xfrm>
            <a:off x="2987640" y="602136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58920" y="1484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3200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932360" y="630864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2764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415280" y="4437000"/>
            <a:ext cx="172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80360" y="321300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51640" y="2349360"/>
            <a:ext cx="16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1640" y="1413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27082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16000" y="41497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5280" y="1557360"/>
            <a:ext cx="230508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IE VI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258920" y="112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ünf Hundezä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87280" y="213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dert Zentiliter Menschenbl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42920" y="378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e grüne Krö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530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ei frische Nacktschne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32360" y="5950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wei Zentiliter Spei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56360" y="5300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dert Gramm Kür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51640" y="4076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 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451640" y="28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wei Mä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236000" y="19890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e weiße Ra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551640" y="10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er schwarze Sp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1052640"/>
            <a:ext cx="8964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ürbis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umpk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ut (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n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p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ichel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röt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us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hsen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-er) (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zard’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t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lfs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zah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-e)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lf’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lang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na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mil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k of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ge (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y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pf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gen (pl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schwan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ger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in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kött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sch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lun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rm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her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r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cktschnecke (f) slu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pel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ir o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g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eis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370836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530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530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780000" y="51577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602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8000" y="530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tretch/>
        </p:blipFill>
        <p:spPr>
          <a:xfrm>
            <a:off x="3780000" y="51577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6021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59640" y="530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2556000" y="51577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3640" y="602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522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7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262728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530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4360" y="31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2"/>
          <a:stretch/>
        </p:blipFill>
        <p:spPr>
          <a:xfrm>
            <a:off x="262728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530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3272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2"/>
          <a:stretch/>
        </p:blipFill>
        <p:spPr>
          <a:xfrm>
            <a:off x="262728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20000" y="5300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5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2"/>
          <a:stretch/>
        </p:blipFill>
        <p:spPr>
          <a:xfrm>
            <a:off x="262728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6000" y="5300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5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1:07:40Z</dcterms:created>
  <dc:creator>CSeccombe</dc:creator>
  <dc:description/>
  <dc:language>en-US</dc:language>
  <cp:lastModifiedBy>CSeccombe</cp:lastModifiedBy>
  <dcterms:modified xsi:type="dcterms:W3CDTF">2007-11-19T14:47:37Z</dcterms:modified>
  <cp:revision>12</cp:revision>
  <dc:subject/>
  <dc:title>Slide 1</dc:title>
</cp:coreProperties>
</file>