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938C-FA78-4783-AE72-4CA2853C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20C7-BC6E-4ABE-A560-C8D92139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41A3-87B1-4F62-885B-33733770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C7B9-E761-4624-AD75-F5E9302E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A9F9-D2D2-4614-AACD-5144E4E0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9D59-5935-4B6A-8134-369BC164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7F22-8ACD-4562-AD75-059EDCA4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EAC9-F145-4CDF-98F5-A9A42CE8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35BB-F4B4-4B54-B91F-61B4B75F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9807-CBAD-441F-AA3A-05E21EF9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FC51-B6C2-48DA-AC53-A5F7A79D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62B9-80FC-4BED-9F6E-42485082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93B9-EF13-446F-B486-4956A4E84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363528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373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7640" y="602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16720" y="5300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1200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40720" y="659772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64360" y="3141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119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119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Ein Zaubertr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12"/>
          <a:stretch/>
        </p:blipFill>
        <p:spPr>
          <a:xfrm>
            <a:off x="2771640" y="5084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rö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ich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020000" y="5300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ür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443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740720" y="659772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12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588000" y="1197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24000" y="537372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cktschne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Ein Zaubertr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Ein Zaubertr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12"/>
          <a:stretch/>
        </p:blipFill>
        <p:spPr>
          <a:xfrm>
            <a:off x="2700360" y="5084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rö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ich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948360" y="5300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ür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37236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740720" y="659772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84720" y="119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732720" y="1197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i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24000" y="537372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cktschne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5"/>
          <a:stretch/>
        </p:blipFill>
        <p:spPr>
          <a:xfrm>
            <a:off x="32400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8"/>
          <a:stretch/>
        </p:blipFill>
        <p:spPr>
          <a:xfrm>
            <a:off x="673272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9"/>
          <a:stretch/>
        </p:blipFill>
        <p:spPr>
          <a:xfrm>
            <a:off x="6877080" y="3068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10"/>
          <a:stretch/>
        </p:blipFill>
        <p:spPr>
          <a:xfrm>
            <a:off x="5940360" y="1052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11"/>
          <a:stretch/>
        </p:blipFill>
        <p:spPr>
          <a:xfrm>
            <a:off x="5508720" y="530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12"/>
          <a:stretch/>
        </p:blipFill>
        <p:spPr>
          <a:xfrm>
            <a:off x="324000" y="508464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13"/>
          <a:stretch/>
        </p:blipFill>
        <p:spPr>
          <a:xfrm>
            <a:off x="2987640" y="602136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740720" y="659772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258920" y="1484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332000" y="566100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932360" y="630864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227640" y="566100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415280" y="4437000"/>
            <a:ext cx="1728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380360" y="3213000"/>
            <a:ext cx="17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451640" y="2349360"/>
            <a:ext cx="16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551640" y="141300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332000" y="270828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116000" y="414972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635280" y="1557360"/>
            <a:ext cx="230508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IE VI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258920" y="1125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ünf Hundezäh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187280" y="2133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ndert Zentiliter Menschenbl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042920" y="3789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ne grüne Krö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332000" y="5300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ei frische Nacktschnec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932360" y="59500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wei Zentiliter Speich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156360" y="5300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ndert Gramm Kür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451640" y="407664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n Fi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451640" y="28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wei Mä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236000" y="198900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ne weiße Ra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551640" y="1052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er schwarze Spi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Ein Zaubertr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7740720" y="659772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79280" y="1052640"/>
            <a:ext cx="896472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ürbis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umpki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ut (n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inne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pid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ichel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röte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us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ou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chsen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-er) (n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zard’s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te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lfs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zah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-e)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lf’s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to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hlange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nak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.....mil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lk of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ge (n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y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.....pfo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ot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gen (pl.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.....schwanz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il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ger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ing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.....kötte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opping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sch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ro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.....lung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rm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or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.....herz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rt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cktschnecke (f) slu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.....pelz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ir of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iege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meise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Ein Zaubertr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2"/>
          <a:stretch/>
        </p:blipFill>
        <p:spPr>
          <a:xfrm>
            <a:off x="370836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6021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5300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8472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740720" y="659772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4360" y="3141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4036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Ein Zaubertr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5300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>
            <a:off x="3780000" y="515772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7640" y="602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88000" y="5300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27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40720" y="659772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3141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4036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Ein Zaubertr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5373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2"/>
          <a:stretch/>
        </p:blipFill>
        <p:spPr>
          <a:xfrm>
            <a:off x="3780000" y="515772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rö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3640" y="6021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59640" y="5300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27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40720" y="659772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64360" y="3141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84720" y="119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88000" y="1197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Ein Zaubertr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5373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2"/>
          <a:stretch/>
        </p:blipFill>
        <p:spPr>
          <a:xfrm>
            <a:off x="2556000" y="515772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rö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537372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cktschne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03640" y="6021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59640" y="5229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27640" y="530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740720" y="659772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64360" y="3141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5636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59640" y="119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Ein Zaubertr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2"/>
          <a:stretch/>
        </p:blipFill>
        <p:spPr>
          <a:xfrm>
            <a:off x="2627280" y="5084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rö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ich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9640" y="5300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5636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740720" y="659772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164360" y="31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12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588000" y="1197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4000" y="537372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cktschne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Ein Zaubertr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2"/>
          <a:stretch/>
        </p:blipFill>
        <p:spPr>
          <a:xfrm>
            <a:off x="2627280" y="5084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rö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ich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48360" y="5300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ür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8800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740720" y="659772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64360" y="3141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27640" y="119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732720" y="119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537372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cktschne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Ein Zaubertr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2"/>
          <a:stretch/>
        </p:blipFill>
        <p:spPr>
          <a:xfrm>
            <a:off x="2627280" y="5084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rö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ich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020000" y="5300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ür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5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740720" y="659772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164360" y="3141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12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88000" y="1197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537372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cktschne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Ein Zaubertr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12"/>
          <a:stretch/>
        </p:blipFill>
        <p:spPr>
          <a:xfrm>
            <a:off x="2627280" y="5084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rö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ich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236000" y="530064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ür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659640" y="530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40720" y="659772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084720" y="119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88000" y="1197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4000" y="537372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cktschne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Ein Zaubertr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21:07:40Z</dcterms:created>
  <dc:creator>CSeccombe</dc:creator>
  <dc:description/>
  <dc:language>en-US</dc:language>
  <cp:lastModifiedBy>CSeccombe</cp:lastModifiedBy>
  <dcterms:modified xsi:type="dcterms:W3CDTF">2007-11-19T14:47:37Z</dcterms:modified>
  <cp:revision>12</cp:revision>
  <dc:subject/>
  <dc:title>Slide 1</dc:title>
</cp:coreProperties>
</file>