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A0A-B946-459D-BE99-2CE65436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855-F0AB-4134-B292-F4142BB5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4BB-1740-4CAE-9E73-8E675F2B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D46-DDAB-4C83-B45D-D0865D2A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0AF-ED06-41B3-B0FC-FDF8D5A2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AAC-D82E-4398-A2A6-05DB9A6B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9BE-6772-4DDA-94C5-9D032E53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D86-E797-42BD-A12B-8153D265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242-4C10-42C1-941F-98C73EF7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BF0-EFD7-4B10-A90B-54AB0CB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8DA-8B6C-43E4-A3A7-69CA1EFD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156-D43F-4F0A-B6E4-24BF7199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2831-9DB1-4F81-A87F-5AAA91160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regoryferdinandsen.com/MUC2001/MUC_Images/Castle%2520of%2520Vaduz.jpg&amp;imgrefurl=http://www.gregoryferdinandsen.com/MUC2001/Etc.htm&amp;h=1253&amp;w=1781&amp;sz=289&amp;hl=en&amp;start=2&amp;um=1&amp;tbnid=WBO6Fw1Bu99XmM:&amp;tbnh=106&amp;tbnw=150&amp;prev=/images%3Fq%3DVaduz%26svnum%3D10%26um%3D1%26hl%3Den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.uk/imgres?imgurl=http://www.photoatlas.com/photo/liechtenstein_schloss_vaduz.jpg&amp;imgrefurl=http://www.photoatlas.com/pics02/pictures_of_liechtenstein_03.html&amp;h=450&amp;w=634&amp;sz=31&amp;hl=en&amp;start=6&amp;um=1&amp;tbnid=ZJseHtwpQ6XmCM:&amp;tbnh=97&amp;tbnw=137&amp;prev=/images%3Fq%3DVaduz%26svnum%3D10%26um%3D1%26hl%3Den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.uk/imgres?imgurl=http://kassiesa.com/uefaclubs/images/FC-Vaduz.png&amp;imgrefurl=http://kassiesa.com/uefaclubs/logos-F.html&amp;h=400&amp;w=350&amp;sz=12&amp;hl=en&amp;start=49&amp;um=1&amp;tbnid=iBfGoBFaYx0_8M:&amp;tbnh=124&amp;tbnw=109&amp;prev=/images%3Fq%3DVaduz%26start%3D36%26ndsp%3D18%26svnum%3D10%26um%3D1%26hl%3Den%26sa%3DN" TargetMode="External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namabambu.net/germanyflag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ravel-images.com/liechtenstein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arn-german.com/freizeit-ausfluege/fotos/berlin/04-02-07-berlin-deutschkurse-125700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.uk/imgres?imgurl=http://www.cnn.com/2000/STYLE/arts/05/29/wall.art/germany.berlin.bonn.jpg&amp;imgrefurl=http://www.cnn.com/2000/STYLE/arts/05/29/wall.art/index.html&amp;h=422&amp;w=355&amp;sz=75&amp;hl=en&amp;start=45&amp;um=1&amp;tbnid=RiXVmpVOuY28fM:&amp;tbnh=126&amp;tbnw=106&amp;prev=/images%3Fq%3DBerlin%26start%3D36%26ndsp%3D18%26svnum%3D10%26um%3D1%26hl%3Den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.uk/imgres?imgurl=http://www.earthinpictures.com/world/germany/berlin/berliner_dom_(berlin_cathedral).jpg&amp;imgrefurl=http://www.earthinpictures.com/world/germany/berlin/berliner_dom_(berlin_cathedral).html&amp;h=480&amp;w=640&amp;sz=107&amp;hl=en&amp;start=80&amp;um=1&amp;tbnid=jKbPEZTXKSH9QM:&amp;tbnh=103&amp;tbnw=137&amp;prev=/images%3Fq%3DBerlin%26start%3D72%26ndsp%3D18%26svnum%3D10%26um%3D1%26hl%3Den%26sa%3D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.uk/imgres?imgurl=http://www.rjgeib.com/biography/europe/germany/berlin1.jpg&amp;imgrefurl=http://www.rjgeib.com/biography/europe/germany/berlin.html&amp;h=364&amp;w=550&amp;sz=37&amp;hl=en&amp;start=107&amp;um=1&amp;tbnid=Jam350qeWeqCOM:&amp;tbnh=88&amp;tbnw=133&amp;prev=/images%3Fq%3DBerlin%26start%3D90%26ndsp%3D18%26svnum%3D10%26um%3D1%26hl%3Den%26sa%3DN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worldexecutive.com/cityguides/pics/vienna/vienna_1.jpg&amp;imgrefurl=http://www.worldexecutive.com/cityguides/vienna/restaurants.html&amp;h=240&amp;w=320&amp;sz=31&amp;hl=en&amp;start=2&amp;um=1&amp;tbnid=1ibJICHe9bPIaM:&amp;tbnh=89&amp;tbnw=118&amp;prev=/images%3Fq%3DVienna%26svnum%3D10%26um%3D1%26hl%3D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.uk/imgres?imgurl=http://www.bluedanubeholidays.com/pictures/vianna_picture_general.jpg&amp;imgrefurl=http://www.bluedanubeholidays.com/c-vienna_city_packages_charming_vienna.htm&amp;h=333&amp;w=450&amp;sz=14&amp;hl=en&amp;start=15&amp;um=1&amp;tbnid=VfrAGIU2_w_s2M:&amp;tbnh=94&amp;tbnw=127&amp;prev=/images%3Fq%3DVienna%26svnum%3D10%26um%3D1%26hl%3De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.uk/imgres?imgurl=http://www.hickerphoto.com/data/media/182/hofburg-palace-vienna-austria_10954.jpg&amp;imgrefurl=http://www.hickerphoto.com/hofburg-palace-vienna-austria-10954-pictures.htm&amp;h=311&amp;w=468&amp;sz=46&amp;hl=en&amp;start=12&amp;um=1&amp;tbnid=vDuKq800tv5OWM:&amp;tbnh=85&amp;tbnw=128&amp;prev=/images%3Fq%3DVienna%26svnum%3D10%26um%3D1%26hl%3Den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.uk/imgres?imgurl=http://www.austrianlegends.com/vienna_main_pic.JPG&amp;imgrefurl=http://www.austrianlegends.com/&amp;h=824&amp;w=565&amp;sz=103&amp;hl=en&amp;start=40&amp;um=1&amp;tbnid=980ccvZxU05NgM:&amp;tbnh=144&amp;tbnw=99&amp;prev=/images%3Fq%3DVienna%26start%3D36%26ndsp%3D18%26svnum%3D10%26um%3D1%26hl%3Den%26sa%3DN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images.google.co.uk/imgres?imgurl=http://www.dgp.toronto.edu/~mac/photos/europe_2000-Vienna/vienna-strauss.jpg&amp;imgrefurl=http://www.dgp.toronto.edu/~mac/photos/europe_2000-Vienna/tn/vienna-strauss.jpg.html&amp;h=1155&amp;w=774&amp;sz=306&amp;hl=en&amp;start=67&amp;um=1&amp;tbnid=dajAJevt-QmkaM:&amp;tbnh=150&amp;tbnw=101&amp;prev=/images%3Fq%3DVienna%26start%3D54%26ndsp%3D18%26svnum%3D10%26um%3D1%26hl%3Den%26sa%3DN" TargetMode="Externa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hetravelzine.com/40-40-2002/bern.jpg&amp;imgrefurl=http://www.thetravelzine.com/40-40-strasbourgbern.htm&amp;h=250&amp;w=229&amp;sz=91&amp;hl=en&amp;start=14&amp;um=1&amp;tbnid=j7vaa7OCl3VyJM:&amp;tbnh=111&amp;tbnw=102&amp;prev=/images%3Fq%3DBern%26svnum%3D10%26um%3D1%26hl%3Den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.uk/imgres?imgurl=http://www.riskontroller.com/Bern.jpg&amp;imgrefurl=http://www.riskontroller.com/location.htm&amp;h=1188&amp;w=1134&amp;sz=507&amp;hl=en&amp;start=12&amp;um=1&amp;tbnid=AHdzXTUes6H2lM:&amp;tbnh=150&amp;tbnw=143&amp;prev=/images%3Fq%3DBern%26svnum%3D10%26um%3D1%26hl%3Den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.uk/imgres?imgurl=http://travelguide.all-about-switzerland.info/berne/bern-nydegg-aare_2104_21.jpg&amp;imgrefurl=http://travelguide.all-about-switzerland.info/cityguide-bern-sightseeing-landmarks-museums.html&amp;h=276&amp;w=477&amp;sz=19&amp;hl=en&amp;start=19&amp;um=1&amp;tbnid=40UociD-XpW2XM:&amp;tbnh=75&amp;tbnw=129&amp;prev=/images%3Fq%3DBern%26start%3D18%26ndsp%3D18%26svnum%3D10%26um%3D1%26hl%3Den%26sa%3DN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co.uk/imgres?imgurl=http://i1.trekearth.com/photos/21663/152_5269_bern.jpg&amp;imgrefurl=http://www.trekearth.com/gallery/Europe/Switzerland/photo298500.htm&amp;h=533&amp;w=800&amp;sz=127&amp;hl=en&amp;start=66&amp;um=1&amp;tbnid=U0U_c_asAuObeM:&amp;tbnh=95&amp;tbnw=143&amp;prev=/images%3Fq%3DBern%26start%3D54%26ndsp%3D18%26svnum%3D10%26um%3D1%26hl%3Den%26sa%3DN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images.google.co.uk/imgres?imgurl=http://www.new-bern.nc.us/images/misc04a.jpg&amp;imgrefurl=http://www.new-bern.nc.us/&amp;h=568&amp;w=636&amp;sz=51&amp;hl=en&amp;start=132&amp;um=1&amp;tbnid=i3zfmnoDKyQGwM:&amp;tbnh=122&amp;tbnw=137&amp;prev=/images%3Fq%3DBern%26start%3D126%26ndsp%3D18%26svnum%3D10%26um%3D1%26hl%3Den%26sa%3DN" TargetMode="External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Landeskun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4120" y="3886200"/>
            <a:ext cx="256680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269532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62720" y="45720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523880" y="838080"/>
            <a:ext cx="1982880" cy="132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84360" y="6453360"/>
            <a:ext cx="648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6642000"/>
            <a:ext cx="39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©MFL Sunderland 2007 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DF</a:t>
            </a: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 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 Liechtens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285264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Vaduz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342900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5013360"/>
            <a:ext cx="1305000" cy="923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1280" y="4797360"/>
            <a:ext cx="1038240" cy="1181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5651640" y="5157720"/>
            <a:ext cx="223812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ühmt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deutsche Pers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udwig van Beeth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hard Wa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hael Schum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dia Schi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ris Be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ffi G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700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22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924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mula 1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3500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407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522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 and gen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r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2624040" cy="3403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4120" y="3124080"/>
            <a:ext cx="304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bert Einste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hmte österreichische Perso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old Schwarzene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man Ma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gang Amadeus Moz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und Johann Stra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tav Kli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2276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 and polit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2852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3500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076640"/>
            <a:ext cx="12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465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ter/ar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52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s ist ein Bild v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2857680" cy="3808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4120" y="26668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ustav Klim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ühmte schweizer Pers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352908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tina Hing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.R.Gi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ter Sau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2421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3068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st/ ”Alien” 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371628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mula 1 driver and boss of the Petronas/Sauber Fomula 1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s ist eine Skulptur v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4294440" cy="4119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62720" y="31240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H.R.Gi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agen auf Englisc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mountain range called that covers most of Switzerland and Austria and parts of Ger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Al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91120" y="3352680"/>
            <a:ext cx="4113000" cy="2741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142884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4 German speaking countries is the only one that is NOT landlock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90960" y="2714760"/>
            <a:ext cx="268452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witzerland best know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3623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3809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e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54100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4382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41148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s/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 spricht man Deuts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 spricht Deutsch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924280"/>
            <a:ext cx="3891240" cy="265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08720" y="314172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utsch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ustria best known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90512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3526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876920"/>
            <a:ext cx="32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und of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1905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58128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lka 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rmany best known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0574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35268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s/scien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54100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s (Audi, Mercedes, Porsche etc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220968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u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36576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uerkra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d man spricht Deutsch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3724200" cy="247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19640" y="2924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Österrei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 auch in 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3238560" cy="3238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48360" y="27082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chwe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 auch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3382920" cy="2265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76720" y="2708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echte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 sind diese 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än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56000" y="1228680"/>
            <a:ext cx="4381200" cy="5629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2276640"/>
            <a:ext cx="172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e sin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entral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as ist die Hauptstadt (=capital)von Deutsch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 Hauptstadt von Deutschland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299736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Berlin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3357720"/>
            <a:ext cx="1085760" cy="819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4581360"/>
            <a:ext cx="100944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35280" y="46530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84720" y="4797360"/>
            <a:ext cx="1266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d was ist die Hauptstadt v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 Hauptstadt v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sterreich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33577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Wien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5084640"/>
            <a:ext cx="1124280" cy="847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5084640"/>
            <a:ext cx="1209600" cy="895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5157720"/>
            <a:ext cx="1219320" cy="80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71640" y="2852640"/>
            <a:ext cx="9428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84720" y="2924280"/>
            <a:ext cx="9622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d was ist die Hauptstadt der Schwei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321300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Be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492280"/>
            <a:ext cx="971640" cy="1057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2349360"/>
            <a:ext cx="136188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47640" y="5084640"/>
            <a:ext cx="1229040" cy="714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95640" y="4941720"/>
            <a:ext cx="1362240" cy="905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59640" y="4797360"/>
            <a:ext cx="1305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1:35:24Z</dcterms:created>
  <dc:creator>staff</dc:creator>
  <dc:description/>
  <dc:language>en-US</dc:language>
  <cp:lastModifiedBy>CSeccombe</cp:lastModifiedBy>
  <dcterms:modified xsi:type="dcterms:W3CDTF">2007-12-18T09:45:42Z</dcterms:modified>
  <cp:revision>8</cp:revision>
  <dc:subject/>
  <dc:title>Landeskunde</dc:title>
</cp:coreProperties>
</file>