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9587-50E3-4B36-B54C-B83CED5E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73F-BB30-4274-9910-28B524B1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64B-3124-4D09-BD1B-E22DD67F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B39-F094-48F1-AE6A-976D28E0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6E4-9AD5-4D81-8C0A-B655AB39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F7E-4457-44F4-ADC1-47BA91B5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448-E6A6-4D0A-90D0-96E07E62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D41-FC63-4675-8CCF-AC11EE4C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CBB-5F0F-4E6E-9387-4C0D8783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28E-53F1-46A3-AB78-DBE966D9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FEE-69BC-4BFC-87A5-357764B7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08D-D018-4C5D-B604-16A76425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6B36-5B53-4009-AF56-45D7A047F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wache Verben: weak v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ielen: to pl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ch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 play/am pla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u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play/are playing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Verdana"/>
              </a:rPr>
              <a:t>(informal singula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*spielst du gern Tenni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r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 plays/is pla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e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e plays/is pla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plays/is pla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r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play/are pla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hr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play/are pla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Verdana"/>
              </a:rPr>
              <a:t>(informal plur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e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play/are pla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Verdana"/>
              </a:rPr>
              <a:t>(formal plural &amp; singula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e spiel</a:t>
            </a:r>
            <a:r>
              <a:rPr b="1" lang="en-US" sz="2200" spc="-1" strike="noStrike">
                <a:solidFill>
                  <a:srgbClr val="ff3300"/>
                </a:solidFill>
                <a:latin typeface="Verdana"/>
              </a:rPr>
              <a:t>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play/are pla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64008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8 MC </a:t>
            </a:r>
            <a:r>
              <a:rPr b="0" lang="en-GB" sz="800" spc="-1" strike="noStrike" u="sng">
                <a:solidFill>
                  <a:srgbClr val="ccccff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che die Sätze auf Deuts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am playing football this eve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e is playing tennis in the ga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are playing badminton at the week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 parents are playing hockey this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ja is playing netball in the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you (informal singular) playing Rugby at the week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you (formal) playing table tennis in the youth clu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og is playing in the ga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im Garten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am Wochenende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Korbball heute Abend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       Tischtenni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im Jugendzentrum       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      am Morgen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heute Nachmit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Die Antwo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Ich spiel</a:t>
            </a:r>
            <a:r>
              <a:rPr b="1" lang="de-DE" sz="2800" spc="-1" strike="noStrike">
                <a:solidFill>
                  <a:srgbClr val="ff3300"/>
                </a:solidFill>
                <a:latin typeface="Verdana"/>
              </a:rPr>
              <a:t>e</a:t>
            </a: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 Fußball heute Ab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Sie spiel</a:t>
            </a:r>
            <a:r>
              <a:rPr b="1" lang="de-DE" sz="2800" spc="-1" strike="noStrike">
                <a:solidFill>
                  <a:srgbClr val="ff3300"/>
                </a:solidFill>
                <a:latin typeface="Verdana"/>
              </a:rPr>
              <a:t>t </a:t>
            </a: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Tennis im Gar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Wir spiel</a:t>
            </a:r>
            <a:r>
              <a:rPr b="1" lang="de-DE" sz="2800" spc="-1" strike="noStrike">
                <a:solidFill>
                  <a:srgbClr val="ff3300"/>
                </a:solidFill>
                <a:latin typeface="Verdana"/>
              </a:rPr>
              <a:t>en</a:t>
            </a: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 Federball am Wochene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Meine Eltern spiel</a:t>
            </a:r>
            <a:r>
              <a:rPr b="1" lang="de-DE" sz="2800" spc="-1" strike="noStrike">
                <a:solidFill>
                  <a:srgbClr val="ff3300"/>
                </a:solidFill>
                <a:latin typeface="Verdana"/>
              </a:rPr>
              <a:t>en</a:t>
            </a: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 Hockey heute Nachmitt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Anja spiel</a:t>
            </a:r>
            <a:r>
              <a:rPr b="1" lang="de-DE" sz="2800" spc="-1" strike="noStrike">
                <a:solidFill>
                  <a:srgbClr val="ff3300"/>
                </a:solidFill>
                <a:latin typeface="Verdana"/>
              </a:rPr>
              <a:t>t</a:t>
            </a: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 Korbball am Mor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Spiel</a:t>
            </a:r>
            <a:r>
              <a:rPr b="1" lang="de-DE" sz="2800" spc="-1" strike="noStrike">
                <a:solidFill>
                  <a:srgbClr val="ff3300"/>
                </a:solidFill>
                <a:latin typeface="Verdana"/>
              </a:rPr>
              <a:t>st</a:t>
            </a: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 du Rugby am Wochen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Spiel</a:t>
            </a:r>
            <a:r>
              <a:rPr b="1" lang="de-DE" sz="2800" spc="-1" strike="noStrike">
                <a:solidFill>
                  <a:srgbClr val="ff3300"/>
                </a:solidFill>
                <a:latin typeface="Verdana"/>
              </a:rPr>
              <a:t>en</a:t>
            </a: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 Sie Tischtennis im Jugendzentr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Der Hund spiel</a:t>
            </a:r>
            <a:r>
              <a:rPr b="1" lang="de-DE" sz="2800" spc="-1" strike="noStrike">
                <a:solidFill>
                  <a:srgbClr val="ff3300"/>
                </a:solidFill>
                <a:latin typeface="Verdana"/>
              </a:rPr>
              <a:t>t</a:t>
            </a:r>
            <a:r>
              <a:rPr b="1" lang="de-DE" sz="2400" spc="-1" strike="noStrike">
                <a:solidFill>
                  <a:srgbClr val="ff3300"/>
                </a:solidFill>
                <a:latin typeface="Verdana"/>
              </a:rPr>
              <a:t> im Gar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Andere Verb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Verdana"/>
              </a:rPr>
              <a:t>wohne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to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Verdana"/>
              </a:rPr>
              <a:t>heisse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to be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Verdana"/>
              </a:rPr>
              <a:t>tanze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to 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Verdana"/>
              </a:rPr>
              <a:t>trinke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to dr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Verdana"/>
              </a:rPr>
              <a:t>gehe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to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Verdana"/>
              </a:rPr>
              <a:t>h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Times New Roman"/>
              </a:rPr>
              <a:t>ör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: to listen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Times New Roman"/>
              </a:rPr>
              <a:t>kauf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: to bu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Times New Roman"/>
              </a:rPr>
              <a:t>mach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: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Times New Roman"/>
              </a:rPr>
              <a:t>treibe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: to do (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che die Sätze auf Deuts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 listen to music in my bed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 go to town with my friends. (TMP rul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 do sport at the week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 buy shoes and clothes in the shopping ce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the mornings I drink tea and orange ju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 do homework in the lou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 live in the town ce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y Dad dances in the dis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ul is buying a black jum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y parents are drinking co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ie Antwo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62064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</a:rPr>
              <a:t>1) Ich h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ör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Musik in meinem Schlafzim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2) Ich geh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mit meinen Freunden in d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   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Stad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3) Ich treib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Sport am Wochenen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4) Ich kauf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Schuhe und Kleidung i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   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inkaufszentr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5) Morgens trink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ich Tee und Orangensaf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6) Wir mach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n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Hausaufgaben i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   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Wohnzim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7) Wir wohn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n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in der Stadtmit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8) Mein Vater tanz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t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in der Disk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9) Paul kauf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t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einen schwarzen Pulli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10) Meine Eltern trink</a:t>
            </a:r>
            <a:r>
              <a:rPr b="1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en</a:t>
            </a:r>
            <a:r>
              <a:rPr b="0" lang="de-DE" sz="2600" spc="-1" strike="noStrike">
                <a:solidFill>
                  <a:srgbClr val="ff3300"/>
                </a:solidFill>
                <a:latin typeface="Verdana"/>
                <a:ea typeface="Times New Roman"/>
              </a:rPr>
              <a:t> Kaffe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0:40:35Z</dcterms:created>
  <dc:creator>USER</dc:creator>
  <dc:description/>
  <dc:language>en-US</dc:language>
  <cp:lastModifiedBy>Clare</cp:lastModifiedBy>
  <dcterms:modified xsi:type="dcterms:W3CDTF">2008-11-03T12:51:28Z</dcterms:modified>
  <cp:revision>7</cp:revision>
  <dc:subject/>
  <dc:title>Schwache Verben: weak verbs</dc:title>
</cp:coreProperties>
</file>