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B29-BE9B-4AB8-871A-3FCBBFBF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0D8-F6DD-4E02-9937-A0DB7D3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C3D-543B-41EC-ACD2-50E2672E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FD-311E-4D46-A370-E0183CC2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D67-4F78-49D4-A4D5-5BF9736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11A-964B-4EA7-ADF4-49CF868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974-7AC5-489F-9DCE-54313793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F25-9C76-4A62-A7C2-943FFAA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D51-64BF-4C62-9D18-3A1ECDC8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8A7-1311-4159-B7B4-CA71E2C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13D-02D6-43C1-A77B-8614BEF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544-1EFD-4AAE-B7C8-469206A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D6A-4D54-4FD5-8DD0-E93D184C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wache Verben: weak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elen: to 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ch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play/am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informal singul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spielst du gern Tenni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h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informal plur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formal plural &amp; singul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64008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he die Sätze auf Deuts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am playing football this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 is playing tennis in the ga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playing badminton at the week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 parents are playing hockey this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ja is playing netball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you (informal singular) playing Rugby at the week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you (formal) playing table tennis in the youth clu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og is playing in the ga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m Garten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m Wochenende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Korbball heute Aben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    Tischtenn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m Jugendzentrum      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   am Morgen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heute Nachmit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Die Ant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Ich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Fußball heute Ab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ie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 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Tennis im 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Wir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Federball am Wochene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Meine Eltern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Hockey heute Nachmit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Anja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Korbball am Mor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s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du Rugby am Wochen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Sie Tischtennis im Jugendzent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Der Hund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im 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Andere Verb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wohn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heiss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be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tanz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trink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dr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geh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ör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liste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kauf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b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mach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treib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do (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he die Sätze auf Deuts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listen to music in my bed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go to town with my friends. (TMP rul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do sport at the week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buy shoes and clothes in the shopping ce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the mornings I drink tea and orange ju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do homework in the lou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live in the town ce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y Dad dances in the di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ul is buying a black jum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y parents are drink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e Antwo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</a:rPr>
              <a:t>1) Ich h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ör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Musik in meinem Schlafzim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2) Ich geh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mit meinen Freunden in d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Stad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3) Ich treib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Sport am Wochenen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4) Ich kauf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Schuhe und Kleidung i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inkaufszentr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5) Morgens trink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ch Tee und Orangensa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6) Wir mach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Hausaufgaben i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Wohnzim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7) Wir wohn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n der Stadtmit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8) Mein Vater tanz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t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n der Disk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9) Paul kauf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t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einen schwarzen Pull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10) Meine Eltern trink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Kaffe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0:40:35Z</dcterms:created>
  <dc:creator>USER</dc:creator>
  <dc:description/>
  <dc:language>en-US</dc:language>
  <cp:lastModifiedBy>Clare</cp:lastModifiedBy>
  <dcterms:modified xsi:type="dcterms:W3CDTF">2008-11-03T12:51:28Z</dcterms:modified>
  <cp:revision>7</cp:revision>
  <dc:subject/>
  <dc:title>Schwache Verben: weak verbs</dc:title>
</cp:coreProperties>
</file>