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9DF-9146-46C6-B699-34289FDC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C33-41F8-4788-9474-E9219FD8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9E0-BF4B-425B-8B6A-E5FFABD4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657-CCD8-4B33-B00E-1D349152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DBB-CBE8-4DD0-83E2-2CBE43A4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549-1F5E-45C3-8D3A-2A5D7CB2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437-1624-489D-9F85-62DDA00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642-C275-4F86-906C-A0B8FF2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E2A-FC32-46D0-8A84-6010883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92A-E626-4E2D-9CB9-232D3BC7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8D7-0FDF-4A87-80BD-ACAFB19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265-DF3E-433F-A60A-AFA3638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FD41-4F1A-4CDF-9936-1871103094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469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enstag, den 23. Mär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ie Lernz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earn about plurals in G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23050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any patter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ural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uden Grammati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wo basic rules apply to approximately 85% of noun plurals in Germ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Masculine and neuter nouns form their plural with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have no ending. If the end syllable of the word contains a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ithe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no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dded in the plural form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Masculine nouns that end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feminine nouns form their plural with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If the end syllable of the word contains a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ithe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the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shortened to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Two additional rules allow plural forms to be predicted with even higher accu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Words ending in an unstressed syllable made up of a vowel or diphthong take the plural for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Nouns that end i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ll not have a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ral for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dvice would you give to yea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5781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plural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ral means more th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um 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in E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aber </a:t>
            </a:r>
            <a:r>
              <a:rPr b="0" lang="en-GB" sz="3200" spc="-1" strike="noStrike">
                <a:solidFill>
                  <a:srgbClr val="ff3399"/>
                </a:solidFill>
                <a:latin typeface="Arial"/>
              </a:rPr>
              <a:t>zwei Ei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lso lernen wir, dass es gibt kein S mit “Plurals” auf deuts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 Hund </a:t>
            </a:r>
            <a:r>
              <a:rPr b="0" lang="en-GB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wei Hunds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wei Hünde </a:t>
            </a:r>
            <a:r>
              <a:rPr b="0" lang="en-GB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67440" y="3524400"/>
            <a:ext cx="3076560" cy="3333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95640" y="2276640"/>
            <a:ext cx="2521080" cy="1728720"/>
          </a:xfrm>
          <a:prstGeom prst="wedgeEllipseCallout">
            <a:avLst>
              <a:gd name="adj1" fmla="val 56106"/>
              <a:gd name="adj2" fmla="val 6772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what do you add to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make it plu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terwö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hl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76920" y="4581360"/>
            <a:ext cx="2467080" cy="246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59640" y="2421000"/>
            <a:ext cx="2484360" cy="1800000"/>
          </a:xfrm>
          <a:prstGeom prst="wedgeEllipseCallout">
            <a:avLst>
              <a:gd name="adj1" fmla="val -11087"/>
              <a:gd name="adj2" fmla="val 700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find out what letters you add to the word to make it plu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15160" y="3943440"/>
            <a:ext cx="322884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ucken wir auf dem Wörterb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984400" cy="2940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463600">
            <a:off x="4066920" y="2997360"/>
            <a:ext cx="21193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e sieht es a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as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äus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use, building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¨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use, building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äus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use,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er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m, movi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m, mov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35720" y="3789360"/>
            <a:ext cx="2708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terwö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hl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76920" y="4581360"/>
            <a:ext cx="2467080" cy="246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59640" y="2421000"/>
            <a:ext cx="2484360" cy="1800000"/>
          </a:xfrm>
          <a:prstGeom prst="wedgeEllipseCallout">
            <a:avLst>
              <a:gd name="adj1" fmla="val -11087"/>
              <a:gd name="adj2" fmla="val 700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look in the dictionary t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8:58:36Z</dcterms:created>
  <dc:creator>User</dc:creator>
  <dc:description/>
  <dc:language>en-US</dc:language>
  <cp:lastModifiedBy>Clare Seccombe</cp:lastModifiedBy>
  <dcterms:modified xsi:type="dcterms:W3CDTF">2010-04-19T13:34:12Z</dcterms:modified>
  <cp:revision>2</cp:revision>
  <dc:subject/>
  <dc:title>Dienstag, den 23. März</dc:title>
</cp:coreProperties>
</file>